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4564063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ADB-943F-467A-A099-5580EEB0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160-D22E-4D24-A2A9-83A9CF45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F0A-CB63-482D-9234-D293A7EC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25B-CAF7-421D-B857-47D43C97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62A-3BC8-4822-A236-EEF704CB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8E6-B2DD-48B5-8EE3-B2F47A5C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676-E396-4372-8311-B7BFC8CA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810-A2A6-4F76-802D-66FA7121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8F0-97CF-48DC-8591-E8D5B000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633-CD76-4803-80F7-F72BCFAA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0C7-720C-4563-A1A4-A18E4776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016-7B52-49A1-A9E7-E548960B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0E73-3745-4968-9C0C-5B3E762A3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2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9.png"/><Relationship Id="rId24" Type="http://schemas.openxmlformats.org/officeDocument/2006/relationships/image" Target="../media/image10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10.png"/><Relationship Id="rId2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3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10.png"/><Relationship Id="rId4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" Target="slide10.xml"/><Relationship Id="rId14" Type="http://schemas.openxmlformats.org/officeDocument/2006/relationships/slide" Target="slide10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1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6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8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8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8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8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8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1.png"/><Relationship Id="rId37" Type="http://schemas.openxmlformats.org/officeDocument/2006/relationships/image" Target="../media/image3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0840" y="2311560"/>
            <a:ext cx="8280360" cy="2307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СТАТИЧЕС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НЕОПРЕДЕЛИМ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227160"/>
            <a:ext cx="828036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С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ТРОИТЕЛЬНАЯ МЕХ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Ч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асть </a:t>
            </a:r>
            <a:r>
              <a:rPr b="1" lang="en-US" sz="5400" spc="-1" strike="noStrike">
                <a:solidFill>
                  <a:srgbClr val="333399"/>
                </a:solidFill>
                <a:latin typeface="New_Zelek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17240" y="176040"/>
            <a:ext cx="40500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371520"/>
            <a:ext cx="2872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6160" y="4657680"/>
            <a:ext cx="878508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Расчёт деформируемых сист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методом перемещ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5873760"/>
            <a:ext cx="719280" cy="719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72120" y="583236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258920" y="716040"/>
            <a:ext cx="6553080" cy="31320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692360" y="1019160"/>
                <a:ext cx="5904000" cy="18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Σ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Σ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Σ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Σ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322200" y="3144960"/>
            <a:ext cx="84978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Система канонических уравнений в целом  – 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условия статической эквивалентност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ой системы МП и заданной системы при одинаковых воздействиях (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исти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мещениях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чётных уз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250920" y="28018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мысл канонических уравнений метода перемещений и их компонен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324000" y="3708360"/>
            <a:ext cx="8497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Произвольное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 уравнение –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отрицание полной реакции</a:t>
            </a:r>
            <a:r>
              <a:rPr b="1" lang="ru-RU" sz="1400" spc="-1" strike="noStrike">
                <a:solidFill>
                  <a:srgbClr val="00009a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i</a:t>
            </a:r>
            <a:r>
              <a:rPr b="1" i="1" lang="en-US" sz="800" spc="-1" strike="noStrike">
                <a:solidFill>
                  <a:srgbClr val="00009a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-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й введённой связ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ОСМ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уммарной реакци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 заданных воздействий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 одновременных смещений все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ведённых связей, равных истинным перемещениям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чётных узлов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322200" y="4284720"/>
            <a:ext cx="8497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Левая часть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равнения –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полная реакция</a:t>
            </a:r>
            <a:r>
              <a:rPr b="1" lang="ru-RU" sz="1400" spc="-1" strike="noStrike">
                <a:solidFill>
                  <a:srgbClr val="00009a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i</a:t>
            </a:r>
            <a:r>
              <a:rPr b="1" i="1" lang="en-US" sz="800" spc="-1" strike="noStrike">
                <a:solidFill>
                  <a:srgbClr val="00009a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-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й введённой связ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СМП (суммар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кция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 заданных воздействий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одновременных смещений всех введё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ей, равных истинным перемещениям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чётных узло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324000" y="4848120"/>
            <a:ext cx="84978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Свободный член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равнения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реакция</a:t>
            </a:r>
            <a:r>
              <a:rPr b="1" lang="ru-RU" sz="1400" spc="-1" strike="noStrike">
                <a:solidFill>
                  <a:srgbClr val="00009a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i</a:t>
            </a:r>
            <a:r>
              <a:rPr b="1" i="1" lang="en-US" sz="800" spc="-1" strike="noStrike">
                <a:solidFill>
                  <a:srgbClr val="00009a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-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й введённой связ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в ОСМП от за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a"/>
                </a:solidFill>
                <a:latin typeface="Arial"/>
              </a:rPr>
              <a:t>   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воздействи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24000" y="5280120"/>
            <a:ext cx="849780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Слагаемо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равнения –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реакция</a:t>
            </a:r>
            <a:r>
              <a:rPr b="1" lang="ru-RU" sz="1400" spc="-1" strike="noStrike">
                <a:solidFill>
                  <a:srgbClr val="00009a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00009a"/>
                </a:solidFill>
                <a:latin typeface="Times New Roman"/>
              </a:rPr>
              <a:t>ik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  i</a:t>
            </a:r>
            <a:r>
              <a:rPr b="1" i="1" lang="en-US" sz="800" spc="-1" strike="noStrike">
                <a:solidFill>
                  <a:srgbClr val="00009a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-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й введённой связ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в ОСМП от сме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a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9a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00009a"/>
                </a:solidFill>
                <a:latin typeface="Arial"/>
              </a:rPr>
              <a:t>-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й связи, равного истинному перемещению</a:t>
            </a:r>
            <a:r>
              <a:rPr b="1" lang="ru-RU" sz="1400" spc="-1" strike="noStrike">
                <a:solidFill>
                  <a:srgbClr val="00009a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Z</a:t>
            </a:r>
            <a:r>
              <a:rPr b="1" i="1" lang="en-US" sz="1400" spc="-1" strike="noStrike" baseline="-25000">
                <a:solidFill>
                  <a:srgbClr val="00009a"/>
                </a:solidFill>
                <a:latin typeface="Times New Roman"/>
              </a:rPr>
              <a:t>k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24000" y="5711760"/>
            <a:ext cx="849780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Коэффициент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известном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равнении –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реакция</a:t>
            </a:r>
            <a:r>
              <a:rPr b="1" lang="ru-RU" sz="1400" spc="-1" strike="noStrike">
                <a:solidFill>
                  <a:srgbClr val="00009a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i</a:t>
            </a:r>
            <a:r>
              <a:rPr b="1" i="1" lang="en-US" sz="800" spc="-1" strike="noStrike">
                <a:solidFill>
                  <a:srgbClr val="00009a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-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й введённой связ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в ОСМП</a:t>
            </a:r>
            <a:r>
              <a:rPr b="1" i="1" lang="ru-RU" sz="1000" spc="-1" strike="noStrike">
                <a:solidFill>
                  <a:srgbClr val="00009a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от</a:t>
            </a:r>
            <a:r>
              <a:rPr b="1" i="1" lang="en-US" sz="1000" spc="-1" strike="noStrike">
                <a:solidFill>
                  <a:srgbClr val="00009a"/>
                </a:solidFill>
                <a:latin typeface="Arial"/>
              </a:rPr>
              <a:t> </a:t>
            </a:r>
            <a:r>
              <a:rPr b="1" i="1" lang="ru-RU" sz="1000" spc="-1" strike="noStrike">
                <a:solidFill>
                  <a:srgbClr val="00009a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единичного смещения</a:t>
            </a:r>
            <a:r>
              <a:rPr b="1" lang="ru-RU" sz="1000" spc="-1" strike="noStrike">
                <a:solidFill>
                  <a:srgbClr val="00009a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00009a"/>
                </a:solidFill>
                <a:latin typeface="Arial"/>
              </a:rPr>
              <a:t>-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й связи</a:t>
            </a:r>
            <a:r>
              <a:rPr b="1" lang="ru-RU" sz="1400" spc="-1" strike="noStrike">
                <a:solidFill>
                  <a:srgbClr val="00009a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9a"/>
                </a:solidFill>
                <a:latin typeface="Times New Roman"/>
              </a:rPr>
              <a:t>Z</a:t>
            </a:r>
            <a:r>
              <a:rPr b="1" i="1" lang="en-US" sz="1400" spc="-1" strike="noStrike" baseline="-25000">
                <a:solidFill>
                  <a:srgbClr val="00009a"/>
                </a:solidFill>
                <a:latin typeface="Times New Roman"/>
              </a:rPr>
              <a:t>k</a:t>
            </a:r>
            <a:r>
              <a:rPr b="1" i="1" lang="en-US" sz="800" spc="-1" strike="noStrike">
                <a:solidFill>
                  <a:srgbClr val="00009a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9a"/>
                </a:solidFill>
                <a:latin typeface="Times New Roman"/>
              </a:rPr>
              <a:t>=</a:t>
            </a:r>
            <a:r>
              <a:rPr b="1" i="1" lang="ru-RU" sz="800" spc="-1" strike="noStrike">
                <a:solidFill>
                  <a:srgbClr val="00009a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9a"/>
                </a:solidFill>
                <a:latin typeface="Times New Roman"/>
              </a:rPr>
              <a:t>1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(</a:t>
            </a:r>
            <a:r>
              <a:rPr b="1" i="1" lang="ru-RU" sz="800" spc="-1" strike="noStrike">
                <a:solidFill>
                  <a:srgbClr val="00009a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единичная реакция</a:t>
            </a:r>
            <a:r>
              <a:rPr b="1" i="1" lang="ru-RU" sz="800" spc="-1" strike="noStrike">
                <a:solidFill>
                  <a:srgbClr val="00009a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a"/>
                </a:solidFill>
                <a:latin typeface="Arial"/>
              </a:rPr>
              <a:t>)</a:t>
            </a:r>
            <a:r>
              <a:rPr b="1" i="1" lang="en-US" sz="1400" spc="-1" strike="noStrike">
                <a:solidFill>
                  <a:srgbClr val="00009a"/>
                </a:solidFill>
                <a:latin typeface="Arial"/>
              </a:rPr>
              <a:t>.</a:t>
            </a:r>
            <a:r>
              <a:rPr b="1" lang="ru-RU" sz="1400" spc="-1" strike="noStrike">
                <a:solidFill>
                  <a:srgbClr val="00009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30080" y="6102360"/>
            <a:ext cx="331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…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об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924360" y="619776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единичные реакции введённых связей в ОС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654200" y="6308640"/>
            <a:ext cx="2387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–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обо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2207880" y="6415200"/>
            <a:ext cx="7308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970440" y="621180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68360" y="6165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665360" y="1065240"/>
            <a:ext cx="5545080" cy="1800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835280" y="1878120"/>
            <a:ext cx="5375160" cy="4460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835280" y="1878120"/>
            <a:ext cx="4824360" cy="4460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6202440" y="1870200"/>
            <a:ext cx="492120" cy="4698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3983040" y="1870200"/>
            <a:ext cx="674640" cy="4698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041720" y="1925640"/>
            <a:ext cx="287280" cy="3967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1" dur="indefinite" restart="never" nodeType="tmRoot">
          <p:childTnLst>
            <p:seq>
              <p:cTn id="4472" dur="indefinite" nodeType="mainSeq">
                <p:childTnLst>
                  <p:par>
                    <p:cTn id="4473" fill="hold">
                      <p:stCondLst>
                        <p:cond delay="0"/>
                      </p:stCondLst>
                      <p:childTnLst>
                        <p:par>
                          <p:cTn id="4474" fill="hold">
                            <p:stCondLst>
                              <p:cond delay="0"/>
                            </p:stCondLst>
                            <p:childTnLst>
                              <p:par>
                                <p:cTn id="44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7" dur="10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3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4" fill="hold">
                      <p:stCondLst>
                        <p:cond delay="indefinite"/>
                      </p:stCondLst>
                      <p:childTnLst>
                        <p:par>
                          <p:cTn id="4485" fill="hold">
                            <p:stCondLst>
                              <p:cond delay="0"/>
                            </p:stCondLst>
                            <p:childTnLst>
                              <p:par>
                                <p:cTn id="4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8" dur="80"/>
                                        <p:tgtEl>
                                          <p:spTgt spid="1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9" dur="80"/>
                                        <p:tgtEl>
                                          <p:spTgt spid="1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0" dur="80"/>
                                        <p:tgtEl>
                                          <p:spTgt spid="1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1" fill="hold">
                            <p:stCondLst>
                              <p:cond delay="2840"/>
                            </p:stCondLst>
                            <p:childTnLst>
                              <p:par>
                                <p:cTn id="4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4" dur="80"/>
                                        <p:tgtEl>
                                          <p:spTgt spid="1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5" dur="80"/>
                                        <p:tgtEl>
                                          <p:spTgt spid="1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6" dur="80"/>
                                        <p:tgtEl>
                                          <p:spTgt spid="1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7" fill="hold">
                            <p:stCondLst>
                              <p:cond delay="5680"/>
                            </p:stCondLst>
                            <p:childTnLst>
                              <p:par>
                                <p:cTn id="4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0" dur="80"/>
                                        <p:tgtEl>
                                          <p:spTgt spid="1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1" dur="80"/>
                                        <p:tgtEl>
                                          <p:spTgt spid="1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2" dur="80"/>
                                        <p:tgtEl>
                                          <p:spTgt spid="1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5" dur="2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6" fill="hold">
                      <p:stCondLst>
                        <p:cond delay="indefinite"/>
                      </p:stCondLst>
                      <p:childTnLst>
                        <p:par>
                          <p:cTn id="4507" fill="hold">
                            <p:stCondLst>
                              <p:cond delay="0"/>
                            </p:stCondLst>
                            <p:childTnLst>
                              <p:par>
                                <p:cTn id="4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0" dur="80"/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1" dur="80"/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2" dur="80"/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2960"/>
                            </p:stCondLst>
                            <p:childTnLst>
                              <p:par>
                                <p:cTn id="4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6" dur="80"/>
                                        <p:tgtEl>
                                          <p:spTgt spid="1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7" dur="80"/>
                                        <p:tgtEl>
                                          <p:spTgt spid="1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8" dur="80"/>
                                        <p:tgtEl>
                                          <p:spTgt spid="1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9" fill="hold">
                            <p:stCondLst>
                              <p:cond delay="5760"/>
                            </p:stCondLst>
                            <p:childTnLst>
                              <p:par>
                                <p:cTn id="45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2" dur="80"/>
                                        <p:tgtEl>
                                          <p:spTgt spid="1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3" dur="80"/>
                                        <p:tgtEl>
                                          <p:spTgt spid="1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4" dur="80"/>
                                        <p:tgtEl>
                                          <p:spTgt spid="1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26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0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5" dur="80"/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6" dur="80"/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7" dur="80"/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8" fill="hold">
                            <p:stCondLst>
                              <p:cond delay="2880"/>
                            </p:stCondLst>
                            <p:childTnLst>
                              <p:par>
                                <p:cTn id="45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1" dur="80"/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2" dur="80"/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3" dur="80"/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4" fill="hold">
                            <p:stCondLst>
                              <p:cond delay="5640"/>
                            </p:stCondLst>
                            <p:childTnLst>
                              <p:par>
                                <p:cTn id="4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7" dur="80"/>
                                        <p:tgtEl>
                                          <p:spTgt spid="1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8" dur="80"/>
                                        <p:tgtEl>
                                          <p:spTgt spid="1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9" dur="80"/>
                                        <p:tgtEl>
                                          <p:spTgt spid="1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1" dur="1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5" dur="20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6" fill="hold">
                      <p:stCondLst>
                        <p:cond delay="indefinite"/>
                      </p:stCondLst>
                      <p:childTnLst>
                        <p:par>
                          <p:cTn id="4557" fill="hold">
                            <p:stCondLst>
                              <p:cond delay="0"/>
                            </p:stCondLst>
                            <p:childTnLst>
                              <p:par>
                                <p:cTn id="4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0" dur="80"/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1" dur="80"/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2" dur="80"/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3" fill="hold">
                            <p:stCondLst>
                              <p:cond delay="2880"/>
                            </p:stCondLst>
                            <p:childTnLst>
                              <p:par>
                                <p:cTn id="45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6" dur="80"/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7" dur="80"/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8" dur="80"/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70" dur="10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4" dur="2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5" fill="hold">
                      <p:stCondLst>
                        <p:cond delay="indefinite"/>
                      </p:stCondLst>
                      <p:childTnLst>
                        <p:par>
                          <p:cTn id="4576" fill="hold">
                            <p:stCondLst>
                              <p:cond delay="0"/>
                            </p:stCondLst>
                            <p:childTnLst>
                              <p:par>
                                <p:cTn id="4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9" dur="80"/>
                                        <p:tgtEl>
                                          <p:spTgt spid="1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0" dur="80"/>
                                        <p:tgtEl>
                                          <p:spTgt spid="1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1" dur="80"/>
                                        <p:tgtEl>
                                          <p:spTgt spid="1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2" fill="hold">
                            <p:stCondLst>
                              <p:cond delay="2920"/>
                            </p:stCondLst>
                            <p:childTnLst>
                              <p:par>
                                <p:cTn id="45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5" dur="80"/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6" dur="80"/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7" dur="80"/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0" dur="20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2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4" fill="hold">
                      <p:stCondLst>
                        <p:cond delay="indefinite"/>
                      </p:stCondLst>
                      <p:childTnLst>
                        <p:par>
                          <p:cTn id="4595" fill="hold">
                            <p:stCondLst>
                              <p:cond delay="0"/>
                            </p:stCondLst>
                            <p:childTnLst>
                              <p:par>
                                <p:cTn id="4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8" dur="80"/>
                                        <p:tgtEl>
                                          <p:spTgt spid="1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9" dur="80"/>
                                        <p:tgtEl>
                                          <p:spTgt spid="1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0" dur="80"/>
                                        <p:tgtEl>
                                          <p:spTgt spid="1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1" fill="hold">
                            <p:stCondLst>
                              <p:cond delay="2880"/>
                            </p:stCondLst>
                            <p:childTnLst>
                              <p:par>
                                <p:cTn id="4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4" dur="80"/>
                                        <p:tgtEl>
                                          <p:spTgt spid="1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5" dur="80"/>
                                        <p:tgtEl>
                                          <p:spTgt spid="1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6" dur="80"/>
                                        <p:tgtEl>
                                          <p:spTgt spid="1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9" dur="2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1" dur="10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3" fill="hold">
                      <p:stCondLst>
                        <p:cond delay="indefinite"/>
                      </p:stCondLst>
                      <p:childTnLst>
                        <p:par>
                          <p:cTn id="4614" fill="hold">
                            <p:stCondLst>
                              <p:cond delay="0"/>
                            </p:stCondLst>
                            <p:childTnLst>
                              <p:par>
                                <p:cTn id="46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7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8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9" dur="1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21" dur="1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5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6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7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1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2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3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6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7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8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2" dur="10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3" dur="10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4" dur="10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7" dur="80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8" dur="80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9" dur="80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865080" y="16048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rot="5400000">
            <a:off x="1474200" y="1282680"/>
            <a:ext cx="71640" cy="25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 flipH="1">
            <a:off x="1383840" y="14508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512720" y="145080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rot="5400000">
            <a:off x="1465200" y="140616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808280" y="19162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552680" y="1755720"/>
            <a:ext cx="253800" cy="171360"/>
          </a:xfrm>
          <a:custGeom>
            <a:avLst/>
            <a:gdLst/>
            <a:ahLst/>
            <a:rect l="l" t="t" r="r" b="b"/>
            <a:pathLst>
              <a:path w="160" h="108">
                <a:moveTo>
                  <a:pt x="0" y="0"/>
                </a:moveTo>
                <a:lnTo>
                  <a:pt x="160" y="10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663560" y="1984320"/>
            <a:ext cx="162000" cy="95400"/>
          </a:xfrm>
          <a:custGeom>
            <a:avLst/>
            <a:gdLst/>
            <a:ahLst/>
            <a:rect l="l" t="t" r="r" b="b"/>
            <a:pathLst>
              <a:path w="102" h="60">
                <a:moveTo>
                  <a:pt x="102" y="0"/>
                </a:moveTo>
                <a:lnTo>
                  <a:pt x="0" y="6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901880" y="1927080"/>
            <a:ext cx="171360" cy="25560"/>
          </a:xfrm>
          <a:custGeom>
            <a:avLst/>
            <a:gdLst/>
            <a:ahLst/>
            <a:rect l="l" t="t" r="r" b="b"/>
            <a:pathLst>
              <a:path w="108" h="16">
                <a:moveTo>
                  <a:pt x="108" y="0"/>
                </a:moveTo>
                <a:lnTo>
                  <a:pt x="0" y="16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160" bIns="-20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501920" y="1800360"/>
            <a:ext cx="36360" cy="3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 flipV="1" rot="1822800">
            <a:off x="1333080" y="1649160"/>
            <a:ext cx="288000" cy="22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801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8014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27240" y="1711440"/>
            <a:ext cx="0" cy="252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1155240" y="1965240"/>
            <a:ext cx="64764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2247840" y="10731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32040" y="1717560"/>
            <a:ext cx="1723680" cy="91152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3" y="57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2548080" y="2624040"/>
            <a:ext cx="21564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548080" y="26337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826920" y="2619360"/>
            <a:ext cx="21600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826920" y="2629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rot="19380000">
            <a:off x="2439720" y="1425600"/>
            <a:ext cx="71280" cy="17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2448000" y="142560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2633760" y="1378080"/>
            <a:ext cx="39600" cy="3538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2486160" y="1415880"/>
            <a:ext cx="147600" cy="6696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1590840" y="2203560"/>
                <a:ext cx="7016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4" name=""/>
          <p:cNvSpPr/>
          <p:nvPr/>
        </p:nvSpPr>
        <p:spPr>
          <a:xfrm>
            <a:off x="1467000" y="167472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1168560" y="1709640"/>
            <a:ext cx="28728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2089080" y="1349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 flipH="1">
            <a:off x="2666880" y="1722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2666880" y="19512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 flipH="1">
            <a:off x="2665440" y="2179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 flipH="1">
            <a:off x="2665440" y="24084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2679480" y="26240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892600" y="1722600"/>
            <a:ext cx="1440" cy="906480"/>
          </a:xfrm>
          <a:custGeom>
            <a:avLst/>
            <a:gdLst/>
            <a:ahLst/>
            <a:rect l="l" t="t" r="r" b="b"/>
            <a:pathLst>
              <a:path w="1" h="571">
                <a:moveTo>
                  <a:pt x="1" y="0"/>
                </a:moveTo>
                <a:lnTo>
                  <a:pt x="0" y="5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835280" y="10731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646360" y="13557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743040" y="2803680"/>
                <a:ext cx="23032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86" name=""/>
          <p:cNvSpPr/>
          <p:nvPr/>
        </p:nvSpPr>
        <p:spPr>
          <a:xfrm>
            <a:off x="3419640" y="160956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 rot="5400000">
            <a:off x="4561920" y="1452600"/>
            <a:ext cx="71640" cy="25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471560" y="162072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4600440" y="162576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 rot="5400000">
            <a:off x="4552560" y="157644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413240" y="1755720"/>
            <a:ext cx="150840" cy="100080"/>
          </a:xfrm>
          <a:custGeom>
            <a:avLst/>
            <a:gdLst/>
            <a:ahLst/>
            <a:rect l="l" t="t" r="r" b="b"/>
            <a:pathLst>
              <a:path w="95" h="63">
                <a:moveTo>
                  <a:pt x="0" y="0"/>
                </a:moveTo>
                <a:lnTo>
                  <a:pt x="95" y="63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4362480" y="1800360"/>
            <a:ext cx="36360" cy="3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flipV="1" rot="1822800">
            <a:off x="4193640" y="1649160"/>
            <a:ext cx="288000" cy="22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801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8014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4087800" y="1711440"/>
            <a:ext cx="1440" cy="182520"/>
          </a:xfrm>
          <a:custGeom>
            <a:avLst/>
            <a:gdLst/>
            <a:ahLst/>
            <a:rect l="l" t="t" r="r" b="b"/>
            <a:pathLst>
              <a:path w="1" h="115">
                <a:moveTo>
                  <a:pt x="0" y="0"/>
                </a:moveTo>
                <a:lnTo>
                  <a:pt x="0" y="115"/>
                </a:ln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4043520" y="1898640"/>
            <a:ext cx="501480" cy="1440"/>
          </a:xfrm>
          <a:custGeom>
            <a:avLst/>
            <a:gdLst/>
            <a:ahLst/>
            <a:rect l="l" t="t" r="r" b="b"/>
            <a:pathLst>
              <a:path w="316" h="1">
                <a:moveTo>
                  <a:pt x="316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3792600" y="1717560"/>
            <a:ext cx="1724040" cy="91152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408640" y="2624040"/>
            <a:ext cx="21600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5408640" y="26337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3687840" y="2619360"/>
            <a:ext cx="21600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687840" y="2629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 rot="19380000">
            <a:off x="5581440" y="1425600"/>
            <a:ext cx="71280" cy="17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589720" y="142560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557600" y="184788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flipH="1">
            <a:off x="4029120" y="1709640"/>
            <a:ext cx="28728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rot="5400000">
            <a:off x="4374720" y="5040360"/>
            <a:ext cx="71640" cy="25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>
            <a:off x="4284360" y="520848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413240" y="520848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 rot="5400000">
            <a:off x="4365360" y="51642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832200" y="5475240"/>
            <a:ext cx="1724040" cy="91116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448240" y="6381720"/>
            <a:ext cx="21600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448240" y="6391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3727440" y="6377040"/>
            <a:ext cx="216000" cy="7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3727440" y="63864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 rot="19380000">
            <a:off x="5339880" y="5182920"/>
            <a:ext cx="71640" cy="179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348160" y="518328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367160" y="543240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989600" y="51944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 flipH="1">
            <a:off x="5567400" y="5479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 flipH="1">
            <a:off x="5567400" y="5708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5565600" y="59371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5565600" y="61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5580000" y="638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5792760" y="5479920"/>
            <a:ext cx="1440" cy="906480"/>
          </a:xfrm>
          <a:custGeom>
            <a:avLst/>
            <a:gdLst/>
            <a:ahLst/>
            <a:rect l="l" t="t" r="r" b="b"/>
            <a:pathLst>
              <a:path w="1" h="571">
                <a:moveTo>
                  <a:pt x="1" y="0"/>
                </a:moveTo>
                <a:lnTo>
                  <a:pt x="0" y="5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754520" y="489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5546880" y="51134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325760" y="1673280"/>
            <a:ext cx="90720" cy="9036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792600" y="1922400"/>
            <a:ext cx="771480" cy="704880"/>
          </a:xfrm>
          <a:custGeom>
            <a:avLst/>
            <a:gdLst/>
            <a:ahLst/>
            <a:rect l="l" t="t" r="r" b="b"/>
            <a:pathLst>
              <a:path w="486" h="444">
                <a:moveTo>
                  <a:pt x="0" y="444"/>
                </a:moveTo>
                <a:cubicBezTo>
                  <a:pt x="6" y="433"/>
                  <a:pt x="19" y="407"/>
                  <a:pt x="39" y="381"/>
                </a:cubicBezTo>
                <a:cubicBezTo>
                  <a:pt x="59" y="355"/>
                  <a:pt x="85" y="321"/>
                  <a:pt x="117" y="288"/>
                </a:cubicBezTo>
                <a:cubicBezTo>
                  <a:pt x="149" y="255"/>
                  <a:pt x="193" y="214"/>
                  <a:pt x="234" y="180"/>
                </a:cubicBezTo>
                <a:cubicBezTo>
                  <a:pt x="275" y="146"/>
                  <a:pt x="321" y="114"/>
                  <a:pt x="363" y="84"/>
                </a:cubicBezTo>
                <a:cubicBezTo>
                  <a:pt x="405" y="54"/>
                  <a:pt x="461" y="17"/>
                  <a:pt x="48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524560" y="1722600"/>
            <a:ext cx="284040" cy="900000"/>
          </a:xfrm>
          <a:custGeom>
            <a:avLst/>
            <a:gdLst/>
            <a:ahLst/>
            <a:rect l="l" t="t" r="r" b="b"/>
            <a:pathLst>
              <a:path w="179" h="567">
                <a:moveTo>
                  <a:pt x="1" y="567"/>
                </a:moveTo>
                <a:cubicBezTo>
                  <a:pt x="2" y="554"/>
                  <a:pt x="0" y="522"/>
                  <a:pt x="9" y="487"/>
                </a:cubicBezTo>
                <a:cubicBezTo>
                  <a:pt x="18" y="452"/>
                  <a:pt x="32" y="406"/>
                  <a:pt x="53" y="359"/>
                </a:cubicBezTo>
                <a:cubicBezTo>
                  <a:pt x="74" y="312"/>
                  <a:pt x="113" y="251"/>
                  <a:pt x="133" y="203"/>
                </a:cubicBezTo>
                <a:cubicBezTo>
                  <a:pt x="153" y="155"/>
                  <a:pt x="165" y="103"/>
                  <a:pt x="172" y="69"/>
                </a:cubicBezTo>
                <a:cubicBezTo>
                  <a:pt x="179" y="35"/>
                  <a:pt x="175" y="14"/>
                  <a:pt x="17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4649760" y="1720800"/>
            <a:ext cx="1162080" cy="158760"/>
          </a:xfrm>
          <a:custGeom>
            <a:avLst/>
            <a:gdLst/>
            <a:ahLst/>
            <a:rect l="l" t="t" r="r" b="b"/>
            <a:pathLst>
              <a:path w="732" h="100">
                <a:moveTo>
                  <a:pt x="0" y="100"/>
                </a:moveTo>
                <a:cubicBezTo>
                  <a:pt x="35" y="93"/>
                  <a:pt x="151" y="69"/>
                  <a:pt x="210" y="58"/>
                </a:cubicBezTo>
                <a:cubicBezTo>
                  <a:pt x="269" y="47"/>
                  <a:pt x="304" y="42"/>
                  <a:pt x="357" y="34"/>
                </a:cubicBezTo>
                <a:cubicBezTo>
                  <a:pt x="410" y="26"/>
                  <a:pt x="482" y="16"/>
                  <a:pt x="531" y="10"/>
                </a:cubicBezTo>
                <a:cubicBezTo>
                  <a:pt x="580" y="4"/>
                  <a:pt x="621" y="2"/>
                  <a:pt x="654" y="1"/>
                </a:cubicBezTo>
                <a:cubicBezTo>
                  <a:pt x="687" y="0"/>
                  <a:pt x="716" y="1"/>
                  <a:pt x="732" y="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4605480" y="1946160"/>
            <a:ext cx="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450040" y="1347840"/>
            <a:ext cx="223560" cy="195120"/>
          </a:xfrm>
          <a:custGeom>
            <a:avLst/>
            <a:gdLst/>
            <a:ahLst/>
            <a:rect l="l" t="t" r="r" b="b"/>
            <a:pathLst>
              <a:path w="141" h="123">
                <a:moveTo>
                  <a:pt x="1" y="123"/>
                </a:moveTo>
                <a:cubicBezTo>
                  <a:pt x="2" y="114"/>
                  <a:pt x="0" y="86"/>
                  <a:pt x="9" y="67"/>
                </a:cubicBezTo>
                <a:cubicBezTo>
                  <a:pt x="18" y="48"/>
                  <a:pt x="35" y="22"/>
                  <a:pt x="57" y="11"/>
                </a:cubicBezTo>
                <a:cubicBezTo>
                  <a:pt x="79" y="0"/>
                  <a:pt x="124" y="5"/>
                  <a:pt x="141" y="3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584360" y="1492200"/>
            <a:ext cx="179280" cy="17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1533600" y="14428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2198520" y="1434960"/>
            <a:ext cx="179640" cy="17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2147760" y="138600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508720" y="10112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373640" y="21477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788000" y="2033640"/>
            <a:ext cx="59688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4762440" y="2043000"/>
            <a:ext cx="67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7734240" y="882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rot="5400000">
            <a:off x="7060680" y="1276200"/>
            <a:ext cx="71280" cy="252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6970320" y="144468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7099200" y="144936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 rot="5400000">
            <a:off x="7050960" y="14000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527880" y="1717560"/>
            <a:ext cx="1724040" cy="91152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8143920" y="2624040"/>
            <a:ext cx="216000" cy="7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8143920" y="26337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6423120" y="2619360"/>
            <a:ext cx="215640" cy="712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6423120" y="26290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8172360" y="1357200"/>
            <a:ext cx="71640" cy="1796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8244000" y="1352520"/>
            <a:ext cx="9360" cy="351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7056360" y="16714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527880" y="1751040"/>
            <a:ext cx="546120" cy="876240"/>
          </a:xfrm>
          <a:custGeom>
            <a:avLst/>
            <a:gdLst/>
            <a:ahLst/>
            <a:rect l="l" t="t" r="r" b="b"/>
            <a:pathLst>
              <a:path w="344" h="552">
                <a:moveTo>
                  <a:pt x="0" y="552"/>
                </a:moveTo>
                <a:cubicBezTo>
                  <a:pt x="57" y="460"/>
                  <a:pt x="272" y="115"/>
                  <a:pt x="3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8126280" y="1717560"/>
            <a:ext cx="130320" cy="924120"/>
          </a:xfrm>
          <a:custGeom>
            <a:avLst/>
            <a:gdLst/>
            <a:ahLst/>
            <a:rect l="l" t="t" r="r" b="b"/>
            <a:pathLst>
              <a:path w="82" h="582">
                <a:moveTo>
                  <a:pt x="82" y="582"/>
                </a:moveTo>
                <a:cubicBezTo>
                  <a:pt x="81" y="572"/>
                  <a:pt x="78" y="543"/>
                  <a:pt x="74" y="522"/>
                </a:cubicBezTo>
                <a:cubicBezTo>
                  <a:pt x="70" y="501"/>
                  <a:pt x="67" y="485"/>
                  <a:pt x="58" y="454"/>
                </a:cubicBezTo>
                <a:cubicBezTo>
                  <a:pt x="49" y="423"/>
                  <a:pt x="28" y="377"/>
                  <a:pt x="18" y="338"/>
                </a:cubicBezTo>
                <a:cubicBezTo>
                  <a:pt x="8" y="299"/>
                  <a:pt x="0" y="260"/>
                  <a:pt x="0" y="222"/>
                </a:cubicBezTo>
                <a:cubicBezTo>
                  <a:pt x="0" y="184"/>
                  <a:pt x="10" y="139"/>
                  <a:pt x="18" y="108"/>
                </a:cubicBezTo>
                <a:cubicBezTo>
                  <a:pt x="26" y="77"/>
                  <a:pt x="42" y="54"/>
                  <a:pt x="51" y="36"/>
                </a:cubicBezTo>
                <a:cubicBezTo>
                  <a:pt x="60" y="18"/>
                  <a:pt x="70" y="8"/>
                  <a:pt x="7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7145280" y="1544760"/>
            <a:ext cx="1109880" cy="168120"/>
          </a:xfrm>
          <a:custGeom>
            <a:avLst/>
            <a:gdLst/>
            <a:ahLst/>
            <a:rect l="l" t="t" r="r" b="b"/>
            <a:pathLst>
              <a:path w="699" h="106">
                <a:moveTo>
                  <a:pt x="0" y="94"/>
                </a:moveTo>
                <a:cubicBezTo>
                  <a:pt x="31" y="85"/>
                  <a:pt x="126" y="52"/>
                  <a:pt x="186" y="37"/>
                </a:cubicBezTo>
                <a:cubicBezTo>
                  <a:pt x="246" y="22"/>
                  <a:pt x="306" y="8"/>
                  <a:pt x="360" y="4"/>
                </a:cubicBezTo>
                <a:cubicBezTo>
                  <a:pt x="414" y="0"/>
                  <a:pt x="471" y="3"/>
                  <a:pt x="513" y="10"/>
                </a:cubicBezTo>
                <a:cubicBezTo>
                  <a:pt x="555" y="17"/>
                  <a:pt x="584" y="30"/>
                  <a:pt x="615" y="46"/>
                </a:cubicBezTo>
                <a:cubicBezTo>
                  <a:pt x="646" y="62"/>
                  <a:pt x="682" y="94"/>
                  <a:pt x="699" y="10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7101000" y="1770120"/>
            <a:ext cx="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8116920" y="1292400"/>
            <a:ext cx="257040" cy="106200"/>
          </a:xfrm>
          <a:custGeom>
            <a:avLst/>
            <a:gdLst/>
            <a:ahLst/>
            <a:rect l="l" t="t" r="r" b="b"/>
            <a:pathLst>
              <a:path w="162" h="67">
                <a:moveTo>
                  <a:pt x="0" y="52"/>
                </a:moveTo>
                <a:cubicBezTo>
                  <a:pt x="4" y="47"/>
                  <a:pt x="14" y="27"/>
                  <a:pt x="24" y="19"/>
                </a:cubicBezTo>
                <a:cubicBezTo>
                  <a:pt x="34" y="11"/>
                  <a:pt x="45" y="6"/>
                  <a:pt x="60" y="4"/>
                </a:cubicBezTo>
                <a:cubicBezTo>
                  <a:pt x="75" y="2"/>
                  <a:pt x="97" y="0"/>
                  <a:pt x="114" y="10"/>
                </a:cubicBezTo>
                <a:cubicBezTo>
                  <a:pt x="131" y="20"/>
                  <a:pt x="152" y="55"/>
                  <a:pt x="162" y="67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8244000" y="12636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6880320" y="19908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7332840" y="2033640"/>
            <a:ext cx="596880" cy="358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7307280" y="2043000"/>
            <a:ext cx="67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7935840" y="1285920"/>
            <a:ext cx="290520" cy="385560"/>
          </a:xfrm>
          <a:custGeom>
            <a:avLst/>
            <a:gdLst/>
            <a:ahLst/>
            <a:rect l="l" t="t" r="r" b="b"/>
            <a:pathLst>
              <a:path w="183" h="243">
                <a:moveTo>
                  <a:pt x="0" y="0"/>
                </a:moveTo>
                <a:lnTo>
                  <a:pt x="183" y="243"/>
                </a:lnTo>
              </a:path>
            </a:pathLst>
          </a:custGeom>
          <a:noFill/>
          <a:ln w="12600">
            <a:solidFill>
              <a:srgbClr val="9900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8242200" y="1179360"/>
            <a:ext cx="1800" cy="182880"/>
          </a:xfrm>
          <a:custGeom>
            <a:avLst/>
            <a:gdLst/>
            <a:ahLst/>
            <a:rect l="l" t="t" r="r" b="b"/>
            <a:pathLst>
              <a:path w="1" h="115">
                <a:moveTo>
                  <a:pt x="0" y="0"/>
                </a:moveTo>
                <a:lnTo>
                  <a:pt x="0" y="115"/>
                </a:lnTo>
              </a:path>
            </a:pathLst>
          </a:custGeom>
          <a:noFill/>
          <a:ln w="648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7961400" y="1208160"/>
            <a:ext cx="279360" cy="110880"/>
          </a:xfrm>
          <a:custGeom>
            <a:avLst/>
            <a:gdLst/>
            <a:ahLst/>
            <a:rect l="l" t="t" r="r" b="b"/>
            <a:pathLst>
              <a:path w="176" h="70">
                <a:moveTo>
                  <a:pt x="0" y="70"/>
                </a:moveTo>
                <a:cubicBezTo>
                  <a:pt x="6" y="65"/>
                  <a:pt x="22" y="51"/>
                  <a:pt x="35" y="42"/>
                </a:cubicBezTo>
                <a:cubicBezTo>
                  <a:pt x="48" y="33"/>
                  <a:pt x="65" y="24"/>
                  <a:pt x="80" y="18"/>
                </a:cubicBezTo>
                <a:cubicBezTo>
                  <a:pt x="95" y="12"/>
                  <a:pt x="112" y="9"/>
                  <a:pt x="128" y="6"/>
                </a:cubicBezTo>
                <a:cubicBezTo>
                  <a:pt x="144" y="3"/>
                  <a:pt x="166" y="1"/>
                  <a:pt x="176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868560" y="6922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диничные состояния основно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833640" y="5514840"/>
            <a:ext cx="546120" cy="876600"/>
          </a:xfrm>
          <a:custGeom>
            <a:avLst/>
            <a:gdLst/>
            <a:ahLst/>
            <a:rect l="l" t="t" r="r" b="b"/>
            <a:pathLst>
              <a:path w="344" h="552">
                <a:moveTo>
                  <a:pt x="0" y="552"/>
                </a:moveTo>
                <a:cubicBezTo>
                  <a:pt x="57" y="460"/>
                  <a:pt x="272" y="115"/>
                  <a:pt x="3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465800" y="5475240"/>
            <a:ext cx="1085760" cy="98640"/>
          </a:xfrm>
          <a:custGeom>
            <a:avLst/>
            <a:gdLst/>
            <a:ahLst/>
            <a:rect l="l" t="t" r="r" b="b"/>
            <a:pathLst>
              <a:path w="684" h="62">
                <a:moveTo>
                  <a:pt x="0" y="9"/>
                </a:moveTo>
                <a:cubicBezTo>
                  <a:pt x="24" y="15"/>
                  <a:pt x="95" y="37"/>
                  <a:pt x="144" y="45"/>
                </a:cubicBezTo>
                <a:cubicBezTo>
                  <a:pt x="193" y="53"/>
                  <a:pt x="253" y="58"/>
                  <a:pt x="297" y="60"/>
                </a:cubicBezTo>
                <a:cubicBezTo>
                  <a:pt x="341" y="62"/>
                  <a:pt x="373" y="61"/>
                  <a:pt x="411" y="57"/>
                </a:cubicBezTo>
                <a:cubicBezTo>
                  <a:pt x="449" y="53"/>
                  <a:pt x="490" y="41"/>
                  <a:pt x="525" y="33"/>
                </a:cubicBezTo>
                <a:cubicBezTo>
                  <a:pt x="560" y="25"/>
                  <a:pt x="598" y="14"/>
                  <a:pt x="624" y="9"/>
                </a:cubicBezTo>
                <a:cubicBezTo>
                  <a:pt x="650" y="4"/>
                  <a:pt x="672" y="2"/>
                  <a:pt x="68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472000" y="5465880"/>
            <a:ext cx="88920" cy="923760"/>
          </a:xfrm>
          <a:custGeom>
            <a:avLst/>
            <a:gdLst/>
            <a:ahLst/>
            <a:rect l="l" t="t" r="r" b="b"/>
            <a:pathLst>
              <a:path w="56" h="582">
                <a:moveTo>
                  <a:pt x="54" y="582"/>
                </a:moveTo>
                <a:cubicBezTo>
                  <a:pt x="53" y="571"/>
                  <a:pt x="53" y="541"/>
                  <a:pt x="46" y="514"/>
                </a:cubicBezTo>
                <a:cubicBezTo>
                  <a:pt x="39" y="487"/>
                  <a:pt x="21" y="449"/>
                  <a:pt x="14" y="422"/>
                </a:cubicBezTo>
                <a:cubicBezTo>
                  <a:pt x="7" y="395"/>
                  <a:pt x="4" y="379"/>
                  <a:pt x="2" y="354"/>
                </a:cubicBezTo>
                <a:cubicBezTo>
                  <a:pt x="0" y="329"/>
                  <a:pt x="0" y="300"/>
                  <a:pt x="2" y="274"/>
                </a:cubicBezTo>
                <a:cubicBezTo>
                  <a:pt x="4" y="248"/>
                  <a:pt x="7" y="224"/>
                  <a:pt x="14" y="198"/>
                </a:cubicBezTo>
                <a:cubicBezTo>
                  <a:pt x="21" y="172"/>
                  <a:pt x="36" y="142"/>
                  <a:pt x="42" y="118"/>
                </a:cubicBezTo>
                <a:cubicBezTo>
                  <a:pt x="48" y="94"/>
                  <a:pt x="51" y="74"/>
                  <a:pt x="53" y="54"/>
                </a:cubicBezTo>
                <a:cubicBezTo>
                  <a:pt x="55" y="34"/>
                  <a:pt x="55" y="11"/>
                  <a:pt x="5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4414680" y="5526000"/>
            <a:ext cx="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 rot="19524000">
            <a:off x="5200560" y="5113080"/>
            <a:ext cx="257400" cy="106200"/>
          </a:xfrm>
          <a:custGeom>
            <a:avLst/>
            <a:gdLst/>
            <a:ahLst/>
            <a:rect l="l" t="t" r="r" b="b"/>
            <a:pathLst>
              <a:path w="162" h="67">
                <a:moveTo>
                  <a:pt x="0" y="52"/>
                </a:moveTo>
                <a:cubicBezTo>
                  <a:pt x="4" y="47"/>
                  <a:pt x="14" y="27"/>
                  <a:pt x="24" y="19"/>
                </a:cubicBezTo>
                <a:cubicBezTo>
                  <a:pt x="34" y="11"/>
                  <a:pt x="45" y="6"/>
                  <a:pt x="60" y="4"/>
                </a:cubicBezTo>
                <a:cubicBezTo>
                  <a:pt x="75" y="2"/>
                  <a:pt x="97" y="0"/>
                  <a:pt x="114" y="10"/>
                </a:cubicBezTo>
                <a:cubicBezTo>
                  <a:pt x="131" y="20"/>
                  <a:pt x="152" y="55"/>
                  <a:pt x="162" y="67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5359320" y="4834080"/>
            <a:ext cx="57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4192560" y="5803920"/>
            <a:ext cx="57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788000" y="5883120"/>
            <a:ext cx="406440" cy="35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4768920" y="58658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4005360" y="4614840"/>
            <a:ext cx="30240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рузовое состояние ОСМ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3419640" y="3327480"/>
            <a:ext cx="938160" cy="914400"/>
          </a:xfrm>
          <a:custGeom>
            <a:avLst/>
            <a:gdLst/>
            <a:ahLst/>
            <a:rect l="l" t="t" r="r" b="b"/>
            <a:pathLst>
              <a:path w="591" h="576">
                <a:moveTo>
                  <a:pt x="591" y="0"/>
                </a:moveTo>
                <a:lnTo>
                  <a:pt x="0" y="440"/>
                </a:lnTo>
                <a:lnTo>
                  <a:pt x="227" y="576"/>
                </a:ln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4354560" y="3036960"/>
            <a:ext cx="1152360" cy="28872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182"/>
                </a:moveTo>
                <a:lnTo>
                  <a:pt x="726" y="0"/>
                </a:lnTo>
                <a:lnTo>
                  <a:pt x="726" y="182"/>
                </a:lnTo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5234040" y="3332160"/>
            <a:ext cx="561960" cy="903240"/>
          </a:xfrm>
          <a:custGeom>
            <a:avLst/>
            <a:gdLst/>
            <a:ahLst/>
            <a:rect l="l" t="t" r="r" b="b"/>
            <a:pathLst>
              <a:path w="354" h="569">
                <a:moveTo>
                  <a:pt x="172" y="0"/>
                </a:moveTo>
                <a:lnTo>
                  <a:pt x="354" y="0"/>
                </a:lnTo>
                <a:lnTo>
                  <a:pt x="0" y="569"/>
                </a:lnTo>
                <a:lnTo>
                  <a:pt x="176" y="569"/>
                </a:ln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3782880" y="3330720"/>
            <a:ext cx="1724040" cy="91116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6" y="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7085160" y="3030480"/>
            <a:ext cx="1152360" cy="289080"/>
          </a:xfrm>
          <a:custGeom>
            <a:avLst/>
            <a:gdLst/>
            <a:ahLst/>
            <a:rect l="l" t="t" r="r" b="b"/>
            <a:pathLst>
              <a:path w="726" h="182">
                <a:moveTo>
                  <a:pt x="0" y="182"/>
                </a:moveTo>
                <a:lnTo>
                  <a:pt x="726" y="0"/>
                </a:lnTo>
                <a:lnTo>
                  <a:pt x="726" y="182"/>
                </a:lnTo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7864560" y="3332160"/>
            <a:ext cx="582480" cy="909720"/>
          </a:xfrm>
          <a:custGeom>
            <a:avLst/>
            <a:gdLst/>
            <a:ahLst/>
            <a:rect l="l" t="t" r="r" b="b"/>
            <a:pathLst>
              <a:path w="367" h="573">
                <a:moveTo>
                  <a:pt x="226" y="0"/>
                </a:moveTo>
                <a:lnTo>
                  <a:pt x="0" y="0"/>
                </a:lnTo>
                <a:lnTo>
                  <a:pt x="367" y="573"/>
                </a:lnTo>
                <a:lnTo>
                  <a:pt x="235" y="573"/>
                </a:lnTo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6515280" y="3330720"/>
            <a:ext cx="1723680" cy="91116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6" y="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4572000" y="373860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7236000" y="3738600"/>
            <a:ext cx="50292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568760" y="3732120"/>
            <a:ext cx="52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7236000" y="373212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7240680" y="587700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7240680" y="5870520"/>
            <a:ext cx="52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7091280" y="5175360"/>
            <a:ext cx="1152720" cy="458640"/>
          </a:xfrm>
          <a:custGeom>
            <a:avLst/>
            <a:gdLst/>
            <a:ahLst/>
            <a:rect l="l" t="t" r="r" b="b"/>
            <a:pathLst>
              <a:path w="726" h="289">
                <a:moveTo>
                  <a:pt x="0" y="182"/>
                </a:moveTo>
                <a:lnTo>
                  <a:pt x="358" y="289"/>
                </a:lnTo>
                <a:lnTo>
                  <a:pt x="726" y="0"/>
                </a:lnTo>
                <a:lnTo>
                  <a:pt x="726" y="182"/>
                </a:lnTo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7655040" y="545796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8028000" y="5468760"/>
            <a:ext cx="615960" cy="914400"/>
          </a:xfrm>
          <a:custGeom>
            <a:avLst/>
            <a:gdLst/>
            <a:ahLst/>
            <a:rect l="l" t="t" r="r" b="b"/>
            <a:pathLst>
              <a:path w="388" h="576">
                <a:moveTo>
                  <a:pt x="136" y="4"/>
                </a:moveTo>
                <a:cubicBezTo>
                  <a:pt x="175" y="3"/>
                  <a:pt x="248" y="4"/>
                  <a:pt x="372" y="0"/>
                </a:cubicBezTo>
                <a:cubicBezTo>
                  <a:pt x="280" y="40"/>
                  <a:pt x="264" y="51"/>
                  <a:pt x="224" y="72"/>
                </a:cubicBezTo>
                <a:cubicBezTo>
                  <a:pt x="184" y="93"/>
                  <a:pt x="163" y="105"/>
                  <a:pt x="132" y="128"/>
                </a:cubicBezTo>
                <a:cubicBezTo>
                  <a:pt x="101" y="151"/>
                  <a:pt x="58" y="183"/>
                  <a:pt x="36" y="212"/>
                </a:cubicBezTo>
                <a:cubicBezTo>
                  <a:pt x="14" y="241"/>
                  <a:pt x="0" y="274"/>
                  <a:pt x="0" y="304"/>
                </a:cubicBezTo>
                <a:cubicBezTo>
                  <a:pt x="0" y="334"/>
                  <a:pt x="15" y="367"/>
                  <a:pt x="36" y="392"/>
                </a:cubicBezTo>
                <a:cubicBezTo>
                  <a:pt x="57" y="417"/>
                  <a:pt x="95" y="437"/>
                  <a:pt x="128" y="456"/>
                </a:cubicBezTo>
                <a:cubicBezTo>
                  <a:pt x="161" y="475"/>
                  <a:pt x="189" y="488"/>
                  <a:pt x="232" y="508"/>
                </a:cubicBezTo>
                <a:cubicBezTo>
                  <a:pt x="275" y="528"/>
                  <a:pt x="312" y="544"/>
                  <a:pt x="388" y="576"/>
                </a:cubicBezTo>
                <a:cubicBezTo>
                  <a:pt x="268" y="572"/>
                  <a:pt x="188" y="574"/>
                  <a:pt x="136" y="574"/>
                </a:cubicBezTo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6519960" y="5468760"/>
            <a:ext cx="1724040" cy="911520"/>
          </a:xfrm>
          <a:custGeom>
            <a:avLst/>
            <a:gdLst/>
            <a:ahLst/>
            <a:rect l="l" t="t" r="r" b="b"/>
            <a:pathLst>
              <a:path w="1086" h="574">
                <a:moveTo>
                  <a:pt x="0" y="574"/>
                </a:moveTo>
                <a:lnTo>
                  <a:pt x="359" y="0"/>
                </a:lnTo>
                <a:lnTo>
                  <a:pt x="1086" y="0"/>
                </a:lnTo>
                <a:lnTo>
                  <a:pt x="1086" y="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5003640" y="2597040"/>
            <a:ext cx="174960" cy="358920"/>
          </a:xfrm>
          <a:prstGeom prst="downArrow">
            <a:avLst>
              <a:gd name="adj1" fmla="val 50000"/>
              <a:gd name="adj2" fmla="val 51286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7564320" y="2600280"/>
            <a:ext cx="174600" cy="358920"/>
          </a:xfrm>
          <a:prstGeom prst="downArrow">
            <a:avLst>
              <a:gd name="adj1" fmla="val 50000"/>
              <a:gd name="adj2" fmla="val 51392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rot="16200000">
            <a:off x="6161040" y="5754240"/>
            <a:ext cx="174600" cy="358920"/>
          </a:xfrm>
          <a:prstGeom prst="downArrow">
            <a:avLst>
              <a:gd name="adj1" fmla="val 50000"/>
              <a:gd name="adj2" fmla="val 51392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60360" y="3645000"/>
            <a:ext cx="2771640" cy="90648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ы опред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эффициенто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 свободных члено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нонических урав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555480" y="4917960"/>
            <a:ext cx="1366920" cy="31320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т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833480" y="4705200"/>
            <a:ext cx="1295640" cy="72252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из усло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равновес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 и ча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ОСМ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1152360" y="4564080"/>
            <a:ext cx="174960" cy="358920"/>
          </a:xfrm>
          <a:prstGeom prst="downArrow">
            <a:avLst>
              <a:gd name="adj1" fmla="val 50000"/>
              <a:gd name="adj2" fmla="val 51286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376200" y="4564080"/>
            <a:ext cx="174600" cy="1201680"/>
          </a:xfrm>
          <a:prstGeom prst="downArrow">
            <a:avLst>
              <a:gd name="adj1" fmla="val 41815"/>
              <a:gd name="adj2" fmla="val 60954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366840" y="5769000"/>
            <a:ext cx="1552320" cy="288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кинема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822320" y="5510160"/>
            <a:ext cx="129564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перемножение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эпю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1827360" y="5978520"/>
            <a:ext cx="1295280" cy="54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через работ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концевых уси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и узловых нагруз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 rot="13906800">
            <a:off x="1860840" y="5718240"/>
            <a:ext cx="103320" cy="158760"/>
          </a:xfrm>
          <a:prstGeom prst="downArrow">
            <a:avLst>
              <a:gd name="adj1" fmla="val 51537"/>
              <a:gd name="adj2" fmla="val 55203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rot="18479400">
            <a:off x="1872360" y="5953680"/>
            <a:ext cx="102960" cy="158760"/>
          </a:xfrm>
          <a:prstGeom prst="downArrow">
            <a:avLst>
              <a:gd name="adj1" fmla="val 51537"/>
              <a:gd name="adj2" fmla="val 55396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187200" y="3860640"/>
            <a:ext cx="3168720" cy="23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Главные 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к состояниям ОСМП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при единичных смеще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введённых связей  и п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заданных воздействи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а) обеспечение совмес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еремещений и деформаций эле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б) выполнение кинема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граничных усло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0" dur="indefinite" restart="never" nodeType="tmRoot">
          <p:childTnLst>
            <p:seq>
              <p:cTn id="4651" dur="indefinite" nodeType="mainSeq">
                <p:childTnLst>
                  <p:par>
                    <p:cTn id="4652" fill="hold">
                      <p:stCondLst>
                        <p:cond delay="0"/>
                      </p:stCondLst>
                      <p:childTnLst>
                        <p:par>
                          <p:cTn id="4653" fill="hold">
                            <p:stCondLst>
                              <p:cond delay="0"/>
                            </p:stCondLst>
                            <p:childTnLst>
                              <p:par>
                                <p:cTn id="4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6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9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2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5" dur="5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8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1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4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7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0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3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6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9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2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5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8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1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4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7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0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3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6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9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2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5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8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1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4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7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0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3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6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9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2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5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8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1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7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0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1" fill="hold">
                      <p:stCondLst>
                        <p:cond delay="indefinite"/>
                      </p:stCondLst>
                      <p:childTnLst>
                        <p:par>
                          <p:cTn id="4772" fill="hold">
                            <p:stCondLst>
                              <p:cond delay="0"/>
                            </p:stCondLst>
                            <p:childTnLst>
                              <p:par>
                                <p:cTn id="47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5" dur="1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6" dur="1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7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8" fill="hold">
                      <p:stCondLst>
                        <p:cond delay="indefinite"/>
                      </p:stCondLst>
                      <p:childTnLst>
                        <p:par>
                          <p:cTn id="4779" fill="hold">
                            <p:stCondLst>
                              <p:cond delay="0"/>
                            </p:stCondLst>
                            <p:childTnLst>
                              <p:par>
                                <p:cTn id="4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2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3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4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5" fill="hold">
                      <p:stCondLst>
                        <p:cond delay="indefinite"/>
                      </p:stCondLst>
                      <p:childTnLst>
                        <p:par>
                          <p:cTn id="4786" fill="hold">
                            <p:stCondLst>
                              <p:cond delay="0"/>
                            </p:stCondLst>
                            <p:childTnLst>
                              <p:par>
                                <p:cTn id="4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9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2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5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8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1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4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0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9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2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8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1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4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7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0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3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6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9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2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5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8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1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2" fill="hold">
                      <p:stCondLst>
                        <p:cond delay="indefinite"/>
                      </p:stCondLst>
                      <p:childTnLst>
                        <p:par>
                          <p:cTn id="4863" fill="hold">
                            <p:stCondLst>
                              <p:cond delay="0"/>
                            </p:stCondLst>
                            <p:childTnLst>
                              <p:par>
                                <p:cTn id="4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6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2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5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6" fill="hold">
                      <p:stCondLst>
                        <p:cond delay="indefinite"/>
                      </p:stCondLst>
                      <p:childTnLst>
                        <p:par>
                          <p:cTn id="4877" fill="hold">
                            <p:stCondLst>
                              <p:cond delay="0"/>
                            </p:stCondLst>
                            <p:childTnLst>
                              <p:par>
                                <p:cTn id="48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0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3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6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9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5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8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1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4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7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3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6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9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2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8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1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4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7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0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1" fill="hold">
                      <p:stCondLst>
                        <p:cond delay="indefinite"/>
                      </p:stCondLst>
                      <p:childTnLst>
                        <p:par>
                          <p:cTn id="4942" fill="hold">
                            <p:stCondLst>
                              <p:cond delay="0"/>
                            </p:stCondLst>
                            <p:childTnLst>
                              <p:par>
                                <p:cTn id="4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5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8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1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4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5" fill="hold">
                      <p:stCondLst>
                        <p:cond delay="indefinite"/>
                      </p:stCondLst>
                      <p:childTnLst>
                        <p:par>
                          <p:cTn id="4956" fill="hold">
                            <p:stCondLst>
                              <p:cond delay="0"/>
                            </p:stCondLst>
                            <p:childTnLst>
                              <p:par>
                                <p:cTn id="49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9" dur="80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0" dur="80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1" dur="80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2" fill="hold">
                      <p:stCondLst>
                        <p:cond delay="indefinite"/>
                      </p:stCondLst>
                      <p:childTnLst>
                        <p:par>
                          <p:cTn id="4963" fill="hold">
                            <p:stCondLst>
                              <p:cond delay="0"/>
                            </p:stCondLst>
                            <p:childTnLst>
                              <p:par>
                                <p:cTn id="49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6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7" fill="hold">
                      <p:stCondLst>
                        <p:cond delay="indefinite"/>
                      </p:stCondLst>
                      <p:childTnLst>
                        <p:par>
                          <p:cTn id="4968" fill="hold">
                            <p:stCondLst>
                              <p:cond delay="0"/>
                            </p:stCondLst>
                            <p:childTnLst>
                              <p:par>
                                <p:cTn id="49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1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7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8" fill="hold">
                      <p:stCondLst>
                        <p:cond delay="indefinite"/>
                      </p:stCondLst>
                      <p:childTnLst>
                        <p:par>
                          <p:cTn id="4979" fill="hold">
                            <p:stCondLst>
                              <p:cond delay="0"/>
                            </p:stCondLst>
                            <p:childTnLst>
                              <p:par>
                                <p:cTn id="4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2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3" fill="hold">
                      <p:stCondLst>
                        <p:cond delay="indefinite"/>
                      </p:stCondLst>
                      <p:childTnLst>
                        <p:par>
                          <p:cTn id="4984" fill="hold">
                            <p:stCondLst>
                              <p:cond delay="0"/>
                            </p:stCondLst>
                            <p:childTnLst>
                              <p:par>
                                <p:cTn id="49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7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8" fill="hold">
                      <p:stCondLst>
                        <p:cond delay="indefinite"/>
                      </p:stCondLst>
                      <p:childTnLst>
                        <p:par>
                          <p:cTn id="4989" fill="hold">
                            <p:stCondLst>
                              <p:cond delay="0"/>
                            </p:stCondLst>
                            <p:childTnLst>
                              <p:par>
                                <p:cTn id="4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2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3" fill="hold">
                      <p:stCondLst>
                        <p:cond delay="indefinite"/>
                      </p:stCondLst>
                      <p:childTnLst>
                        <p:par>
                          <p:cTn id="4994" fill="hold">
                            <p:stCondLst>
                              <p:cond delay="0"/>
                            </p:stCondLst>
                            <p:childTnLst>
                              <p:par>
                                <p:cTn id="49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7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8" fill="hold">
                      <p:stCondLst>
                        <p:cond delay="indefinite"/>
                      </p:stCondLst>
                      <p:childTnLst>
                        <p:par>
                          <p:cTn id="4999" fill="hold">
                            <p:stCondLst>
                              <p:cond delay="0"/>
                            </p:stCondLst>
                            <p:childTnLst>
                              <p:par>
                                <p:cTn id="50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2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5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8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9" fill="hold">
                      <p:stCondLst>
                        <p:cond delay="indefinite"/>
                      </p:stCondLst>
                      <p:childTnLst>
                        <p:par>
                          <p:cTn id="5010" fill="hold">
                            <p:stCondLst>
                              <p:cond delay="0"/>
                            </p:stCondLst>
                            <p:childTnLst>
                              <p:par>
                                <p:cTn id="50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3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4" fill="hold">
                      <p:stCondLst>
                        <p:cond delay="indefinite"/>
                      </p:stCondLst>
                      <p:childTnLst>
                        <p:par>
                          <p:cTn id="5015" fill="hold">
                            <p:stCondLst>
                              <p:cond delay="0"/>
                            </p:stCondLst>
                            <p:childTnLst>
                              <p:par>
                                <p:cTn id="50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8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9" fill="hold">
                      <p:stCondLst>
                        <p:cond delay="indefinite"/>
                      </p:stCondLst>
                      <p:childTnLst>
                        <p:par>
                          <p:cTn id="5020" fill="hold">
                            <p:stCondLst>
                              <p:cond delay="0"/>
                            </p:stCondLst>
                            <p:childTnLst>
                              <p:par>
                                <p:cTn id="50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3" dur="1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4" dur="1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5" dur="10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6" fill="hold">
                      <p:stCondLst>
                        <p:cond delay="indefinite"/>
                      </p:stCondLst>
                      <p:childTnLst>
                        <p:par>
                          <p:cTn id="5027" fill="hold">
                            <p:stCondLst>
                              <p:cond delay="0"/>
                            </p:stCondLst>
                            <p:childTnLst>
                              <p:par>
                                <p:cTn id="5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0" dur="5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3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6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9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2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5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8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1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4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7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0" dur="5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3" dur="5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6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9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2" dur="5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5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8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1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4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7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0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3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6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9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2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5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6" fill="hold">
                      <p:stCondLst>
                        <p:cond delay="indefinite"/>
                      </p:stCondLst>
                      <p:childTnLst>
                        <p:par>
                          <p:cTn id="5107" fill="hold">
                            <p:stCondLst>
                              <p:cond delay="0"/>
                            </p:stCondLst>
                            <p:childTnLst>
                              <p:par>
                                <p:cTn id="5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0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3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6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9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0" fill="hold">
                      <p:stCondLst>
                        <p:cond delay="indefinite"/>
                      </p:stCondLst>
                      <p:childTnLst>
                        <p:par>
                          <p:cTn id="5121" fill="hold">
                            <p:stCondLst>
                              <p:cond delay="0"/>
                            </p:stCondLst>
                            <p:childTnLst>
                              <p:par>
                                <p:cTn id="5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5" fill="hold">
                      <p:stCondLst>
                        <p:cond delay="indefinite"/>
                      </p:stCondLst>
                      <p:childTnLst>
                        <p:par>
                          <p:cTn id="5126" fill="hold">
                            <p:stCondLst>
                              <p:cond delay="0"/>
                            </p:stCondLst>
                            <p:childTnLst>
                              <p:par>
                                <p:cTn id="5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2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5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6" fill="hold">
                      <p:stCondLst>
                        <p:cond delay="indefinite"/>
                      </p:stCondLst>
                      <p:childTnLst>
                        <p:par>
                          <p:cTn id="5137" fill="hold">
                            <p:stCondLst>
                              <p:cond delay="0"/>
                            </p:stCondLst>
                            <p:childTnLst>
                              <p:par>
                                <p:cTn id="5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0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3" dur="5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4" fill="hold">
                      <p:stCondLst>
                        <p:cond delay="indefinite"/>
                      </p:stCondLst>
                      <p:childTnLst>
                        <p:par>
                          <p:cTn id="5145" fill="hold">
                            <p:stCondLst>
                              <p:cond delay="0"/>
                            </p:stCondLst>
                            <p:childTnLst>
                              <p:par>
                                <p:cTn id="5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8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9" fill="hold">
                      <p:stCondLst>
                        <p:cond delay="indefinite"/>
                      </p:stCondLst>
                      <p:childTnLst>
                        <p:par>
                          <p:cTn id="5150" fill="hold">
                            <p:stCondLst>
                              <p:cond delay="0"/>
                            </p:stCondLst>
                            <p:childTnLst>
                              <p:par>
                                <p:cTn id="51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53" dur="2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155" dur="2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7" fill="hold">
                      <p:stCondLst>
                        <p:cond delay="indefinite"/>
                      </p:stCondLst>
                      <p:childTnLst>
                        <p:par>
                          <p:cTn id="5158" fill="hold">
                            <p:stCondLst>
                              <p:cond delay="0"/>
                            </p:stCondLst>
                            <p:childTnLst>
                              <p:par>
                                <p:cTn id="5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1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2" dur="10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3" dur="10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6" dur="1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7" dur="10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8" dur="10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9" fill="hold">
                      <p:stCondLst>
                        <p:cond delay="indefinite"/>
                      </p:stCondLst>
                      <p:childTnLst>
                        <p:par>
                          <p:cTn id="5170" fill="hold">
                            <p:stCondLst>
                              <p:cond delay="0"/>
                            </p:stCondLst>
                            <p:childTnLst>
                              <p:par>
                                <p:cTn id="5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3" dur="1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4" dur="1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5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6" fill="hold">
                      <p:stCondLst>
                        <p:cond delay="indefinite"/>
                      </p:stCondLst>
                      <p:childTnLst>
                        <p:par>
                          <p:cTn id="5177" fill="hold">
                            <p:stCondLst>
                              <p:cond delay="0"/>
                            </p:stCondLst>
                            <p:childTnLst>
                              <p:par>
                                <p:cTn id="5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0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1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2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5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6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7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8" fill="hold">
                      <p:stCondLst>
                        <p:cond delay="indefinite"/>
                      </p:stCondLst>
                      <p:childTnLst>
                        <p:par>
                          <p:cTn id="5189" fill="hold">
                            <p:stCondLst>
                              <p:cond delay="0"/>
                            </p:stCondLst>
                            <p:childTnLst>
                              <p:par>
                                <p:cTn id="5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2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3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4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7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8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9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0" fill="hold">
                      <p:stCondLst>
                        <p:cond delay="indefinite"/>
                      </p:stCondLst>
                      <p:childTnLst>
                        <p:par>
                          <p:cTn id="5201" fill="hold">
                            <p:stCondLst>
                              <p:cond delay="0"/>
                            </p:stCondLst>
                            <p:childTnLst>
                              <p:par>
                                <p:cTn id="5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4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5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6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9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0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1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 rot="5400000">
            <a:off x="4479480" y="2341440"/>
            <a:ext cx="71280" cy="25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4389120" y="250992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518000" y="250992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rot="5400000">
            <a:off x="4469760" y="246528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886200" y="2776680"/>
            <a:ext cx="1774800" cy="904680"/>
          </a:xfrm>
          <a:custGeom>
            <a:avLst/>
            <a:gdLst/>
            <a:ahLst/>
            <a:rect l="l" t="t" r="r" b="b"/>
            <a:pathLst>
              <a:path w="1118" h="570">
                <a:moveTo>
                  <a:pt x="0" y="570"/>
                </a:moveTo>
                <a:lnTo>
                  <a:pt x="391" y="0"/>
                </a:lnTo>
                <a:lnTo>
                  <a:pt x="1118" y="0"/>
                </a:lnTo>
                <a:lnTo>
                  <a:pt x="1118" y="54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5553000" y="3683160"/>
            <a:ext cx="21600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553000" y="3692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3780000" y="3678120"/>
            <a:ext cx="21564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780000" y="36878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rot="19800000">
            <a:off x="5419800" y="2363760"/>
            <a:ext cx="71280" cy="17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435640" y="2349360"/>
            <a:ext cx="233280" cy="422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4471920" y="27338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094360" y="24955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567216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5672160" y="30099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5670360" y="32385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 flipH="1">
            <a:off x="5670360" y="34671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5684760" y="3683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897520" y="2781360"/>
            <a:ext cx="1800" cy="906480"/>
          </a:xfrm>
          <a:custGeom>
            <a:avLst/>
            <a:gdLst/>
            <a:ahLst/>
            <a:rect l="l" t="t" r="r" b="b"/>
            <a:pathLst>
              <a:path w="1" h="571">
                <a:moveTo>
                  <a:pt x="1" y="0"/>
                </a:moveTo>
                <a:lnTo>
                  <a:pt x="0" y="5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4859280" y="2198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5651640" y="24145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2816280"/>
            <a:ext cx="598320" cy="87480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4570560" y="2776680"/>
            <a:ext cx="1085760" cy="98280"/>
          </a:xfrm>
          <a:custGeom>
            <a:avLst/>
            <a:gdLst/>
            <a:ahLst/>
            <a:rect l="l" t="t" r="r" b="b"/>
            <a:pathLst>
              <a:path w="684" h="62">
                <a:moveTo>
                  <a:pt x="0" y="9"/>
                </a:moveTo>
                <a:cubicBezTo>
                  <a:pt x="24" y="15"/>
                  <a:pt x="95" y="37"/>
                  <a:pt x="144" y="45"/>
                </a:cubicBezTo>
                <a:cubicBezTo>
                  <a:pt x="193" y="53"/>
                  <a:pt x="253" y="58"/>
                  <a:pt x="297" y="60"/>
                </a:cubicBezTo>
                <a:cubicBezTo>
                  <a:pt x="341" y="62"/>
                  <a:pt x="373" y="61"/>
                  <a:pt x="411" y="57"/>
                </a:cubicBezTo>
                <a:cubicBezTo>
                  <a:pt x="449" y="53"/>
                  <a:pt x="490" y="41"/>
                  <a:pt x="525" y="33"/>
                </a:cubicBezTo>
                <a:cubicBezTo>
                  <a:pt x="560" y="25"/>
                  <a:pt x="598" y="14"/>
                  <a:pt x="624" y="9"/>
                </a:cubicBezTo>
                <a:cubicBezTo>
                  <a:pt x="650" y="4"/>
                  <a:pt x="672" y="2"/>
                  <a:pt x="68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5576760" y="2766960"/>
            <a:ext cx="88920" cy="924120"/>
          </a:xfrm>
          <a:custGeom>
            <a:avLst/>
            <a:gdLst/>
            <a:ahLst/>
            <a:rect l="l" t="t" r="r" b="b"/>
            <a:pathLst>
              <a:path w="56" h="582">
                <a:moveTo>
                  <a:pt x="54" y="582"/>
                </a:moveTo>
                <a:cubicBezTo>
                  <a:pt x="53" y="571"/>
                  <a:pt x="53" y="541"/>
                  <a:pt x="46" y="514"/>
                </a:cubicBezTo>
                <a:cubicBezTo>
                  <a:pt x="39" y="487"/>
                  <a:pt x="21" y="449"/>
                  <a:pt x="14" y="422"/>
                </a:cubicBezTo>
                <a:cubicBezTo>
                  <a:pt x="7" y="395"/>
                  <a:pt x="4" y="379"/>
                  <a:pt x="2" y="354"/>
                </a:cubicBezTo>
                <a:cubicBezTo>
                  <a:pt x="0" y="329"/>
                  <a:pt x="0" y="300"/>
                  <a:pt x="2" y="274"/>
                </a:cubicBezTo>
                <a:cubicBezTo>
                  <a:pt x="4" y="248"/>
                  <a:pt x="7" y="224"/>
                  <a:pt x="14" y="198"/>
                </a:cubicBezTo>
                <a:cubicBezTo>
                  <a:pt x="21" y="172"/>
                  <a:pt x="36" y="142"/>
                  <a:pt x="42" y="118"/>
                </a:cubicBezTo>
                <a:cubicBezTo>
                  <a:pt x="48" y="94"/>
                  <a:pt x="51" y="74"/>
                  <a:pt x="53" y="54"/>
                </a:cubicBezTo>
                <a:cubicBezTo>
                  <a:pt x="55" y="34"/>
                  <a:pt x="55" y="11"/>
                  <a:pt x="5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4519440" y="2827440"/>
            <a:ext cx="0" cy="36036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rot="19524000">
            <a:off x="5292360" y="2287440"/>
            <a:ext cx="257040" cy="106560"/>
          </a:xfrm>
          <a:custGeom>
            <a:avLst/>
            <a:gdLst/>
            <a:ahLst/>
            <a:rect l="l" t="t" r="r" b="b"/>
            <a:pathLst>
              <a:path w="162" h="67">
                <a:moveTo>
                  <a:pt x="0" y="52"/>
                </a:moveTo>
                <a:cubicBezTo>
                  <a:pt x="4" y="47"/>
                  <a:pt x="14" y="27"/>
                  <a:pt x="24" y="19"/>
                </a:cubicBezTo>
                <a:cubicBezTo>
                  <a:pt x="34" y="11"/>
                  <a:pt x="45" y="6"/>
                  <a:pt x="60" y="4"/>
                </a:cubicBezTo>
                <a:cubicBezTo>
                  <a:pt x="75" y="2"/>
                  <a:pt x="97" y="0"/>
                  <a:pt x="114" y="10"/>
                </a:cubicBezTo>
                <a:cubicBezTo>
                  <a:pt x="131" y="20"/>
                  <a:pt x="152" y="55"/>
                  <a:pt x="162" y="67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5079960" y="1909800"/>
            <a:ext cx="57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4297320" y="3105000"/>
            <a:ext cx="57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883040" y="3186000"/>
            <a:ext cx="406440" cy="35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4863960" y="3168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195720" y="2205000"/>
            <a:ext cx="11523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рузов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М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7121520" y="3178080"/>
            <a:ext cx="503280" cy="43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7121520" y="3171960"/>
            <a:ext cx="52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6972480" y="2476440"/>
            <a:ext cx="1152360" cy="459000"/>
          </a:xfrm>
          <a:custGeom>
            <a:avLst/>
            <a:gdLst/>
            <a:ahLst/>
            <a:rect l="l" t="t" r="r" b="b"/>
            <a:pathLst>
              <a:path w="726" h="289">
                <a:moveTo>
                  <a:pt x="0" y="182"/>
                </a:moveTo>
                <a:lnTo>
                  <a:pt x="358" y="289"/>
                </a:lnTo>
                <a:lnTo>
                  <a:pt x="726" y="0"/>
                </a:lnTo>
                <a:lnTo>
                  <a:pt x="726" y="182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7535880" y="27590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7908840" y="2770200"/>
            <a:ext cx="615960" cy="914400"/>
          </a:xfrm>
          <a:custGeom>
            <a:avLst/>
            <a:gdLst/>
            <a:ahLst/>
            <a:rect l="l" t="t" r="r" b="b"/>
            <a:pathLst>
              <a:path w="388" h="576">
                <a:moveTo>
                  <a:pt x="136" y="4"/>
                </a:moveTo>
                <a:cubicBezTo>
                  <a:pt x="175" y="3"/>
                  <a:pt x="248" y="4"/>
                  <a:pt x="372" y="0"/>
                </a:cubicBezTo>
                <a:cubicBezTo>
                  <a:pt x="280" y="40"/>
                  <a:pt x="264" y="51"/>
                  <a:pt x="224" y="72"/>
                </a:cubicBezTo>
                <a:cubicBezTo>
                  <a:pt x="184" y="93"/>
                  <a:pt x="163" y="105"/>
                  <a:pt x="132" y="128"/>
                </a:cubicBezTo>
                <a:cubicBezTo>
                  <a:pt x="101" y="151"/>
                  <a:pt x="58" y="183"/>
                  <a:pt x="36" y="212"/>
                </a:cubicBezTo>
                <a:cubicBezTo>
                  <a:pt x="14" y="241"/>
                  <a:pt x="0" y="274"/>
                  <a:pt x="0" y="304"/>
                </a:cubicBezTo>
                <a:cubicBezTo>
                  <a:pt x="0" y="334"/>
                  <a:pt x="15" y="367"/>
                  <a:pt x="36" y="392"/>
                </a:cubicBezTo>
                <a:cubicBezTo>
                  <a:pt x="57" y="417"/>
                  <a:pt x="95" y="437"/>
                  <a:pt x="128" y="456"/>
                </a:cubicBezTo>
                <a:cubicBezTo>
                  <a:pt x="161" y="475"/>
                  <a:pt x="189" y="488"/>
                  <a:pt x="232" y="508"/>
                </a:cubicBezTo>
                <a:cubicBezTo>
                  <a:pt x="275" y="528"/>
                  <a:pt x="312" y="544"/>
                  <a:pt x="388" y="576"/>
                </a:cubicBezTo>
                <a:cubicBezTo>
                  <a:pt x="268" y="572"/>
                  <a:pt x="188" y="574"/>
                  <a:pt x="136" y="574"/>
                </a:cubicBez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6300720" y="2770200"/>
            <a:ext cx="1824120" cy="911160"/>
          </a:xfrm>
          <a:custGeom>
            <a:avLst/>
            <a:gdLst/>
            <a:ahLst/>
            <a:rect l="l" t="t" r="r" b="b"/>
            <a:pathLst>
              <a:path w="1149" h="574">
                <a:moveTo>
                  <a:pt x="0" y="574"/>
                </a:moveTo>
                <a:lnTo>
                  <a:pt x="422" y="0"/>
                </a:lnTo>
                <a:lnTo>
                  <a:pt x="1149" y="0"/>
                </a:lnTo>
                <a:lnTo>
                  <a:pt x="1149" y="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 rot="16200000">
            <a:off x="6176520" y="3055680"/>
            <a:ext cx="174960" cy="358920"/>
          </a:xfrm>
          <a:prstGeom prst="downArrow">
            <a:avLst>
              <a:gd name="adj1" fmla="val 50000"/>
              <a:gd name="adj2" fmla="val 51286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360360" y="1001880"/>
            <a:ext cx="2771640" cy="9061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ы опред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эффициенто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 свободных члено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нонических урав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55480" y="2274840"/>
            <a:ext cx="1366920" cy="31320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т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1833480" y="2062080"/>
            <a:ext cx="1295640" cy="72252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из усло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равновес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 и ча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ОСМ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152360" y="1920960"/>
            <a:ext cx="174960" cy="358560"/>
          </a:xfrm>
          <a:prstGeom prst="downArrow">
            <a:avLst>
              <a:gd name="adj1" fmla="val 50000"/>
              <a:gd name="adj2" fmla="val 51235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76200" y="1920960"/>
            <a:ext cx="174600" cy="1201680"/>
          </a:xfrm>
          <a:prstGeom prst="downArrow">
            <a:avLst>
              <a:gd name="adj1" fmla="val 41815"/>
              <a:gd name="adj2" fmla="val 60954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66840" y="3125880"/>
            <a:ext cx="1552320" cy="288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кинема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1822320" y="2867040"/>
            <a:ext cx="129564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перемножение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эпю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827360" y="3335400"/>
            <a:ext cx="1295280" cy="598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через работ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концевых уси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и узловых нагруз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 rot="13906800">
            <a:off x="1860840" y="3075120"/>
            <a:ext cx="103320" cy="158760"/>
          </a:xfrm>
          <a:prstGeom prst="downArrow">
            <a:avLst>
              <a:gd name="adj1" fmla="val 51537"/>
              <a:gd name="adj2" fmla="val 55203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 rot="18479400">
            <a:off x="1872360" y="3310560"/>
            <a:ext cx="102960" cy="158760"/>
          </a:xfrm>
          <a:prstGeom prst="downArrow">
            <a:avLst>
              <a:gd name="adj1" fmla="val 51537"/>
              <a:gd name="adj2" fmla="val 55396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3025800" y="620640"/>
            <a:ext cx="5865840" cy="33660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ч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е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м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е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4014720" y="3068640"/>
            <a:ext cx="179280" cy="17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3962520" y="301608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5000760" y="2905200"/>
            <a:ext cx="179280" cy="17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5364000" y="3152880"/>
            <a:ext cx="179640" cy="17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4956120" y="2852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5318280" y="31003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3868560" y="3608280"/>
            <a:ext cx="9072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4410000" y="2806560"/>
            <a:ext cx="9072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605560" y="27082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4591080" y="272736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 flipH="1">
            <a:off x="5592600" y="28400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 flipH="1">
            <a:off x="557964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571920" y="337968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5295960" y="247968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5334120" y="336564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132440" y="260496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4443480" y="247968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330880" y="271296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594400" y="2703600"/>
            <a:ext cx="142920" cy="144360"/>
          </a:xfrm>
          <a:prstGeom prst="ellipse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695920" y="2060640"/>
            <a:ext cx="1108080" cy="650880"/>
          </a:xfrm>
          <a:custGeom>
            <a:avLst/>
            <a:gdLst/>
            <a:ahLst/>
            <a:rect l="l" t="t" r="r" b="b"/>
            <a:pathLst>
              <a:path w="789" h="637">
                <a:moveTo>
                  <a:pt x="0" y="637"/>
                </a:moveTo>
                <a:cubicBezTo>
                  <a:pt x="17" y="607"/>
                  <a:pt x="55" y="520"/>
                  <a:pt x="108" y="454"/>
                </a:cubicBezTo>
                <a:cubicBezTo>
                  <a:pt x="161" y="388"/>
                  <a:pt x="241" y="302"/>
                  <a:pt x="316" y="241"/>
                </a:cubicBezTo>
                <a:cubicBezTo>
                  <a:pt x="391" y="180"/>
                  <a:pt x="481" y="129"/>
                  <a:pt x="560" y="89"/>
                </a:cubicBezTo>
                <a:cubicBezTo>
                  <a:pt x="639" y="49"/>
                  <a:pt x="741" y="19"/>
                  <a:pt x="789" y="0"/>
                </a:cubicBezTo>
              </a:path>
            </a:pathLst>
          </a:custGeom>
          <a:noFill/>
          <a:ln w="12600">
            <a:solidFill>
              <a:srgbClr val="a50021"/>
            </a:solidFill>
            <a:round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7229520" y="1665360"/>
            <a:ext cx="288720" cy="2887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0" y="0"/>
                </a:moveTo>
                <a:lnTo>
                  <a:pt x="182" y="0"/>
                </a:lnTo>
                <a:lnTo>
                  <a:pt x="182" y="1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7229520" y="1593720"/>
            <a:ext cx="0" cy="14472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7445160" y="1954080"/>
            <a:ext cx="14436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7380360" y="1390680"/>
            <a:ext cx="144360" cy="2682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7308360" y="1365120"/>
            <a:ext cx="142920" cy="716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7124760" y="162072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7440480" y="165888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7250040" y="1281240"/>
            <a:ext cx="300240" cy="191880"/>
          </a:xfrm>
          <a:custGeom>
            <a:avLst/>
            <a:gdLst/>
            <a:ahLst/>
            <a:rect l="l" t="t" r="r" b="b"/>
            <a:pathLst>
              <a:path w="189" h="121">
                <a:moveTo>
                  <a:pt x="4" y="121"/>
                </a:moveTo>
                <a:cubicBezTo>
                  <a:pt x="5" y="111"/>
                  <a:pt x="0" y="79"/>
                  <a:pt x="8" y="61"/>
                </a:cubicBezTo>
                <a:cubicBezTo>
                  <a:pt x="16" y="43"/>
                  <a:pt x="34" y="22"/>
                  <a:pt x="52" y="13"/>
                </a:cubicBezTo>
                <a:cubicBezTo>
                  <a:pt x="70" y="4"/>
                  <a:pt x="93" y="0"/>
                  <a:pt x="116" y="5"/>
                </a:cubicBezTo>
                <a:cubicBezTo>
                  <a:pt x="139" y="10"/>
                  <a:pt x="174" y="34"/>
                  <a:pt x="189" y="42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7015320" y="939960"/>
            <a:ext cx="571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7520040" y="19605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7167240" y="1989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 flipH="1">
            <a:off x="6859080" y="16621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7192800" y="13806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7332840" y="1963800"/>
            <a:ext cx="309240" cy="172800"/>
          </a:xfrm>
          <a:custGeom>
            <a:avLst/>
            <a:gdLst/>
            <a:ahLst/>
            <a:rect l="l" t="t" r="r" b="b"/>
            <a:pathLst>
              <a:path w="195" h="109">
                <a:moveTo>
                  <a:pt x="195" y="0"/>
                </a:moveTo>
                <a:cubicBezTo>
                  <a:pt x="193" y="9"/>
                  <a:pt x="195" y="43"/>
                  <a:pt x="186" y="60"/>
                </a:cubicBezTo>
                <a:cubicBezTo>
                  <a:pt x="177" y="77"/>
                  <a:pt x="160" y="97"/>
                  <a:pt x="140" y="103"/>
                </a:cubicBezTo>
                <a:cubicBezTo>
                  <a:pt x="120" y="109"/>
                  <a:pt x="87" y="109"/>
                  <a:pt x="64" y="99"/>
                </a:cubicBezTo>
                <a:cubicBezTo>
                  <a:pt x="41" y="89"/>
                  <a:pt x="13" y="57"/>
                  <a:pt x="0" y="4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7037280" y="1496880"/>
            <a:ext cx="174600" cy="336600"/>
          </a:xfrm>
          <a:custGeom>
            <a:avLst/>
            <a:gdLst/>
            <a:ahLst/>
            <a:rect l="l" t="t" r="r" b="b"/>
            <a:pathLst>
              <a:path w="110" h="212">
                <a:moveTo>
                  <a:pt x="59" y="0"/>
                </a:moveTo>
                <a:cubicBezTo>
                  <a:pt x="52" y="6"/>
                  <a:pt x="28" y="23"/>
                  <a:pt x="19" y="40"/>
                </a:cubicBezTo>
                <a:cubicBezTo>
                  <a:pt x="10" y="57"/>
                  <a:pt x="0" y="77"/>
                  <a:pt x="3" y="100"/>
                </a:cubicBezTo>
                <a:cubicBezTo>
                  <a:pt x="6" y="123"/>
                  <a:pt x="17" y="157"/>
                  <a:pt x="35" y="176"/>
                </a:cubicBezTo>
                <a:cubicBezTo>
                  <a:pt x="53" y="195"/>
                  <a:pt x="95" y="204"/>
                  <a:pt x="110" y="2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6575400" y="1677960"/>
            <a:ext cx="71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6861240" y="1976400"/>
            <a:ext cx="71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7812000" y="2141640"/>
            <a:ext cx="574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8315280" y="2502000"/>
            <a:ext cx="574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,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5651640" y="98100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116760" y="1392120"/>
            <a:ext cx="174600" cy="236520"/>
          </a:xfrm>
          <a:prstGeom prst="downArrow">
            <a:avLst>
              <a:gd name="adj1" fmla="val 54546"/>
              <a:gd name="adj2" fmla="val 73125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5978520" y="1569960"/>
            <a:ext cx="57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5700600" y="981000"/>
            <a:ext cx="979560" cy="1008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4387680" y="2390760"/>
            <a:ext cx="1409760" cy="720720"/>
          </a:xfrm>
          <a:custGeom>
            <a:avLst/>
            <a:gdLst/>
            <a:ahLst/>
            <a:rect l="l" t="t" r="r" b="b"/>
            <a:pathLst>
              <a:path w="888" h="454">
                <a:moveTo>
                  <a:pt x="245" y="51"/>
                </a:moveTo>
                <a:cubicBezTo>
                  <a:pt x="234" y="62"/>
                  <a:pt x="204" y="105"/>
                  <a:pt x="176" y="117"/>
                </a:cubicBezTo>
                <a:cubicBezTo>
                  <a:pt x="148" y="129"/>
                  <a:pt x="104" y="118"/>
                  <a:pt x="77" y="126"/>
                </a:cubicBezTo>
                <a:cubicBezTo>
                  <a:pt x="50" y="134"/>
                  <a:pt x="22" y="148"/>
                  <a:pt x="11" y="168"/>
                </a:cubicBezTo>
                <a:cubicBezTo>
                  <a:pt x="0" y="188"/>
                  <a:pt x="0" y="227"/>
                  <a:pt x="11" y="249"/>
                </a:cubicBezTo>
                <a:cubicBezTo>
                  <a:pt x="22" y="271"/>
                  <a:pt x="36" y="274"/>
                  <a:pt x="77" y="300"/>
                </a:cubicBezTo>
                <a:cubicBezTo>
                  <a:pt x="118" y="326"/>
                  <a:pt x="199" y="380"/>
                  <a:pt x="260" y="405"/>
                </a:cubicBezTo>
                <a:cubicBezTo>
                  <a:pt x="321" y="430"/>
                  <a:pt x="397" y="452"/>
                  <a:pt x="446" y="453"/>
                </a:cubicBezTo>
                <a:cubicBezTo>
                  <a:pt x="495" y="454"/>
                  <a:pt x="526" y="436"/>
                  <a:pt x="557" y="414"/>
                </a:cubicBezTo>
                <a:cubicBezTo>
                  <a:pt x="588" y="392"/>
                  <a:pt x="606" y="344"/>
                  <a:pt x="632" y="321"/>
                </a:cubicBezTo>
                <a:cubicBezTo>
                  <a:pt x="658" y="298"/>
                  <a:pt x="678" y="283"/>
                  <a:pt x="713" y="276"/>
                </a:cubicBezTo>
                <a:cubicBezTo>
                  <a:pt x="748" y="269"/>
                  <a:pt x="816" y="292"/>
                  <a:pt x="845" y="279"/>
                </a:cubicBezTo>
                <a:cubicBezTo>
                  <a:pt x="874" y="266"/>
                  <a:pt x="886" y="230"/>
                  <a:pt x="887" y="200"/>
                </a:cubicBezTo>
                <a:cubicBezTo>
                  <a:pt x="888" y="170"/>
                  <a:pt x="875" y="119"/>
                  <a:pt x="854" y="99"/>
                </a:cubicBezTo>
                <a:cubicBezTo>
                  <a:pt x="833" y="79"/>
                  <a:pt x="787" y="78"/>
                  <a:pt x="758" y="78"/>
                </a:cubicBezTo>
                <a:cubicBezTo>
                  <a:pt x="729" y="78"/>
                  <a:pt x="705" y="99"/>
                  <a:pt x="677" y="99"/>
                </a:cubicBezTo>
                <a:cubicBezTo>
                  <a:pt x="649" y="99"/>
                  <a:pt x="612" y="97"/>
                  <a:pt x="587" y="81"/>
                </a:cubicBezTo>
                <a:cubicBezTo>
                  <a:pt x="562" y="65"/>
                  <a:pt x="537" y="17"/>
                  <a:pt x="524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2" dur="indefinite" restart="never" nodeType="tmRoot">
          <p:childTnLst>
            <p:seq>
              <p:cTn id="5213" dur="indefinite" nodeType="mainSeq">
                <p:childTnLst>
                  <p:par>
                    <p:cTn id="5214" fill="hold">
                      <p:stCondLst>
                        <p:cond delay="0"/>
                      </p:stCondLst>
                      <p:childTnLst>
                        <p:par>
                          <p:cTn id="5215" fill="hold">
                            <p:stCondLst>
                              <p:cond delay="0"/>
                            </p:stCondLst>
                            <p:childTnLst>
                              <p:par>
                                <p:cTn id="52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8" dur="1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9" dur="10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0" dur="10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3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4" dur="10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5" dur="10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8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9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0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3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4" dur="1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5" dur="1000" fill="hold"/>
                                        <p:tgtEl>
                                          <p:spTgt spid="2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8" dur="10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9" dur="10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0" dur="1000" fill="hold"/>
                                        <p:tgtEl>
                                          <p:spTgt spid="2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3" dur="10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4" dur="10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5" dur="10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8" dur="1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9" dur="10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0" dur="10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3" dur="10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4" dur="10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5" dur="10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8" dur="10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9" dur="10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0" dur="10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3" dur="1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4" dur="10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5" dur="10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6" fill="hold">
                      <p:stCondLst>
                        <p:cond delay="indefinite"/>
                      </p:stCondLst>
                      <p:childTnLst>
                        <p:par>
                          <p:cTn id="5267" fill="hold">
                            <p:stCondLst>
                              <p:cond delay="0"/>
                            </p:stCondLst>
                            <p:childTnLst>
                              <p:par>
                                <p:cTn id="5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0" dur="80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1" dur="80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2" dur="80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3" fill="hold">
                      <p:stCondLst>
                        <p:cond delay="indefinite"/>
                      </p:stCondLst>
                      <p:childTnLst>
                        <p:par>
                          <p:cTn id="5274" fill="hold">
                            <p:stCondLst>
                              <p:cond delay="0"/>
                            </p:stCondLst>
                            <p:childTnLst>
                              <p:par>
                                <p:cTn id="5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7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0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3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6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9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2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5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8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1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4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7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0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6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9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2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5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8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1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4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7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0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3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6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9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2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5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8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1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4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7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8" fill="hold">
                      <p:stCondLst>
                        <p:cond delay="indefinite"/>
                      </p:stCondLst>
                      <p:childTnLst>
                        <p:par>
                          <p:cTn id="5369" fill="hold">
                            <p:stCondLst>
                              <p:cond delay="0"/>
                            </p:stCondLst>
                            <p:childTnLst>
                              <p:par>
                                <p:cTn id="5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2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5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8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1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4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0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1" fill="hold">
                      <p:stCondLst>
                        <p:cond delay="indefinite"/>
                      </p:stCondLst>
                      <p:childTnLst>
                        <p:par>
                          <p:cTn id="5392" fill="hold">
                            <p:stCondLst>
                              <p:cond delay="0"/>
                            </p:stCondLst>
                            <p:childTnLst>
                              <p:par>
                                <p:cTn id="5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5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8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1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4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7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0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1" fill="hold">
                      <p:stCondLst>
                        <p:cond delay="indefinite"/>
                      </p:stCondLst>
                      <p:childTnLst>
                        <p:par>
                          <p:cTn id="5412" fill="hold">
                            <p:stCondLst>
                              <p:cond delay="0"/>
                            </p:stCondLst>
                            <p:childTnLst>
                              <p:par>
                                <p:cTn id="5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5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8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1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4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5" fill="hold">
                      <p:stCondLst>
                        <p:cond delay="indefinite"/>
                      </p:stCondLst>
                      <p:childTnLst>
                        <p:par>
                          <p:cTn id="5426" fill="hold">
                            <p:stCondLst>
                              <p:cond delay="0"/>
                            </p:stCondLst>
                            <p:childTnLst>
                              <p:par>
                                <p:cTn id="5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9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2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5" dur="5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8" dur="5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9" fill="hold">
                      <p:stCondLst>
                        <p:cond delay="indefinite"/>
                      </p:stCondLst>
                      <p:childTnLst>
                        <p:par>
                          <p:cTn id="5440" fill="hold">
                            <p:stCondLst>
                              <p:cond delay="0"/>
                            </p:stCondLst>
                            <p:childTnLst>
                              <p:par>
                                <p:cTn id="5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3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6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9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2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3" fill="hold">
                      <p:stCondLst>
                        <p:cond delay="indefinite"/>
                      </p:stCondLst>
                      <p:childTnLst>
                        <p:par>
                          <p:cTn id="5454" fill="hold">
                            <p:stCondLst>
                              <p:cond delay="0"/>
                            </p:stCondLst>
                            <p:childTnLst>
                              <p:par>
                                <p:cTn id="5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7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8" fill="hold">
                      <p:stCondLst>
                        <p:cond delay="indefinite"/>
                      </p:stCondLst>
                      <p:childTnLst>
                        <p:par>
                          <p:cTn id="5459" fill="hold">
                            <p:stCondLst>
                              <p:cond delay="0"/>
                            </p:stCondLst>
                            <p:childTnLst>
                              <p:par>
                                <p:cTn id="54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2" dur="10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3" dur="10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4" dur="10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5" fill="hold">
                      <p:stCondLst>
                        <p:cond delay="indefinite"/>
                      </p:stCondLst>
                      <p:childTnLst>
                        <p:par>
                          <p:cTn id="5466" fill="hold">
                            <p:stCondLst>
                              <p:cond delay="0"/>
                            </p:stCondLst>
                            <p:childTnLst>
                              <p:par>
                                <p:cTn id="5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9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2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5" dur="5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8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1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4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7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0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3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6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9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2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5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8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1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4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7" dur="500"/>
                                        <p:tgtEl>
                                          <p:spTgt spid="2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8" fill="hold">
                      <p:stCondLst>
                        <p:cond delay="indefinite"/>
                      </p:stCondLst>
                      <p:childTnLst>
                        <p:par>
                          <p:cTn id="5519" fill="hold">
                            <p:stCondLst>
                              <p:cond delay="0"/>
                            </p:stCondLst>
                            <p:childTnLst>
                              <p:par>
                                <p:cTn id="5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2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5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6" fill="hold">
                      <p:stCondLst>
                        <p:cond delay="indefinite"/>
                      </p:stCondLst>
                      <p:childTnLst>
                        <p:par>
                          <p:cTn id="5527" fill="hold">
                            <p:stCondLst>
                              <p:cond delay="0"/>
                            </p:stCondLst>
                            <p:childTnLst>
                              <p:par>
                                <p:cTn id="5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0" dur="10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1" dur="10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2" dur="10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3" fill="hold">
                      <p:stCondLst>
                        <p:cond delay="indefinite"/>
                      </p:stCondLst>
                      <p:childTnLst>
                        <p:par>
                          <p:cTn id="5534" fill="hold">
                            <p:stCondLst>
                              <p:cond delay="0"/>
                            </p:stCondLst>
                            <p:childTnLst>
                              <p:par>
                                <p:cTn id="5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7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0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3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4" fill="hold">
                      <p:stCondLst>
                        <p:cond delay="indefinite"/>
                      </p:stCondLst>
                      <p:childTnLst>
                        <p:par>
                          <p:cTn id="5545" fill="hold">
                            <p:stCondLst>
                              <p:cond delay="0"/>
                            </p:stCondLst>
                            <p:childTnLst>
                              <p:par>
                                <p:cTn id="5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8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4518000" y="258912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4462560" y="2776680"/>
            <a:ext cx="1199880" cy="66600"/>
          </a:xfrm>
          <a:custGeom>
            <a:avLst/>
            <a:gdLst/>
            <a:ahLst/>
            <a:rect l="l" t="t" r="r" b="b"/>
            <a:pathLst>
              <a:path w="756" h="42">
                <a:moveTo>
                  <a:pt x="0" y="42"/>
                </a:moveTo>
                <a:lnTo>
                  <a:pt x="28" y="0"/>
                </a:lnTo>
                <a:lnTo>
                  <a:pt x="755" y="0"/>
                </a:lnTo>
                <a:lnTo>
                  <a:pt x="756" y="3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rot="19800000">
            <a:off x="5419800" y="2363760"/>
            <a:ext cx="71280" cy="17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5435640" y="2349360"/>
            <a:ext cx="233280" cy="422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4471920" y="27338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5094360" y="24955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4859280" y="21985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4467240" y="281628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0" y="17"/>
                </a:moveTo>
                <a:cubicBezTo>
                  <a:pt x="2" y="14"/>
                  <a:pt x="9" y="4"/>
                  <a:pt x="1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4570560" y="2776680"/>
            <a:ext cx="1085760" cy="98280"/>
          </a:xfrm>
          <a:custGeom>
            <a:avLst/>
            <a:gdLst/>
            <a:ahLst/>
            <a:rect l="l" t="t" r="r" b="b"/>
            <a:pathLst>
              <a:path w="684" h="62">
                <a:moveTo>
                  <a:pt x="0" y="9"/>
                </a:moveTo>
                <a:cubicBezTo>
                  <a:pt x="24" y="15"/>
                  <a:pt x="95" y="37"/>
                  <a:pt x="144" y="45"/>
                </a:cubicBezTo>
                <a:cubicBezTo>
                  <a:pt x="193" y="53"/>
                  <a:pt x="253" y="58"/>
                  <a:pt x="297" y="60"/>
                </a:cubicBezTo>
                <a:cubicBezTo>
                  <a:pt x="341" y="62"/>
                  <a:pt x="373" y="61"/>
                  <a:pt x="411" y="57"/>
                </a:cubicBezTo>
                <a:cubicBezTo>
                  <a:pt x="449" y="53"/>
                  <a:pt x="490" y="41"/>
                  <a:pt x="525" y="33"/>
                </a:cubicBezTo>
                <a:cubicBezTo>
                  <a:pt x="560" y="25"/>
                  <a:pt x="598" y="14"/>
                  <a:pt x="624" y="9"/>
                </a:cubicBezTo>
                <a:cubicBezTo>
                  <a:pt x="650" y="4"/>
                  <a:pt x="672" y="2"/>
                  <a:pt x="68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5661000" y="2771640"/>
            <a:ext cx="1440" cy="81000"/>
          </a:xfrm>
          <a:custGeom>
            <a:avLst/>
            <a:gdLst/>
            <a:ahLst/>
            <a:rect l="l" t="t" r="r" b="b"/>
            <a:pathLst>
              <a:path w="1" h="51">
                <a:moveTo>
                  <a:pt x="0" y="51"/>
                </a:moveTo>
                <a:cubicBezTo>
                  <a:pt x="0" y="43"/>
                  <a:pt x="1" y="11"/>
                  <a:pt x="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4519440" y="2305080"/>
            <a:ext cx="0" cy="28872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 rot="19524000">
            <a:off x="5292360" y="2287440"/>
            <a:ext cx="257040" cy="106560"/>
          </a:xfrm>
          <a:custGeom>
            <a:avLst/>
            <a:gdLst/>
            <a:ahLst/>
            <a:rect l="l" t="t" r="r" b="b"/>
            <a:pathLst>
              <a:path w="162" h="67">
                <a:moveTo>
                  <a:pt x="0" y="52"/>
                </a:moveTo>
                <a:cubicBezTo>
                  <a:pt x="4" y="47"/>
                  <a:pt x="14" y="27"/>
                  <a:pt x="24" y="19"/>
                </a:cubicBezTo>
                <a:cubicBezTo>
                  <a:pt x="34" y="11"/>
                  <a:pt x="45" y="6"/>
                  <a:pt x="60" y="4"/>
                </a:cubicBezTo>
                <a:cubicBezTo>
                  <a:pt x="75" y="2"/>
                  <a:pt x="97" y="0"/>
                  <a:pt x="114" y="10"/>
                </a:cubicBezTo>
                <a:cubicBezTo>
                  <a:pt x="131" y="20"/>
                  <a:pt x="152" y="55"/>
                  <a:pt x="162" y="67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5079960" y="1909800"/>
            <a:ext cx="57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4297320" y="1987560"/>
            <a:ext cx="57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4883040" y="3186000"/>
            <a:ext cx="406440" cy="35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4863960" y="3168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3195720" y="2205000"/>
            <a:ext cx="11523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рузов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М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7121520" y="3178080"/>
            <a:ext cx="503280" cy="43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7121520" y="3171960"/>
            <a:ext cx="52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6972480" y="2476440"/>
            <a:ext cx="1152360" cy="459000"/>
          </a:xfrm>
          <a:custGeom>
            <a:avLst/>
            <a:gdLst/>
            <a:ahLst/>
            <a:rect l="l" t="t" r="r" b="b"/>
            <a:pathLst>
              <a:path w="726" h="289">
                <a:moveTo>
                  <a:pt x="0" y="182"/>
                </a:moveTo>
                <a:lnTo>
                  <a:pt x="358" y="289"/>
                </a:lnTo>
                <a:lnTo>
                  <a:pt x="726" y="0"/>
                </a:lnTo>
                <a:lnTo>
                  <a:pt x="726" y="18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7535880" y="27590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7908840" y="2770200"/>
            <a:ext cx="615960" cy="914400"/>
          </a:xfrm>
          <a:custGeom>
            <a:avLst/>
            <a:gdLst/>
            <a:ahLst/>
            <a:rect l="l" t="t" r="r" b="b"/>
            <a:pathLst>
              <a:path w="388" h="576">
                <a:moveTo>
                  <a:pt x="136" y="4"/>
                </a:moveTo>
                <a:cubicBezTo>
                  <a:pt x="175" y="3"/>
                  <a:pt x="248" y="4"/>
                  <a:pt x="372" y="0"/>
                </a:cubicBezTo>
                <a:cubicBezTo>
                  <a:pt x="280" y="40"/>
                  <a:pt x="264" y="51"/>
                  <a:pt x="224" y="72"/>
                </a:cubicBezTo>
                <a:cubicBezTo>
                  <a:pt x="184" y="93"/>
                  <a:pt x="163" y="105"/>
                  <a:pt x="132" y="128"/>
                </a:cubicBezTo>
                <a:cubicBezTo>
                  <a:pt x="101" y="151"/>
                  <a:pt x="58" y="183"/>
                  <a:pt x="36" y="212"/>
                </a:cubicBezTo>
                <a:cubicBezTo>
                  <a:pt x="14" y="241"/>
                  <a:pt x="0" y="274"/>
                  <a:pt x="0" y="304"/>
                </a:cubicBezTo>
                <a:cubicBezTo>
                  <a:pt x="0" y="334"/>
                  <a:pt x="15" y="367"/>
                  <a:pt x="36" y="392"/>
                </a:cubicBezTo>
                <a:cubicBezTo>
                  <a:pt x="57" y="417"/>
                  <a:pt x="95" y="437"/>
                  <a:pt x="128" y="456"/>
                </a:cubicBezTo>
                <a:cubicBezTo>
                  <a:pt x="161" y="475"/>
                  <a:pt x="189" y="488"/>
                  <a:pt x="232" y="508"/>
                </a:cubicBezTo>
                <a:cubicBezTo>
                  <a:pt x="275" y="528"/>
                  <a:pt x="312" y="544"/>
                  <a:pt x="388" y="576"/>
                </a:cubicBezTo>
                <a:cubicBezTo>
                  <a:pt x="268" y="572"/>
                  <a:pt x="188" y="574"/>
                  <a:pt x="136" y="574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6300720" y="2770200"/>
            <a:ext cx="1824120" cy="911160"/>
          </a:xfrm>
          <a:custGeom>
            <a:avLst/>
            <a:gdLst/>
            <a:ahLst/>
            <a:rect l="l" t="t" r="r" b="b"/>
            <a:pathLst>
              <a:path w="1149" h="574">
                <a:moveTo>
                  <a:pt x="0" y="574"/>
                </a:moveTo>
                <a:lnTo>
                  <a:pt x="422" y="0"/>
                </a:lnTo>
                <a:lnTo>
                  <a:pt x="1149" y="0"/>
                </a:lnTo>
                <a:lnTo>
                  <a:pt x="1149" y="5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rot="16200000">
            <a:off x="6176520" y="3055680"/>
            <a:ext cx="174960" cy="358920"/>
          </a:xfrm>
          <a:prstGeom prst="downArrow">
            <a:avLst>
              <a:gd name="adj1" fmla="val 50000"/>
              <a:gd name="adj2" fmla="val 51286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60360" y="1001880"/>
            <a:ext cx="2771640" cy="9061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собы опред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эффициенто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 свободных члено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нонических урав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55480" y="2274840"/>
            <a:ext cx="1366920" cy="31320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т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1833480" y="2062080"/>
            <a:ext cx="1295640" cy="72252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из усло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равновес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 и ча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ОСМ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1152360" y="1920960"/>
            <a:ext cx="174960" cy="358560"/>
          </a:xfrm>
          <a:prstGeom prst="downArrow">
            <a:avLst>
              <a:gd name="adj1" fmla="val 50000"/>
              <a:gd name="adj2" fmla="val 51235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376200" y="1920960"/>
            <a:ext cx="174600" cy="1201680"/>
          </a:xfrm>
          <a:prstGeom prst="downArrow">
            <a:avLst>
              <a:gd name="adj1" fmla="val 41815"/>
              <a:gd name="adj2" fmla="val 60954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366840" y="3125880"/>
            <a:ext cx="1552320" cy="288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кинема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822320" y="2867040"/>
            <a:ext cx="129564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перемножение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эпю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1827360" y="3335400"/>
            <a:ext cx="1295280" cy="598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через работ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концевых уси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и узловых нагруз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 rot="13906800">
            <a:off x="1860840" y="3075120"/>
            <a:ext cx="103320" cy="158760"/>
          </a:xfrm>
          <a:prstGeom prst="downArrow">
            <a:avLst>
              <a:gd name="adj1" fmla="val 51537"/>
              <a:gd name="adj2" fmla="val 55203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rot="18479400">
            <a:off x="1872360" y="3310560"/>
            <a:ext cx="102960" cy="158760"/>
          </a:xfrm>
          <a:prstGeom prst="downArrow">
            <a:avLst>
              <a:gd name="adj1" fmla="val 51537"/>
              <a:gd name="adj2" fmla="val 55396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5000760" y="2905200"/>
            <a:ext cx="179280" cy="17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4956120" y="285264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4410000" y="2806560"/>
            <a:ext cx="9072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5605560" y="27082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4591080" y="272736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H="1">
            <a:off x="5592600" y="28400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5295960" y="247968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4132440" y="260496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4443480" y="247968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330880" y="271296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594400" y="2703600"/>
            <a:ext cx="142920" cy="144360"/>
          </a:xfrm>
          <a:prstGeom prst="ellipse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695920" y="2060640"/>
            <a:ext cx="1108080" cy="650880"/>
          </a:xfrm>
          <a:custGeom>
            <a:avLst/>
            <a:gdLst/>
            <a:ahLst/>
            <a:rect l="l" t="t" r="r" b="b"/>
            <a:pathLst>
              <a:path w="789" h="637">
                <a:moveTo>
                  <a:pt x="0" y="637"/>
                </a:moveTo>
                <a:cubicBezTo>
                  <a:pt x="17" y="607"/>
                  <a:pt x="55" y="520"/>
                  <a:pt x="108" y="454"/>
                </a:cubicBezTo>
                <a:cubicBezTo>
                  <a:pt x="161" y="388"/>
                  <a:pt x="241" y="302"/>
                  <a:pt x="316" y="241"/>
                </a:cubicBezTo>
                <a:cubicBezTo>
                  <a:pt x="391" y="180"/>
                  <a:pt x="481" y="129"/>
                  <a:pt x="560" y="89"/>
                </a:cubicBezTo>
                <a:cubicBezTo>
                  <a:pt x="639" y="49"/>
                  <a:pt x="741" y="19"/>
                  <a:pt x="789" y="0"/>
                </a:cubicBezTo>
              </a:path>
            </a:pathLst>
          </a:custGeom>
          <a:noFill/>
          <a:ln w="12600">
            <a:solidFill>
              <a:srgbClr val="a50021"/>
            </a:solidFill>
            <a:round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7229520" y="1665360"/>
            <a:ext cx="288720" cy="2887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0" y="0"/>
                </a:moveTo>
                <a:lnTo>
                  <a:pt x="182" y="0"/>
                </a:lnTo>
                <a:lnTo>
                  <a:pt x="182" y="1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7229520" y="1593720"/>
            <a:ext cx="0" cy="14472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 flipH="1">
            <a:off x="7445160" y="1954080"/>
            <a:ext cx="14436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7380360" y="1390680"/>
            <a:ext cx="144360" cy="2682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>
            <a:off x="7308360" y="1365120"/>
            <a:ext cx="142920" cy="7164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7124760" y="162072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440480" y="165888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7250040" y="1281240"/>
            <a:ext cx="300240" cy="191880"/>
          </a:xfrm>
          <a:custGeom>
            <a:avLst/>
            <a:gdLst/>
            <a:ahLst/>
            <a:rect l="l" t="t" r="r" b="b"/>
            <a:pathLst>
              <a:path w="189" h="121">
                <a:moveTo>
                  <a:pt x="4" y="121"/>
                </a:moveTo>
                <a:cubicBezTo>
                  <a:pt x="5" y="111"/>
                  <a:pt x="0" y="79"/>
                  <a:pt x="8" y="61"/>
                </a:cubicBezTo>
                <a:cubicBezTo>
                  <a:pt x="16" y="43"/>
                  <a:pt x="34" y="22"/>
                  <a:pt x="52" y="13"/>
                </a:cubicBezTo>
                <a:cubicBezTo>
                  <a:pt x="70" y="4"/>
                  <a:pt x="93" y="0"/>
                  <a:pt x="116" y="5"/>
                </a:cubicBezTo>
                <a:cubicBezTo>
                  <a:pt x="139" y="10"/>
                  <a:pt x="174" y="34"/>
                  <a:pt x="189" y="42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7015320" y="939960"/>
            <a:ext cx="571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7520040" y="19605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>
            <a:off x="7167240" y="1989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>
            <a:off x="6859080" y="16621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 flipV="1">
            <a:off x="7192800" y="13806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7332840" y="1963800"/>
            <a:ext cx="309240" cy="172800"/>
          </a:xfrm>
          <a:custGeom>
            <a:avLst/>
            <a:gdLst/>
            <a:ahLst/>
            <a:rect l="l" t="t" r="r" b="b"/>
            <a:pathLst>
              <a:path w="195" h="109">
                <a:moveTo>
                  <a:pt x="195" y="0"/>
                </a:moveTo>
                <a:cubicBezTo>
                  <a:pt x="193" y="9"/>
                  <a:pt x="195" y="43"/>
                  <a:pt x="186" y="60"/>
                </a:cubicBezTo>
                <a:cubicBezTo>
                  <a:pt x="177" y="77"/>
                  <a:pt x="160" y="97"/>
                  <a:pt x="140" y="103"/>
                </a:cubicBezTo>
                <a:cubicBezTo>
                  <a:pt x="120" y="109"/>
                  <a:pt x="87" y="109"/>
                  <a:pt x="64" y="99"/>
                </a:cubicBezTo>
                <a:cubicBezTo>
                  <a:pt x="41" y="89"/>
                  <a:pt x="13" y="57"/>
                  <a:pt x="0" y="4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7037280" y="1496880"/>
            <a:ext cx="174600" cy="336600"/>
          </a:xfrm>
          <a:custGeom>
            <a:avLst/>
            <a:gdLst/>
            <a:ahLst/>
            <a:rect l="l" t="t" r="r" b="b"/>
            <a:pathLst>
              <a:path w="110" h="212">
                <a:moveTo>
                  <a:pt x="59" y="0"/>
                </a:moveTo>
                <a:cubicBezTo>
                  <a:pt x="52" y="6"/>
                  <a:pt x="28" y="23"/>
                  <a:pt x="19" y="40"/>
                </a:cubicBezTo>
                <a:cubicBezTo>
                  <a:pt x="10" y="57"/>
                  <a:pt x="0" y="77"/>
                  <a:pt x="3" y="100"/>
                </a:cubicBezTo>
                <a:cubicBezTo>
                  <a:pt x="6" y="123"/>
                  <a:pt x="17" y="157"/>
                  <a:pt x="35" y="176"/>
                </a:cubicBezTo>
                <a:cubicBezTo>
                  <a:pt x="53" y="195"/>
                  <a:pt x="95" y="204"/>
                  <a:pt x="110" y="2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6575400" y="1677960"/>
            <a:ext cx="71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6861240" y="1976400"/>
            <a:ext cx="71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7812000" y="2141640"/>
            <a:ext cx="574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8315280" y="2502000"/>
            <a:ext cx="574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,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4387680" y="2390760"/>
            <a:ext cx="1409760" cy="720720"/>
          </a:xfrm>
          <a:custGeom>
            <a:avLst/>
            <a:gdLst/>
            <a:ahLst/>
            <a:rect l="l" t="t" r="r" b="b"/>
            <a:pathLst>
              <a:path w="888" h="454">
                <a:moveTo>
                  <a:pt x="245" y="51"/>
                </a:moveTo>
                <a:cubicBezTo>
                  <a:pt x="234" y="62"/>
                  <a:pt x="204" y="105"/>
                  <a:pt x="176" y="117"/>
                </a:cubicBezTo>
                <a:cubicBezTo>
                  <a:pt x="148" y="129"/>
                  <a:pt x="104" y="118"/>
                  <a:pt x="77" y="126"/>
                </a:cubicBezTo>
                <a:cubicBezTo>
                  <a:pt x="50" y="134"/>
                  <a:pt x="22" y="148"/>
                  <a:pt x="11" y="168"/>
                </a:cubicBezTo>
                <a:cubicBezTo>
                  <a:pt x="0" y="188"/>
                  <a:pt x="0" y="227"/>
                  <a:pt x="11" y="249"/>
                </a:cubicBezTo>
                <a:cubicBezTo>
                  <a:pt x="22" y="271"/>
                  <a:pt x="36" y="274"/>
                  <a:pt x="77" y="300"/>
                </a:cubicBezTo>
                <a:cubicBezTo>
                  <a:pt x="118" y="326"/>
                  <a:pt x="199" y="380"/>
                  <a:pt x="260" y="405"/>
                </a:cubicBezTo>
                <a:cubicBezTo>
                  <a:pt x="321" y="430"/>
                  <a:pt x="397" y="452"/>
                  <a:pt x="446" y="453"/>
                </a:cubicBezTo>
                <a:cubicBezTo>
                  <a:pt x="495" y="454"/>
                  <a:pt x="526" y="436"/>
                  <a:pt x="557" y="414"/>
                </a:cubicBezTo>
                <a:cubicBezTo>
                  <a:pt x="588" y="392"/>
                  <a:pt x="606" y="344"/>
                  <a:pt x="632" y="321"/>
                </a:cubicBezTo>
                <a:cubicBezTo>
                  <a:pt x="658" y="298"/>
                  <a:pt x="678" y="283"/>
                  <a:pt x="713" y="276"/>
                </a:cubicBezTo>
                <a:cubicBezTo>
                  <a:pt x="748" y="269"/>
                  <a:pt x="816" y="292"/>
                  <a:pt x="845" y="279"/>
                </a:cubicBezTo>
                <a:cubicBezTo>
                  <a:pt x="874" y="266"/>
                  <a:pt x="886" y="230"/>
                  <a:pt x="887" y="200"/>
                </a:cubicBezTo>
                <a:cubicBezTo>
                  <a:pt x="888" y="170"/>
                  <a:pt x="875" y="119"/>
                  <a:pt x="854" y="99"/>
                </a:cubicBezTo>
                <a:cubicBezTo>
                  <a:pt x="833" y="79"/>
                  <a:pt x="787" y="78"/>
                  <a:pt x="758" y="78"/>
                </a:cubicBezTo>
                <a:cubicBezTo>
                  <a:pt x="729" y="78"/>
                  <a:pt x="705" y="99"/>
                  <a:pt x="677" y="99"/>
                </a:cubicBezTo>
                <a:cubicBezTo>
                  <a:pt x="649" y="99"/>
                  <a:pt x="612" y="97"/>
                  <a:pt x="587" y="81"/>
                </a:cubicBezTo>
                <a:cubicBezTo>
                  <a:pt x="562" y="65"/>
                  <a:pt x="537" y="17"/>
                  <a:pt x="524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4211280" y="2852640"/>
            <a:ext cx="24444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5661000" y="28479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3943440" y="3137040"/>
            <a:ext cx="71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5413320" y="3111480"/>
            <a:ext cx="71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H="1">
            <a:off x="5662080" y="287172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5843520" y="2637000"/>
            <a:ext cx="71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5499000" y="2924280"/>
            <a:ext cx="252360" cy="125280"/>
          </a:xfrm>
          <a:custGeom>
            <a:avLst/>
            <a:gdLst/>
            <a:ahLst/>
            <a:rect l="l" t="t" r="r" b="b"/>
            <a:pathLst>
              <a:path w="159" h="79">
                <a:moveTo>
                  <a:pt x="159" y="0"/>
                </a:moveTo>
                <a:cubicBezTo>
                  <a:pt x="157" y="7"/>
                  <a:pt x="155" y="28"/>
                  <a:pt x="148" y="40"/>
                </a:cubicBezTo>
                <a:cubicBezTo>
                  <a:pt x="141" y="52"/>
                  <a:pt x="132" y="64"/>
                  <a:pt x="118" y="70"/>
                </a:cubicBezTo>
                <a:cubicBezTo>
                  <a:pt x="104" y="76"/>
                  <a:pt x="84" y="79"/>
                  <a:pt x="64" y="76"/>
                </a:cubicBezTo>
                <a:cubicBezTo>
                  <a:pt x="44" y="73"/>
                  <a:pt x="13" y="56"/>
                  <a:pt x="0" y="5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5624640" y="2833560"/>
            <a:ext cx="714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,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 flipV="1">
            <a:off x="4657680" y="1125360"/>
            <a:ext cx="993960" cy="145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V="1">
            <a:off x="5651640" y="112500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5638680" y="1100160"/>
            <a:ext cx="36720" cy="3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5249880" y="8953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3892680" y="981000"/>
            <a:ext cx="12240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4429080" y="1432080"/>
            <a:ext cx="174600" cy="236520"/>
          </a:xfrm>
          <a:prstGeom prst="downArrow">
            <a:avLst>
              <a:gd name="adj1" fmla="val 54546"/>
              <a:gd name="adj2" fmla="val 73125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4303800" y="1595520"/>
            <a:ext cx="5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4019400" y="981000"/>
            <a:ext cx="971640" cy="1008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651640" y="98100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6116760" y="1392120"/>
            <a:ext cx="174600" cy="236520"/>
          </a:xfrm>
          <a:prstGeom prst="downArrow">
            <a:avLst>
              <a:gd name="adj1" fmla="val 54546"/>
              <a:gd name="adj2" fmla="val 73125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5978520" y="1569960"/>
            <a:ext cx="57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5700600" y="981000"/>
            <a:ext cx="979560" cy="1008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1114560" y="4029120"/>
            <a:ext cx="68421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   к и н е м а т и ч е с к и м    м е т о д о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1017720" y="4335480"/>
            <a:ext cx="31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способом перемножения эпю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4881600" y="4389480"/>
            <a:ext cx="316872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через работу концевых усил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узловых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539640" y="4572000"/>
                <a:ext cx="41036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93720" y="5211720"/>
                <a:ext cx="38656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 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 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106960" y="4965840"/>
                <a:ext cx="29624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Σ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, 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96" name=""/>
          <p:cNvSpPr/>
          <p:nvPr/>
        </p:nvSpPr>
        <p:spPr>
          <a:xfrm flipV="1">
            <a:off x="5807160" y="5295960"/>
            <a:ext cx="135000" cy="195120"/>
          </a:xfrm>
          <a:prstGeom prst="downArrow">
            <a:avLst>
              <a:gd name="adj1" fmla="val 49093"/>
              <a:gd name="adj2" fmla="val 65963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 flipV="1">
            <a:off x="6588000" y="5299200"/>
            <a:ext cx="135000" cy="195120"/>
          </a:xfrm>
          <a:prstGeom prst="downArrow">
            <a:avLst>
              <a:gd name="adj1" fmla="val 49093"/>
              <a:gd name="adj2" fmla="val 65963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5421240" y="543384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возможные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5810400" y="5695920"/>
            <a:ext cx="134640" cy="198360"/>
          </a:xfrm>
          <a:prstGeom prst="downArrow">
            <a:avLst>
              <a:gd name="adj1" fmla="val 49093"/>
              <a:gd name="adj2" fmla="val 67238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6593040" y="5697360"/>
            <a:ext cx="134640" cy="198720"/>
          </a:xfrm>
          <a:prstGeom prst="downArrow">
            <a:avLst>
              <a:gd name="adj1" fmla="val 49093"/>
              <a:gd name="adj2" fmla="val 67360"/>
            </a:avLst>
          </a:prstGeom>
          <a:solidFill>
            <a:srgbClr val="d6ece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354640" y="5872320"/>
            <a:ext cx="936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концев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си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6261120" y="5873760"/>
            <a:ext cx="936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4827600" y="6222960"/>
            <a:ext cx="273528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а перемещениях от единич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мещения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й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вя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7634160" y="5500800"/>
                <a:ext cx="13384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i,k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n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5" name=""/>
          <p:cNvSpPr/>
          <p:nvPr/>
        </p:nvSpPr>
        <p:spPr>
          <a:xfrm>
            <a:off x="7562880" y="5651640"/>
            <a:ext cx="0" cy="50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3025800" y="620640"/>
            <a:ext cx="5865840" cy="33660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ределение реакций связей в ОСМП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ч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е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к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м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м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е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 flipV="1" rot="5400000">
            <a:off x="4276080" y="4276440"/>
            <a:ext cx="215640" cy="360360"/>
          </a:xfrm>
          <a:custGeom>
            <a:avLst/>
            <a:gdLst>
              <a:gd name="textAreaLeft" fmla="*/ 75960 w 215640"/>
              <a:gd name="textAreaRight" fmla="*/ 188640 w 215640"/>
              <a:gd name="textAreaTop" fmla="*/ 224280 h 360360"/>
              <a:gd name="textAreaBottom" fmla="*/ 315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6154"/>
                </a:moveTo>
                <a:lnTo>
                  <a:pt x="13453" y="16154"/>
                </a:lnTo>
                <a:lnTo>
                  <a:pt x="13453" y="7623"/>
                </a:lnTo>
                <a:lnTo>
                  <a:pt x="10752" y="7623"/>
                </a:lnTo>
                <a:lnTo>
                  <a:pt x="16176" y="0"/>
                </a:lnTo>
                <a:lnTo>
                  <a:pt x="21600" y="7623"/>
                </a:lnTo>
                <a:lnTo>
                  <a:pt x="18899" y="7623"/>
                </a:lnTo>
                <a:lnTo>
                  <a:pt x="188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 flipH="1" flipV="1" rot="16200000">
            <a:off x="4532400" y="4276440"/>
            <a:ext cx="215640" cy="360360"/>
          </a:xfrm>
          <a:custGeom>
            <a:avLst/>
            <a:gdLst>
              <a:gd name="textAreaLeft" fmla="*/ 75960 w 215640"/>
              <a:gd name="textAreaRight" fmla="*/ 188640 w 215640"/>
              <a:gd name="textAreaTop" fmla="*/ 224280 h 360360"/>
              <a:gd name="textAreaBottom" fmla="*/ 315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6154"/>
                </a:moveTo>
                <a:lnTo>
                  <a:pt x="13453" y="16154"/>
                </a:lnTo>
                <a:lnTo>
                  <a:pt x="13453" y="7623"/>
                </a:lnTo>
                <a:lnTo>
                  <a:pt x="10752" y="7623"/>
                </a:lnTo>
                <a:lnTo>
                  <a:pt x="16176" y="0"/>
                </a:lnTo>
                <a:lnTo>
                  <a:pt x="21600" y="7623"/>
                </a:lnTo>
                <a:lnTo>
                  <a:pt x="18899" y="7623"/>
                </a:lnTo>
                <a:lnTo>
                  <a:pt x="188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9" dur="indefinite" restart="never" nodeType="tmRoot">
          <p:childTnLst>
            <p:seq>
              <p:cTn id="5550" dur="indefinite" nodeType="mainSeq">
                <p:childTnLst>
                  <p:par>
                    <p:cTn id="5551" fill="hold">
                      <p:stCondLst>
                        <p:cond delay="0"/>
                      </p:stCondLst>
                      <p:childTnLst>
                        <p:par>
                          <p:cTn id="5552" fill="hold">
                            <p:stCondLst>
                              <p:cond delay="0"/>
                            </p:stCondLst>
                            <p:childTnLst>
                              <p:par>
                                <p:cTn id="5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5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8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1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4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5" fill="hold">
                      <p:stCondLst>
                        <p:cond delay="indefinite"/>
                      </p:stCondLst>
                      <p:childTnLst>
                        <p:par>
                          <p:cTn id="5566" fill="hold">
                            <p:stCondLst>
                              <p:cond delay="0"/>
                            </p:stCondLst>
                            <p:childTnLst>
                              <p:par>
                                <p:cTn id="55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9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0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1" dur="10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2" fill="hold">
                      <p:stCondLst>
                        <p:cond delay="indefinite"/>
                      </p:stCondLst>
                      <p:childTnLst>
                        <p:par>
                          <p:cTn id="5573" fill="hold">
                            <p:stCondLst>
                              <p:cond delay="0"/>
                            </p:stCondLst>
                            <p:childTnLst>
                              <p:par>
                                <p:cTn id="5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6" dur="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9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2" dur="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3" fill="hold">
                      <p:stCondLst>
                        <p:cond delay="indefinite"/>
                      </p:stCondLst>
                      <p:childTnLst>
                        <p:par>
                          <p:cTn id="5584" fill="hold">
                            <p:stCondLst>
                              <p:cond delay="0"/>
                            </p:stCondLst>
                            <p:childTnLst>
                              <p:par>
                                <p:cTn id="5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7" dur="80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8" dur="80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9" dur="80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0" fill="hold">
                      <p:stCondLst>
                        <p:cond delay="indefinite"/>
                      </p:stCondLst>
                      <p:childTnLst>
                        <p:par>
                          <p:cTn id="5591" fill="hold">
                            <p:stCondLst>
                              <p:cond delay="0"/>
                            </p:stCondLst>
                            <p:childTnLst>
                              <p:par>
                                <p:cTn id="5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4" dur="10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5" dur="10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6" dur="10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9" dur="10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0" dur="10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1" dur="10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2" fill="hold">
                      <p:stCondLst>
                        <p:cond delay="indefinite"/>
                      </p:stCondLst>
                      <p:childTnLst>
                        <p:par>
                          <p:cTn id="5603" fill="hold">
                            <p:stCondLst>
                              <p:cond delay="0"/>
                            </p:stCondLst>
                            <p:childTnLst>
                              <p:par>
                                <p:cTn id="56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6" dur="10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7" dur="1000" fill="hold"/>
                                        <p:tgtEl>
                                          <p:spTgt spid="2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8" dur="10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9" fill="hold">
                      <p:stCondLst>
                        <p:cond delay="indefinite"/>
                      </p:stCondLst>
                      <p:childTnLst>
                        <p:par>
                          <p:cTn id="5610" fill="hold">
                            <p:stCondLst>
                              <p:cond delay="0"/>
                            </p:stCondLst>
                            <p:childTnLst>
                              <p:par>
                                <p:cTn id="5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3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4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5" dur="10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6" fill="hold">
                      <p:stCondLst>
                        <p:cond delay="indefinite"/>
                      </p:stCondLst>
                      <p:childTnLst>
                        <p:par>
                          <p:cTn id="5617" fill="hold">
                            <p:stCondLst>
                              <p:cond delay="0"/>
                            </p:stCondLst>
                            <p:childTnLst>
                              <p:par>
                                <p:cTn id="5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0" dur="10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1" dur="10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2" dur="10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5" dur="10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6" dur="10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7" dur="10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8" fill="hold">
                      <p:stCondLst>
                        <p:cond delay="indefinite"/>
                      </p:stCondLst>
                      <p:childTnLst>
                        <p:par>
                          <p:cTn id="5629" fill="hold">
                            <p:stCondLst>
                              <p:cond delay="0"/>
                            </p:stCondLst>
                            <p:childTnLst>
                              <p:par>
                                <p:cTn id="5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2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3" fill="hold">
                      <p:stCondLst>
                        <p:cond delay="indefinite"/>
                      </p:stCondLst>
                      <p:childTnLst>
                        <p:par>
                          <p:cTn id="5634" fill="hold">
                            <p:stCondLst>
                              <p:cond delay="0"/>
                            </p:stCondLst>
                            <p:childTnLst>
                              <p:par>
                                <p:cTn id="5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7" dur="5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0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3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4" fill="hold">
                      <p:stCondLst>
                        <p:cond delay="indefinite"/>
                      </p:stCondLst>
                      <p:childTnLst>
                        <p:par>
                          <p:cTn id="5645" fill="hold">
                            <p:stCondLst>
                              <p:cond delay="0"/>
                            </p:stCondLst>
                            <p:childTnLst>
                              <p:par>
                                <p:cTn id="5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8" dur="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1" dur="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2" fill="hold">
                      <p:stCondLst>
                        <p:cond delay="indefinite"/>
                      </p:stCondLst>
                      <p:childTnLst>
                        <p:par>
                          <p:cTn id="5653" fill="hold">
                            <p:stCondLst>
                              <p:cond delay="0"/>
                            </p:stCondLst>
                            <p:childTnLst>
                              <p:par>
                                <p:cTn id="5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9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0" fill="hold">
                      <p:stCondLst>
                        <p:cond delay="indefinite"/>
                      </p:stCondLst>
                      <p:childTnLst>
                        <p:par>
                          <p:cTn id="5661" fill="hold">
                            <p:stCondLst>
                              <p:cond delay="0"/>
                            </p:stCondLst>
                            <p:childTnLst>
                              <p:par>
                                <p:cTn id="56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4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5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6" dur="10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7" fill="hold">
                      <p:stCondLst>
                        <p:cond delay="indefinite"/>
                      </p:stCondLst>
                      <p:childTnLst>
                        <p:par>
                          <p:cTn id="5668" fill="hold">
                            <p:stCondLst>
                              <p:cond delay="0"/>
                            </p:stCondLst>
                            <p:childTnLst>
                              <p:par>
                                <p:cTn id="5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1" dur="1000" fill="hold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2" dur="1000" fill="hold"/>
                                        <p:tgtEl>
                                          <p:spTgt spid="2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3" dur="10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6" dur="10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7" dur="10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8" dur="10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1280" y="1047600"/>
            <a:ext cx="71280" cy="21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677880" y="10476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684360" y="1158840"/>
            <a:ext cx="1439640" cy="180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68360" y="299880"/>
            <a:ext cx="8194680" cy="36828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иповые элементы плоской основной систем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585720" y="82080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1827360" y="81900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2124000" y="1054080"/>
            <a:ext cx="71640" cy="214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2119320" y="1054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571680" y="1108080"/>
            <a:ext cx="512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711440" y="1106640"/>
            <a:ext cx="512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906480" y="1143000"/>
            <a:ext cx="96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1030320" y="727200"/>
            <a:ext cx="72072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п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2674800" y="1047600"/>
            <a:ext cx="71640" cy="21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2741760" y="10476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2747880" y="1158840"/>
            <a:ext cx="1440000" cy="180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2649600" y="82080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3890880" y="81900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4187880" y="1054080"/>
            <a:ext cx="71280" cy="21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4183200" y="1054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2970360" y="1136520"/>
            <a:ext cx="96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3094200" y="727200"/>
            <a:ext cx="72072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п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4137120" y="111276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4759200" y="1047600"/>
            <a:ext cx="71640" cy="214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826160" y="10476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4832280" y="1158840"/>
            <a:ext cx="1440000" cy="180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4734000" y="82080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5975280" y="81900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6272280" y="1054080"/>
            <a:ext cx="71280" cy="214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6267600" y="1054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4719600" y="1108080"/>
            <a:ext cx="512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5859360" y="1106640"/>
            <a:ext cx="51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5022720" y="1143000"/>
            <a:ext cx="1020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5178600" y="727200"/>
            <a:ext cx="72072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п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6846840" y="1047600"/>
            <a:ext cx="71640" cy="214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6913440" y="10476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6919920" y="1158840"/>
            <a:ext cx="1440000" cy="180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6821640" y="820800"/>
            <a:ext cx="393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8062920" y="81900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8359920" y="1054080"/>
            <a:ext cx="71280" cy="214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54880" y="1054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807240" y="1108080"/>
            <a:ext cx="512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7947000" y="1106640"/>
            <a:ext cx="512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7142040" y="1143000"/>
            <a:ext cx="97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7265880" y="727200"/>
            <a:ext cx="72072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п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4781520" y="111276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6222960" y="111276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6864480" y="11080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8310600" y="111276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455760" y="1459080"/>
            <a:ext cx="8194680" cy="39888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Реакции связей и внутренние усилия в типовых элементах плоской ОС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2484360" y="1824120"/>
            <a:ext cx="41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) от смещений связей 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цевых сечений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2214720" y="28274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2230560" y="2825640"/>
            <a:ext cx="1276200" cy="144720"/>
          </a:xfrm>
          <a:custGeom>
            <a:avLst/>
            <a:gdLst/>
            <a:ahLst/>
            <a:rect l="l" t="t" r="r" b="b"/>
            <a:pathLst>
              <a:path w="804" h="105">
                <a:moveTo>
                  <a:pt x="0" y="8"/>
                </a:moveTo>
                <a:cubicBezTo>
                  <a:pt x="14" y="17"/>
                  <a:pt x="54" y="49"/>
                  <a:pt x="84" y="64"/>
                </a:cubicBezTo>
                <a:cubicBezTo>
                  <a:pt x="114" y="79"/>
                  <a:pt x="145" y="89"/>
                  <a:pt x="180" y="96"/>
                </a:cubicBezTo>
                <a:cubicBezTo>
                  <a:pt x="215" y="103"/>
                  <a:pt x="255" y="105"/>
                  <a:pt x="292" y="104"/>
                </a:cubicBezTo>
                <a:cubicBezTo>
                  <a:pt x="329" y="103"/>
                  <a:pt x="363" y="99"/>
                  <a:pt x="400" y="92"/>
                </a:cubicBezTo>
                <a:cubicBezTo>
                  <a:pt x="437" y="85"/>
                  <a:pt x="474" y="71"/>
                  <a:pt x="512" y="60"/>
                </a:cubicBezTo>
                <a:cubicBezTo>
                  <a:pt x="550" y="49"/>
                  <a:pt x="591" y="33"/>
                  <a:pt x="628" y="24"/>
                </a:cubicBezTo>
                <a:cubicBezTo>
                  <a:pt x="665" y="15"/>
                  <a:pt x="703" y="8"/>
                  <a:pt x="732" y="4"/>
                </a:cubicBezTo>
                <a:cubicBezTo>
                  <a:pt x="761" y="0"/>
                  <a:pt x="789" y="1"/>
                  <a:pt x="80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2162160" y="3665520"/>
            <a:ext cx="1441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2233440" y="3668760"/>
            <a:ext cx="1295640" cy="144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844720" y="36831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2914560" y="36147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2843280" y="3740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3844800" y="3568680"/>
            <a:ext cx="285840" cy="29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835440" y="3543480"/>
            <a:ext cx="342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1698480" y="2637000"/>
            <a:ext cx="592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4029120" y="2181240"/>
            <a:ext cx="601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1692360" y="2878200"/>
            <a:ext cx="601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2247840" y="435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2247840" y="4344840"/>
            <a:ext cx="1309680" cy="160560"/>
          </a:xfrm>
          <a:custGeom>
            <a:avLst/>
            <a:gdLst/>
            <a:ahLst/>
            <a:rect l="l" t="t" r="r" b="b"/>
            <a:pathLst>
              <a:path w="825" h="101">
                <a:moveTo>
                  <a:pt x="0" y="0"/>
                </a:moveTo>
                <a:cubicBezTo>
                  <a:pt x="13" y="6"/>
                  <a:pt x="51" y="27"/>
                  <a:pt x="80" y="39"/>
                </a:cubicBezTo>
                <a:cubicBezTo>
                  <a:pt x="109" y="51"/>
                  <a:pt x="140" y="64"/>
                  <a:pt x="177" y="74"/>
                </a:cubicBezTo>
                <a:cubicBezTo>
                  <a:pt x="214" y="84"/>
                  <a:pt x="255" y="93"/>
                  <a:pt x="301" y="97"/>
                </a:cubicBezTo>
                <a:cubicBezTo>
                  <a:pt x="347" y="101"/>
                  <a:pt x="408" y="99"/>
                  <a:pt x="453" y="96"/>
                </a:cubicBezTo>
                <a:cubicBezTo>
                  <a:pt x="498" y="93"/>
                  <a:pt x="530" y="88"/>
                  <a:pt x="569" y="81"/>
                </a:cubicBezTo>
                <a:cubicBezTo>
                  <a:pt x="608" y="74"/>
                  <a:pt x="647" y="65"/>
                  <a:pt x="690" y="52"/>
                </a:cubicBezTo>
                <a:cubicBezTo>
                  <a:pt x="733" y="39"/>
                  <a:pt x="797" y="15"/>
                  <a:pt x="825" y="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560760" y="44085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2247840" y="4591080"/>
            <a:ext cx="5716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3102120" y="4591080"/>
            <a:ext cx="4572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2162160" y="5173560"/>
            <a:ext cx="14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2260440" y="5180040"/>
            <a:ext cx="1281240" cy="1141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2852640" y="518004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3471840" y="558972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2852640" y="5237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2201760" y="5386320"/>
            <a:ext cx="592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2717640" y="445464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de-DE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6237360" y="2932200"/>
            <a:ext cx="1298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6237360" y="280980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7539120" y="2828880"/>
            <a:ext cx="0" cy="34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6224400" y="3114720"/>
            <a:ext cx="5713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7072200" y="3114720"/>
            <a:ext cx="4572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6110280" y="3941640"/>
            <a:ext cx="1600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6234120" y="3784680"/>
            <a:ext cx="1300320" cy="155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6810480" y="36702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5672160" y="2674800"/>
            <a:ext cx="34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6719760" y="297036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de-DE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6237360" y="2766960"/>
            <a:ext cx="1298520" cy="163440"/>
          </a:xfrm>
          <a:custGeom>
            <a:avLst/>
            <a:gdLst/>
            <a:ahLst/>
            <a:rect l="l" t="t" r="r" b="b"/>
            <a:pathLst>
              <a:path w="818" h="103">
                <a:moveTo>
                  <a:pt x="0" y="1"/>
                </a:moveTo>
                <a:cubicBezTo>
                  <a:pt x="16" y="2"/>
                  <a:pt x="44" y="0"/>
                  <a:pt x="82" y="2"/>
                </a:cubicBezTo>
                <a:cubicBezTo>
                  <a:pt x="118" y="5"/>
                  <a:pt x="172" y="10"/>
                  <a:pt x="214" y="15"/>
                </a:cubicBezTo>
                <a:cubicBezTo>
                  <a:pt x="256" y="21"/>
                  <a:pt x="286" y="28"/>
                  <a:pt x="333" y="38"/>
                </a:cubicBezTo>
                <a:cubicBezTo>
                  <a:pt x="380" y="48"/>
                  <a:pt x="447" y="65"/>
                  <a:pt x="494" y="74"/>
                </a:cubicBezTo>
                <a:cubicBezTo>
                  <a:pt x="541" y="83"/>
                  <a:pt x="578" y="89"/>
                  <a:pt x="618" y="94"/>
                </a:cubicBezTo>
                <a:cubicBezTo>
                  <a:pt x="658" y="99"/>
                  <a:pt x="701" y="101"/>
                  <a:pt x="734" y="102"/>
                </a:cubicBezTo>
                <a:cubicBezTo>
                  <a:pt x="767" y="103"/>
                  <a:pt x="801" y="102"/>
                  <a:pt x="818" y="10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888160" y="2933640"/>
            <a:ext cx="342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 flipV="1">
            <a:off x="5956200" y="2773440"/>
            <a:ext cx="0" cy="1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6823080" y="3798720"/>
            <a:ext cx="114120" cy="11448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1476360" y="5565600"/>
            <a:ext cx="3352680" cy="7048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7545240" y="2801880"/>
            <a:ext cx="71640" cy="252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 rot="1620000">
            <a:off x="2182680" y="4196880"/>
            <a:ext cx="71640" cy="252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1300320" y="582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1208160" y="43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7" name=""/>
          <p:cNvGraphicFramePr/>
          <p:nvPr/>
        </p:nvGraphicFramePr>
        <p:xfrm>
          <a:off x="468360" y="2139840"/>
          <a:ext cx="8209080" cy="4432320"/>
        </p:xfrm>
        <a:graphic>
          <a:graphicData uri="http://schemas.openxmlformats.org/drawingml/2006/table">
            <a:tbl>
              <a:tblPr/>
              <a:tblGrid>
                <a:gridCol w="954000"/>
                <a:gridCol w="3438720"/>
                <a:gridCol w="3816360"/>
              </a:tblGrid>
              <a:tr h="22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и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и д      с м е щ е н и 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орот концевого сечения  на угол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ное линейное смещение концевых сечений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 и п 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 и п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и п 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и п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18" name=""/>
          <p:cNvSpPr/>
          <p:nvPr/>
        </p:nvSpPr>
        <p:spPr>
          <a:xfrm>
            <a:off x="6159600" y="2637000"/>
            <a:ext cx="71280" cy="25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5889600" y="2773440"/>
            <a:ext cx="343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237360" y="3251160"/>
            <a:ext cx="1295280" cy="433440"/>
          </a:xfrm>
          <a:custGeom>
            <a:avLst/>
            <a:gdLst/>
            <a:ahLst/>
            <a:rect l="l" t="t" r="r" b="b"/>
            <a:pathLst>
              <a:path w="816" h="273">
                <a:moveTo>
                  <a:pt x="0" y="136"/>
                </a:moveTo>
                <a:lnTo>
                  <a:pt x="816" y="136"/>
                </a:lnTo>
                <a:lnTo>
                  <a:pt x="816" y="273"/>
                </a:lnTo>
                <a:lnTo>
                  <a:pt x="0" y="0"/>
                </a:lnTo>
                <a:lnTo>
                  <a:pt x="0" y="13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6243480" y="263844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7545240" y="279864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2233440" y="3151080"/>
            <a:ext cx="1295640" cy="382680"/>
          </a:xfrm>
          <a:custGeom>
            <a:avLst/>
            <a:gdLst/>
            <a:ahLst/>
            <a:rect l="l" t="t" r="r" b="b"/>
            <a:pathLst>
              <a:path w="852" h="241">
                <a:moveTo>
                  <a:pt x="0" y="83"/>
                </a:moveTo>
                <a:lnTo>
                  <a:pt x="850" y="83"/>
                </a:lnTo>
                <a:lnTo>
                  <a:pt x="852" y="0"/>
                </a:lnTo>
                <a:lnTo>
                  <a:pt x="0" y="241"/>
                </a:lnTo>
                <a:lnTo>
                  <a:pt x="0" y="83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3556080" y="4221000"/>
            <a:ext cx="71280" cy="252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3557520" y="4221000"/>
            <a:ext cx="0" cy="2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514680" y="430992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H="1">
            <a:off x="2195280" y="4231800"/>
            <a:ext cx="114480" cy="22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516480" y="2692440"/>
            <a:ext cx="71280" cy="252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3517920" y="269244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 rot="1620000">
            <a:off x="2157480" y="2687400"/>
            <a:ext cx="71280" cy="2523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 flipH="1">
            <a:off x="2170080" y="2721960"/>
            <a:ext cx="114480" cy="22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2050560" y="2733840"/>
            <a:ext cx="228600" cy="457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2233440" y="281448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3516480" y="28764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228760" y="3059280"/>
            <a:ext cx="5716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3057480" y="3059280"/>
            <a:ext cx="4572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1998720" y="2951280"/>
            <a:ext cx="342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2698920" y="29224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de-DE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rot="8872800">
            <a:off x="1999800" y="2760480"/>
            <a:ext cx="456120" cy="45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1"/>
                </a:moveTo>
                <a:arcTo wR="10800" hR="10800" stAng="-3498229" swAng="2696731"/>
                <a:lnTo>
                  <a:pt x="10800" y="10800"/>
                </a:lnTo>
                <a:close/>
              </a:path>
              <a:path fill="none" w="21600" h="21600">
                <a:moveTo>
                  <a:pt x="16474" y="1611"/>
                </a:moveTo>
                <a:arcTo wR="10800" hR="10800" stAng="-3498229" swAng="2696731"/>
              </a:path>
            </a:pathLst>
          </a:custGeom>
          <a:noFill/>
          <a:ln w="64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2069640" y="4245120"/>
            <a:ext cx="228600" cy="457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2252520" y="432576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2017800" y="4462560"/>
            <a:ext cx="342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 rot="8872800">
            <a:off x="2018880" y="4271400"/>
            <a:ext cx="456840" cy="45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1"/>
                </a:moveTo>
                <a:arcTo wR="10800" hR="10800" stAng="-3498229" swAng="2696731"/>
                <a:lnTo>
                  <a:pt x="10800" y="10800"/>
                </a:lnTo>
                <a:close/>
              </a:path>
              <a:path fill="none" w="21600" h="21600">
                <a:moveTo>
                  <a:pt x="16474" y="1611"/>
                </a:moveTo>
                <a:arcTo wR="10800" hR="10800" stAng="-3498229" swAng="2696731"/>
              </a:path>
            </a:pathLst>
          </a:custGeom>
          <a:noFill/>
          <a:ln w="64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2259000" y="4797360"/>
            <a:ext cx="1292400" cy="250920"/>
          </a:xfrm>
          <a:custGeom>
            <a:avLst/>
            <a:gdLst/>
            <a:ahLst/>
            <a:rect l="l" t="t" r="r" b="b"/>
            <a:pathLst>
              <a:path w="814" h="158">
                <a:moveTo>
                  <a:pt x="0" y="0"/>
                </a:moveTo>
                <a:lnTo>
                  <a:pt x="814" y="0"/>
                </a:lnTo>
                <a:lnTo>
                  <a:pt x="0" y="15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3836880" y="3246480"/>
            <a:ext cx="285840" cy="29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3809880" y="3230640"/>
            <a:ext cx="343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3846600" y="5056200"/>
            <a:ext cx="285840" cy="29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3836880" y="5030640"/>
            <a:ext cx="343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3838680" y="4686480"/>
            <a:ext cx="285480" cy="29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3811680" y="4670280"/>
            <a:ext cx="34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6240600" y="4444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7553160" y="45021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6240240" y="4684680"/>
            <a:ext cx="57132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7094520" y="4684680"/>
            <a:ext cx="4572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6167520" y="5348160"/>
            <a:ext cx="143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6253200" y="5227560"/>
            <a:ext cx="1281240" cy="1144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6710400" y="4548240"/>
            <a:ext cx="457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de-DE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7548480" y="4314960"/>
            <a:ext cx="71640" cy="2523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7550280" y="431496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6245280" y="430524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6251400" y="4824360"/>
            <a:ext cx="1292400" cy="216000"/>
          </a:xfrm>
          <a:custGeom>
            <a:avLst/>
            <a:gdLst/>
            <a:ahLst/>
            <a:rect l="l" t="t" r="r" b="b"/>
            <a:pathLst>
              <a:path w="814" h="158">
                <a:moveTo>
                  <a:pt x="0" y="0"/>
                </a:moveTo>
                <a:lnTo>
                  <a:pt x="814" y="0"/>
                </a:lnTo>
                <a:lnTo>
                  <a:pt x="0" y="15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7846920" y="5127480"/>
            <a:ext cx="285840" cy="29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7837560" y="5102280"/>
            <a:ext cx="342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7839000" y="4741920"/>
            <a:ext cx="285840" cy="29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7812000" y="4726080"/>
            <a:ext cx="343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680080" y="4187880"/>
            <a:ext cx="342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6245280" y="4280040"/>
            <a:ext cx="1298520" cy="161640"/>
          </a:xfrm>
          <a:custGeom>
            <a:avLst/>
            <a:gdLst/>
            <a:ahLst/>
            <a:rect l="l" t="t" r="r" b="b"/>
            <a:pathLst>
              <a:path w="818" h="102">
                <a:moveTo>
                  <a:pt x="0" y="1"/>
                </a:moveTo>
                <a:cubicBezTo>
                  <a:pt x="16" y="2"/>
                  <a:pt x="44" y="0"/>
                  <a:pt x="82" y="2"/>
                </a:cubicBezTo>
                <a:cubicBezTo>
                  <a:pt x="118" y="4"/>
                  <a:pt x="175" y="8"/>
                  <a:pt x="218" y="12"/>
                </a:cubicBezTo>
                <a:cubicBezTo>
                  <a:pt x="261" y="16"/>
                  <a:pt x="297" y="19"/>
                  <a:pt x="342" y="24"/>
                </a:cubicBezTo>
                <a:cubicBezTo>
                  <a:pt x="387" y="29"/>
                  <a:pt x="438" y="36"/>
                  <a:pt x="490" y="44"/>
                </a:cubicBezTo>
                <a:cubicBezTo>
                  <a:pt x="542" y="52"/>
                  <a:pt x="599" y="62"/>
                  <a:pt x="654" y="72"/>
                </a:cubicBezTo>
                <a:cubicBezTo>
                  <a:pt x="709" y="82"/>
                  <a:pt x="784" y="96"/>
                  <a:pt x="818" y="10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896080" y="4446720"/>
            <a:ext cx="342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V="1">
            <a:off x="5964120" y="4286160"/>
            <a:ext cx="0" cy="16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6167520" y="4149720"/>
            <a:ext cx="71280" cy="2523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5897520" y="4286160"/>
            <a:ext cx="343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6251400" y="4151160"/>
            <a:ext cx="0" cy="2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7507440" y="440388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8245440" y="3672000"/>
            <a:ext cx="285840" cy="29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8236080" y="3646440"/>
            <a:ext cx="34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8237520" y="3267000"/>
            <a:ext cx="285840" cy="29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8210520" y="3251160"/>
            <a:ext cx="343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06760" y="3789360"/>
            <a:ext cx="898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6242040" y="5711760"/>
            <a:ext cx="1498680" cy="1800"/>
          </a:xfrm>
          <a:custGeom>
            <a:avLst/>
            <a:gdLst/>
            <a:ahLst/>
            <a:rect l="l" t="t" r="r" b="b"/>
            <a:pathLst>
              <a:path w="944" h="1">
                <a:moveTo>
                  <a:pt x="0" y="1"/>
                </a:moveTo>
                <a:lnTo>
                  <a:pt x="944" y="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6242040" y="5591160"/>
            <a:ext cx="144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7537320" y="5616720"/>
            <a:ext cx="1800" cy="342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flipH="1">
            <a:off x="6229080" y="5896080"/>
            <a:ext cx="571320" cy="14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7077240" y="5896080"/>
            <a:ext cx="457200" cy="1440"/>
          </a:xfrm>
          <a:prstGeom prst="line">
            <a:avLst/>
          </a:prstGeom>
          <a:ln w="648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6724800" y="5719680"/>
            <a:ext cx="457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de-DE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6248520" y="5711760"/>
            <a:ext cx="1485720" cy="1800"/>
          </a:xfrm>
          <a:custGeom>
            <a:avLst/>
            <a:gdLst/>
            <a:ahLst/>
            <a:rect l="l" t="t" r="r" b="b"/>
            <a:pathLst>
              <a:path w="936" h="1">
                <a:moveTo>
                  <a:pt x="0" y="0"/>
                </a:moveTo>
                <a:cubicBezTo>
                  <a:pt x="156" y="0"/>
                  <a:pt x="741" y="0"/>
                  <a:pt x="93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7537320" y="5897160"/>
            <a:ext cx="21600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7740720" y="5583240"/>
            <a:ext cx="71280" cy="25236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6164280" y="5584680"/>
            <a:ext cx="71280" cy="25272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7740720" y="5798880"/>
            <a:ext cx="144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6248520" y="5586480"/>
            <a:ext cx="1440" cy="2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7740720" y="5580000"/>
            <a:ext cx="1440" cy="2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7697880" y="566748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6208560" y="567540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469280" y="5651640"/>
            <a:ext cx="342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116760" y="6235560"/>
            <a:ext cx="16002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6240600" y="6078600"/>
            <a:ext cx="1299960" cy="15552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6829560" y="6093000"/>
            <a:ext cx="114120" cy="11412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7845480" y="5965920"/>
            <a:ext cx="285840" cy="29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7829640" y="5959440"/>
            <a:ext cx="342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4475160" y="3781440"/>
                <a:ext cx="765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730520" y="3402000"/>
                <a:ext cx="5349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θ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51400" y="3003480"/>
                <a:ext cx="522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θ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1587600" y="3705120"/>
                <a:ext cx="6271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θ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1655640" y="5203800"/>
                <a:ext cx="587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θ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1789200" y="4902120"/>
                <a:ext cx="485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θ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5546880" y="3176640"/>
                <a:ext cx="6346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7588080" y="3489480"/>
                <a:ext cx="6415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546880" y="5052960"/>
                <a:ext cx="6523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470560" y="3648240"/>
                <a:ext cx="6922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0" name=""/>
          <p:cNvSpPr/>
          <p:nvPr/>
        </p:nvSpPr>
        <p:spPr>
          <a:xfrm>
            <a:off x="6829560" y="5224320"/>
            <a:ext cx="114120" cy="11448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538960" y="4707000"/>
                <a:ext cx="65700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513400" y="5964120"/>
                <a:ext cx="6746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>
            <a:off x="1415880" y="6330960"/>
            <a:ext cx="7272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 т е р ж е н ь    р а с с м а т р и в а е т с я    к а к    ж ё с т к а я    л и н е й н а я    с в я з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4788000" y="557676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,  Q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9" dur="indefinite" restart="never" nodeType="tmRoot">
          <p:childTnLst>
            <p:seq>
              <p:cTn id="5680" dur="indefinite" nodeType="mainSeq">
                <p:childTnLst>
                  <p:par>
                    <p:cTn id="5681" fill="hold">
                      <p:stCondLst>
                        <p:cond delay="0"/>
                      </p:stCondLst>
                      <p:childTnLst>
                        <p:par>
                          <p:cTn id="5682" fill="hold">
                            <p:stCondLst>
                              <p:cond delay="0"/>
                            </p:stCondLst>
                            <p:childTnLst>
                              <p:par>
                                <p:cTn id="56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5" dur="80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6" dur="80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7" dur="80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8" fill="hold">
                      <p:stCondLst>
                        <p:cond delay="indefinite"/>
                      </p:stCondLst>
                      <p:childTnLst>
                        <p:par>
                          <p:cTn id="5689" fill="hold">
                            <p:stCondLst>
                              <p:cond delay="0"/>
                            </p:stCondLst>
                            <p:childTnLst>
                              <p:par>
                                <p:cTn id="5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2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5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8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1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4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7" dur="5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0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3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6" dur="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9" dur="500"/>
                                        <p:tgtEl>
                                          <p:spTgt spid="2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2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3" fill="hold">
                      <p:stCondLst>
                        <p:cond delay="indefinite"/>
                      </p:stCondLst>
                      <p:childTnLst>
                        <p:par>
                          <p:cTn id="5724" fill="hold">
                            <p:stCondLst>
                              <p:cond delay="0"/>
                            </p:stCondLst>
                            <p:childTnLst>
                              <p:par>
                                <p:cTn id="5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7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0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3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6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9" dur="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2" dur="5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5" dur="5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8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4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5" fill="hold">
                      <p:stCondLst>
                        <p:cond delay="indefinite"/>
                      </p:stCondLst>
                      <p:childTnLst>
                        <p:par>
                          <p:cTn id="5756" fill="hold">
                            <p:stCondLst>
                              <p:cond delay="0"/>
                            </p:stCondLst>
                            <p:childTnLst>
                              <p:par>
                                <p:cTn id="5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9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2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5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8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1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4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7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0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3" dur="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6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9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2" dur="5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5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6" fill="hold">
                      <p:stCondLst>
                        <p:cond delay="indefinite"/>
                      </p:stCondLst>
                      <p:childTnLst>
                        <p:par>
                          <p:cTn id="5797" fill="hold">
                            <p:stCondLst>
                              <p:cond delay="0"/>
                            </p:stCondLst>
                            <p:childTnLst>
                              <p:par>
                                <p:cTn id="5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0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3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6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9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2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5" dur="5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8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1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4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7" dur="5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0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3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6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7" fill="hold">
                      <p:stCondLst>
                        <p:cond delay="indefinite"/>
                      </p:stCondLst>
                      <p:childTnLst>
                        <p:par>
                          <p:cTn id="5838" fill="hold">
                            <p:stCondLst>
                              <p:cond delay="0"/>
                            </p:stCondLst>
                            <p:childTnLst>
                              <p:par>
                                <p:cTn id="5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1" dur="80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2" dur="80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3" dur="80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4" fill="hold">
                      <p:stCondLst>
                        <p:cond delay="indefinite"/>
                      </p:stCondLst>
                      <p:childTnLst>
                        <p:par>
                          <p:cTn id="5845" fill="hold">
                            <p:stCondLst>
                              <p:cond delay="0"/>
                            </p:stCondLst>
                            <p:childTnLst>
                              <p:par>
                                <p:cTn id="58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8" dur="10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9" dur="10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0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1" fill="hold">
                      <p:stCondLst>
                        <p:cond delay="indefinite"/>
                      </p:stCondLst>
                      <p:childTnLst>
                        <p:par>
                          <p:cTn id="5852" fill="hold">
                            <p:stCondLst>
                              <p:cond delay="0"/>
                            </p:stCondLst>
                            <p:childTnLst>
                              <p:par>
                                <p:cTn id="5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5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8" dur="500"/>
                                        <p:tgtEl>
                                          <p:spTgt spid="2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9" fill="hold">
                      <p:stCondLst>
                        <p:cond delay="indefinite"/>
                      </p:stCondLst>
                      <p:childTnLst>
                        <p:par>
                          <p:cTn id="5860" fill="hold">
                            <p:stCondLst>
                              <p:cond delay="0"/>
                            </p:stCondLst>
                            <p:childTnLst>
                              <p:par>
                                <p:cTn id="5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3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6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9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2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5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8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1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4" dur="5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7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0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6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9" dur="5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2" dur="5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5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8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1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4" dur="5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7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0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3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6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9" dur="5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2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5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8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1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4" dur="5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7" dur="5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0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1" fill="hold">
                      <p:stCondLst>
                        <p:cond delay="indefinite"/>
                      </p:stCondLst>
                      <p:childTnLst>
                        <p:par>
                          <p:cTn id="5952" fill="hold">
                            <p:stCondLst>
                              <p:cond delay="0"/>
                            </p:stCondLst>
                            <p:childTnLst>
                              <p:par>
                                <p:cTn id="5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5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8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1" dur="5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4" dur="5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7" dur="5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0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3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6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9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2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5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8" dur="5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1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4" dur="5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7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0" dur="5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3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6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9" dur="5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2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5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8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1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4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7" dur="5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0" dur="500"/>
                                        <p:tgtEl>
                                          <p:spTgt spid="2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3" dur="5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4" fill="hold">
                      <p:stCondLst>
                        <p:cond delay="indefinite"/>
                      </p:stCondLst>
                      <p:childTnLst>
                        <p:par>
                          <p:cTn id="6035" fill="hold">
                            <p:stCondLst>
                              <p:cond delay="0"/>
                            </p:stCondLst>
                            <p:childTnLst>
                              <p:par>
                                <p:cTn id="6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8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4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7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0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3" dur="5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6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9" dur="5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2" dur="5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5" dur="5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8" dur="5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1" dur="500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4" dur="5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7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0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3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6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9" dur="5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2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5" dur="5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8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1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4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7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0" dur="500"/>
                                        <p:tgtEl>
                                          <p:spTgt spid="2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3" dur="500"/>
                                        <p:tgtEl>
                                          <p:spTgt spid="2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4" fill="hold">
                      <p:stCondLst>
                        <p:cond delay="indefinite"/>
                      </p:stCondLst>
                      <p:childTnLst>
                        <p:par>
                          <p:cTn id="6115" fill="hold">
                            <p:stCondLst>
                              <p:cond delay="0"/>
                            </p:stCondLst>
                            <p:childTnLst>
                              <p:par>
                                <p:cTn id="6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8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1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4" dur="5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7" dur="5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0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3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6" dur="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9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2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5" dur="5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8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1" dur="5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4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7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0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3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6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9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2" dur="5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5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8" dur="5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1" dur="5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4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7" dur="500"/>
                                        <p:tgtEl>
                                          <p:spTgt spid="2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0" dur="500"/>
                                        <p:tgtEl>
                                          <p:spTgt spid="2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3" dur="500"/>
                                        <p:tgtEl>
                                          <p:spTgt spid="2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4" fill="hold">
                      <p:stCondLst>
                        <p:cond delay="indefinite"/>
                      </p:stCondLst>
                      <p:childTnLst>
                        <p:par>
                          <p:cTn id="6195" fill="hold">
                            <p:stCondLst>
                              <p:cond delay="0"/>
                            </p:stCondLst>
                            <p:childTnLst>
                              <p:par>
                                <p:cTn id="6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8" dur="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1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4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7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0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3" dur="5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6" dur="5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9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2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5" dur="5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8" dur="5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1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4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7" dur="5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0" dur="5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3" dur="5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6" dur="5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9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2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5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8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1" dur="5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4" dur="500"/>
                                        <p:tgtEl>
                                          <p:spTgt spid="2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7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0" dur="500"/>
                                        <p:tgtEl>
                                          <p:spTgt spid="2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1" fill="hold">
                      <p:stCondLst>
                        <p:cond delay="indefinite"/>
                      </p:stCondLst>
                      <p:childTnLst>
                        <p:par>
                          <p:cTn id="6272" fill="hold">
                            <p:stCondLst>
                              <p:cond delay="0"/>
                            </p:stCondLst>
                            <p:childTnLst>
                              <p:par>
                                <p:cTn id="6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5" dur="1000" fill="hold"/>
                                        <p:tgtEl>
                                          <p:spTgt spid="2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6" dur="1000" fill="hold"/>
                                        <p:tgtEl>
                                          <p:spTgt spid="2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7" dur="1000"/>
                                        <p:tgtEl>
                                          <p:spTgt spid="2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1130400" y="1184400"/>
            <a:ext cx="71280" cy="21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1197000" y="118440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1201680" y="1293840"/>
            <a:ext cx="971640" cy="144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2184480" y="1187280"/>
            <a:ext cx="71280" cy="21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179800" y="1187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 rot="16200000">
            <a:off x="239040" y="1906920"/>
            <a:ext cx="72072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п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116000" y="3402000"/>
            <a:ext cx="71280" cy="214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1182600" y="34020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1189080" y="3513240"/>
            <a:ext cx="971640" cy="144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1482840" y="83664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1495440" y="132732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174760" y="3402000"/>
            <a:ext cx="71640" cy="21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2170080" y="34020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 rot="16200000">
            <a:off x="235800" y="4212000"/>
            <a:ext cx="72072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п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2124000" y="34671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2122560" y="214200"/>
            <a:ext cx="489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)  о т   н е к о т о р ы х   в и д о в   в о з д е й с т в и 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2" name=""/>
          <p:cNvGraphicFramePr/>
          <p:nvPr/>
        </p:nvGraphicFramePr>
        <p:xfrm>
          <a:off x="324000" y="501480"/>
          <a:ext cx="8521560" cy="6096240"/>
        </p:xfrm>
        <a:graphic>
          <a:graphicData uri="http://schemas.openxmlformats.org/drawingml/2006/table">
            <a:tbl>
              <a:tblPr/>
              <a:tblGrid>
                <a:gridCol w="528480"/>
                <a:gridCol w="1919160"/>
                <a:gridCol w="2016360"/>
                <a:gridCol w="2232000"/>
                <a:gridCol w="1825560"/>
              </a:tblGrid>
              <a:tr h="232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эле-мен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   а   г   р   у   з   к  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зме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п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вномерно распределён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осредоточенная си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осредоточенный мо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3" name=""/>
          <p:cNvSpPr/>
          <p:nvPr/>
        </p:nvSpPr>
        <p:spPr>
          <a:xfrm>
            <a:off x="1332000" y="11494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1476360" y="11494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1619280" y="11494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1763640" y="11494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1908000" y="11494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2050920" y="11494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1206360" y="1146240"/>
            <a:ext cx="9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1193760" y="138420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2182680" y="139068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 flipH="1">
            <a:off x="1199880" y="148896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1828800" y="1488960"/>
            <a:ext cx="3477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1198440" y="1798560"/>
            <a:ext cx="986040" cy="411120"/>
          </a:xfrm>
          <a:custGeom>
            <a:avLst/>
            <a:gdLst/>
            <a:ahLst/>
            <a:rect l="l" t="t" r="r" b="b"/>
            <a:pathLst>
              <a:path w="621" h="259">
                <a:moveTo>
                  <a:pt x="4" y="173"/>
                </a:moveTo>
                <a:cubicBezTo>
                  <a:pt x="3" y="145"/>
                  <a:pt x="1" y="116"/>
                  <a:pt x="0" y="3"/>
                </a:cubicBezTo>
                <a:cubicBezTo>
                  <a:pt x="37" y="60"/>
                  <a:pt x="33" y="62"/>
                  <a:pt x="57" y="92"/>
                </a:cubicBezTo>
                <a:cubicBezTo>
                  <a:pt x="81" y="122"/>
                  <a:pt x="110" y="158"/>
                  <a:pt x="145" y="184"/>
                </a:cubicBezTo>
                <a:cubicBezTo>
                  <a:pt x="180" y="210"/>
                  <a:pt x="229" y="237"/>
                  <a:pt x="269" y="248"/>
                </a:cubicBezTo>
                <a:cubicBezTo>
                  <a:pt x="309" y="259"/>
                  <a:pt x="347" y="258"/>
                  <a:pt x="385" y="248"/>
                </a:cubicBezTo>
                <a:cubicBezTo>
                  <a:pt x="423" y="238"/>
                  <a:pt x="468" y="210"/>
                  <a:pt x="499" y="185"/>
                </a:cubicBezTo>
                <a:cubicBezTo>
                  <a:pt x="530" y="160"/>
                  <a:pt x="549" y="131"/>
                  <a:pt x="569" y="100"/>
                </a:cubicBezTo>
                <a:cubicBezTo>
                  <a:pt x="589" y="69"/>
                  <a:pt x="581" y="76"/>
                  <a:pt x="617" y="0"/>
                </a:cubicBezTo>
                <a:cubicBezTo>
                  <a:pt x="621" y="100"/>
                  <a:pt x="620" y="139"/>
                  <a:pt x="621" y="176"/>
                </a:cubicBez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198440" y="2070000"/>
            <a:ext cx="986040" cy="1800"/>
          </a:xfrm>
          <a:custGeom>
            <a:avLst/>
            <a:gdLst/>
            <a:ahLst/>
            <a:rect l="l" t="t" r="r" b="b"/>
            <a:pathLst>
              <a:path w="621" h="1">
                <a:moveTo>
                  <a:pt x="0" y="0"/>
                </a:moveTo>
                <a:lnTo>
                  <a:pt x="621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920" bIns="-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3230640" y="1184400"/>
            <a:ext cx="71280" cy="214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3297240" y="118440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3301920" y="1293840"/>
            <a:ext cx="971640" cy="144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4284720" y="1187280"/>
            <a:ext cx="71280" cy="214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4280040" y="1187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3706920" y="10000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4282920" y="1417680"/>
            <a:ext cx="0" cy="22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 flipH="1">
            <a:off x="3300120" y="1587600"/>
            <a:ext cx="406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3706920" y="1587600"/>
            <a:ext cx="5698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3294000" y="128268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3300480" y="1411200"/>
            <a:ext cx="0" cy="22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3706920" y="1413000"/>
            <a:ext cx="0" cy="22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3780000" y="128268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3608280" y="87480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5369040" y="1184400"/>
            <a:ext cx="71280" cy="214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5435640" y="118440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5440320" y="1293840"/>
            <a:ext cx="971640" cy="144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6423120" y="1187280"/>
            <a:ext cx="71280" cy="214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6418440" y="1187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6421320" y="1417680"/>
            <a:ext cx="0" cy="22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5438520" y="1587600"/>
            <a:ext cx="406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5845320" y="1587600"/>
            <a:ext cx="5698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5438880" y="1411200"/>
            <a:ext cx="0" cy="22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5845320" y="1413000"/>
            <a:ext cx="0" cy="22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5589720" y="87948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rot="16200000">
            <a:off x="5744880" y="1165680"/>
            <a:ext cx="254160" cy="26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" y="8805"/>
                </a:moveTo>
                <a:arcTo wR="10800" hR="10800" stAng="-10161339" swAng="12364244"/>
                <a:lnTo>
                  <a:pt x="10800" y="10800"/>
                </a:lnTo>
                <a:close/>
              </a:path>
              <a:path fill="none" w="21600" h="21600">
                <a:moveTo>
                  <a:pt x="186" y="8805"/>
                </a:moveTo>
                <a:arcTo wR="10800" hR="10800" stAng="-10161339" swAng="1236424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900000" y="1555920"/>
                <a:ext cx="5446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3" name=""/>
              <p:cNvSpPr txBox="1"/>
              <p:nvPr/>
            </p:nvSpPr>
            <p:spPr>
              <a:xfrm>
                <a:off x="2050920" y="1555920"/>
                <a:ext cx="576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4" name=""/>
              <p:cNvSpPr txBox="1"/>
              <p:nvPr/>
            </p:nvSpPr>
            <p:spPr>
              <a:xfrm>
                <a:off x="1424160" y="2189160"/>
                <a:ext cx="5727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5" name=""/>
          <p:cNvSpPr/>
          <p:nvPr/>
        </p:nvSpPr>
        <p:spPr>
          <a:xfrm>
            <a:off x="1692360" y="206676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206360" y="2428920"/>
            <a:ext cx="971640" cy="576360"/>
          </a:xfrm>
          <a:custGeom>
            <a:avLst/>
            <a:gdLst/>
            <a:ahLst/>
            <a:rect l="l" t="t" r="r" b="b"/>
            <a:pathLst>
              <a:path w="635" h="453">
                <a:moveTo>
                  <a:pt x="0" y="227"/>
                </a:moveTo>
                <a:lnTo>
                  <a:pt x="0" y="0"/>
                </a:lnTo>
                <a:lnTo>
                  <a:pt x="635" y="453"/>
                </a:lnTo>
                <a:lnTo>
                  <a:pt x="635" y="227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1193760" y="2717640"/>
            <a:ext cx="986040" cy="1800"/>
          </a:xfrm>
          <a:custGeom>
            <a:avLst/>
            <a:gdLst/>
            <a:ahLst/>
            <a:rect l="l" t="t" r="r" b="b"/>
            <a:pathLst>
              <a:path w="621" h="1">
                <a:moveTo>
                  <a:pt x="0" y="0"/>
                </a:moveTo>
                <a:lnTo>
                  <a:pt x="621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920" bIns="-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1252440" y="2548080"/>
            <a:ext cx="144720" cy="14256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1986120" y="2754360"/>
            <a:ext cx="14436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2004840" y="283068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1692360" y="246384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906480" y="2179800"/>
                <a:ext cx="4302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2181240" y="2873520"/>
                <a:ext cx="431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4" name=""/>
          <p:cNvSpPr/>
          <p:nvPr/>
        </p:nvSpPr>
        <p:spPr>
          <a:xfrm>
            <a:off x="2340000" y="1920960"/>
            <a:ext cx="287280" cy="28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2287440" y="189216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2346480" y="2624040"/>
            <a:ext cx="287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2287440" y="258300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212840" y="1303200"/>
            <a:ext cx="965160" cy="77760"/>
          </a:xfrm>
          <a:custGeom>
            <a:avLst/>
            <a:gdLst/>
            <a:ahLst/>
            <a:rect l="l" t="t" r="r" b="b"/>
            <a:pathLst>
              <a:path w="608" h="49">
                <a:moveTo>
                  <a:pt x="0" y="1"/>
                </a:moveTo>
                <a:cubicBezTo>
                  <a:pt x="9" y="2"/>
                  <a:pt x="33" y="1"/>
                  <a:pt x="56" y="5"/>
                </a:cubicBezTo>
                <a:cubicBezTo>
                  <a:pt x="79" y="9"/>
                  <a:pt x="108" y="18"/>
                  <a:pt x="136" y="25"/>
                </a:cubicBezTo>
                <a:cubicBezTo>
                  <a:pt x="164" y="32"/>
                  <a:pt x="196" y="41"/>
                  <a:pt x="224" y="45"/>
                </a:cubicBezTo>
                <a:cubicBezTo>
                  <a:pt x="252" y="49"/>
                  <a:pt x="278" y="49"/>
                  <a:pt x="304" y="49"/>
                </a:cubicBezTo>
                <a:cubicBezTo>
                  <a:pt x="330" y="49"/>
                  <a:pt x="353" y="48"/>
                  <a:pt x="380" y="45"/>
                </a:cubicBezTo>
                <a:cubicBezTo>
                  <a:pt x="407" y="42"/>
                  <a:pt x="435" y="36"/>
                  <a:pt x="464" y="29"/>
                </a:cubicBezTo>
                <a:cubicBezTo>
                  <a:pt x="493" y="22"/>
                  <a:pt x="528" y="10"/>
                  <a:pt x="552" y="5"/>
                </a:cubicBezTo>
                <a:cubicBezTo>
                  <a:pt x="576" y="0"/>
                  <a:pt x="596" y="2"/>
                  <a:pt x="608" y="1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2040" bIns="32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297240" y="1301760"/>
            <a:ext cx="965160" cy="55440"/>
          </a:xfrm>
          <a:custGeom>
            <a:avLst/>
            <a:gdLst/>
            <a:ahLst/>
            <a:rect l="l" t="t" r="r" b="b"/>
            <a:pathLst>
              <a:path w="608" h="35">
                <a:moveTo>
                  <a:pt x="0" y="0"/>
                </a:moveTo>
                <a:cubicBezTo>
                  <a:pt x="9" y="0"/>
                  <a:pt x="33" y="0"/>
                  <a:pt x="56" y="2"/>
                </a:cubicBezTo>
                <a:cubicBezTo>
                  <a:pt x="79" y="5"/>
                  <a:pt x="108" y="11"/>
                  <a:pt x="136" y="16"/>
                </a:cubicBezTo>
                <a:cubicBezTo>
                  <a:pt x="164" y="21"/>
                  <a:pt x="197" y="27"/>
                  <a:pt x="224" y="30"/>
                </a:cubicBezTo>
                <a:cubicBezTo>
                  <a:pt x="251" y="33"/>
                  <a:pt x="270" y="35"/>
                  <a:pt x="299" y="34"/>
                </a:cubicBezTo>
                <a:cubicBezTo>
                  <a:pt x="328" y="33"/>
                  <a:pt x="370" y="29"/>
                  <a:pt x="399" y="26"/>
                </a:cubicBezTo>
                <a:cubicBezTo>
                  <a:pt x="428" y="23"/>
                  <a:pt x="450" y="18"/>
                  <a:pt x="475" y="14"/>
                </a:cubicBezTo>
                <a:cubicBezTo>
                  <a:pt x="500" y="10"/>
                  <a:pt x="530" y="4"/>
                  <a:pt x="552" y="2"/>
                </a:cubicBezTo>
                <a:cubicBezTo>
                  <a:pt x="574" y="0"/>
                  <a:pt x="596" y="0"/>
                  <a:pt x="608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9720" bIns="9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5437080" y="1252440"/>
            <a:ext cx="973080" cy="95400"/>
          </a:xfrm>
          <a:custGeom>
            <a:avLst/>
            <a:gdLst/>
            <a:ahLst/>
            <a:rect l="l" t="t" r="r" b="b"/>
            <a:pathLst>
              <a:path w="613" h="60">
                <a:moveTo>
                  <a:pt x="0" y="21"/>
                </a:moveTo>
                <a:cubicBezTo>
                  <a:pt x="10" y="20"/>
                  <a:pt x="35" y="20"/>
                  <a:pt x="60" y="17"/>
                </a:cubicBezTo>
                <a:cubicBezTo>
                  <a:pt x="85" y="14"/>
                  <a:pt x="119" y="2"/>
                  <a:pt x="148" y="1"/>
                </a:cubicBezTo>
                <a:cubicBezTo>
                  <a:pt x="177" y="0"/>
                  <a:pt x="207" y="3"/>
                  <a:pt x="232" y="9"/>
                </a:cubicBezTo>
                <a:cubicBezTo>
                  <a:pt x="257" y="15"/>
                  <a:pt x="274" y="29"/>
                  <a:pt x="300" y="37"/>
                </a:cubicBezTo>
                <a:cubicBezTo>
                  <a:pt x="326" y="45"/>
                  <a:pt x="361" y="54"/>
                  <a:pt x="388" y="57"/>
                </a:cubicBezTo>
                <a:cubicBezTo>
                  <a:pt x="415" y="60"/>
                  <a:pt x="439" y="56"/>
                  <a:pt x="464" y="53"/>
                </a:cubicBezTo>
                <a:cubicBezTo>
                  <a:pt x="489" y="50"/>
                  <a:pt x="515" y="41"/>
                  <a:pt x="540" y="37"/>
                </a:cubicBezTo>
                <a:cubicBezTo>
                  <a:pt x="565" y="33"/>
                  <a:pt x="598" y="28"/>
                  <a:pt x="613" y="26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3314880" y="1851120"/>
            <a:ext cx="971280" cy="341280"/>
          </a:xfrm>
          <a:custGeom>
            <a:avLst/>
            <a:gdLst/>
            <a:ahLst/>
            <a:rect l="l" t="t" r="r" b="b"/>
            <a:pathLst>
              <a:path w="612" h="204">
                <a:moveTo>
                  <a:pt x="612" y="108"/>
                </a:moveTo>
                <a:lnTo>
                  <a:pt x="0" y="108"/>
                </a:lnTo>
                <a:lnTo>
                  <a:pt x="0" y="0"/>
                </a:lnTo>
                <a:lnTo>
                  <a:pt x="256" y="204"/>
                </a:lnTo>
                <a:lnTo>
                  <a:pt x="608" y="32"/>
                </a:lnTo>
                <a:lnTo>
                  <a:pt x="611" y="109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3720960" y="204156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2779560" y="1641600"/>
                <a:ext cx="549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 </m:t>
                        </m:r>
                      </m:sub>
                    </m:sSub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 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94" name=""/>
          <p:cNvSpPr/>
          <p:nvPr/>
        </p:nvSpPr>
        <p:spPr>
          <a:xfrm>
            <a:off x="3313080" y="2585880"/>
            <a:ext cx="979560" cy="320760"/>
          </a:xfrm>
          <a:custGeom>
            <a:avLst/>
            <a:gdLst/>
            <a:ahLst/>
            <a:rect l="l" t="t" r="r" b="b"/>
            <a:pathLst>
              <a:path w="617" h="202">
                <a:moveTo>
                  <a:pt x="617" y="113"/>
                </a:moveTo>
                <a:lnTo>
                  <a:pt x="0" y="108"/>
                </a:lnTo>
                <a:lnTo>
                  <a:pt x="0" y="0"/>
                </a:lnTo>
                <a:lnTo>
                  <a:pt x="261" y="2"/>
                </a:lnTo>
                <a:lnTo>
                  <a:pt x="265" y="202"/>
                </a:lnTo>
                <a:lnTo>
                  <a:pt x="617" y="202"/>
                </a:lnTo>
                <a:lnTo>
                  <a:pt x="617" y="113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3446640" y="2598840"/>
            <a:ext cx="144360" cy="14292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3936960" y="2762280"/>
            <a:ext cx="14436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3956040" y="283860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3314880" y="1844640"/>
            <a:ext cx="969840" cy="58680"/>
          </a:xfrm>
          <a:custGeom>
            <a:avLst/>
            <a:gdLst/>
            <a:ahLst/>
            <a:rect l="l" t="t" r="r" b="b"/>
            <a:pathLst>
              <a:path w="611" h="37">
                <a:moveTo>
                  <a:pt x="0" y="0"/>
                </a:moveTo>
                <a:lnTo>
                  <a:pt x="611" y="3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3720960" y="1865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3720960" y="1865160"/>
            <a:ext cx="28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3720960" y="2198520"/>
            <a:ext cx="28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3943440" y="1865160"/>
            <a:ext cx="0" cy="3384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3943440" y="1982880"/>
            <a:ext cx="21564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 flipH="1">
            <a:off x="3570120" y="2198520"/>
            <a:ext cx="144720" cy="36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132000" y="2585880"/>
            <a:ext cx="28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151080" y="290340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3195720" y="2581200"/>
            <a:ext cx="0" cy="3240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2887560" y="260352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2968560" y="2324160"/>
                <a:ext cx="87336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 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ξ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0" name=""/>
          <p:cNvSpPr/>
          <p:nvPr/>
        </p:nvSpPr>
        <p:spPr>
          <a:xfrm>
            <a:off x="4425840" y="1905120"/>
            <a:ext cx="287280" cy="28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4373640" y="187632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4432320" y="2620800"/>
            <a:ext cx="287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4373640" y="257976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5451480" y="1897200"/>
            <a:ext cx="971640" cy="398160"/>
          </a:xfrm>
          <a:custGeom>
            <a:avLst/>
            <a:gdLst/>
            <a:ahLst/>
            <a:rect l="l" t="t" r="r" b="b"/>
            <a:pathLst>
              <a:path w="612" h="251">
                <a:moveTo>
                  <a:pt x="612" y="99"/>
                </a:moveTo>
                <a:lnTo>
                  <a:pt x="0" y="99"/>
                </a:lnTo>
                <a:lnTo>
                  <a:pt x="0" y="167"/>
                </a:lnTo>
                <a:lnTo>
                  <a:pt x="255" y="0"/>
                </a:lnTo>
                <a:lnTo>
                  <a:pt x="256" y="251"/>
                </a:lnTo>
                <a:lnTo>
                  <a:pt x="608" y="11"/>
                </a:lnTo>
                <a:lnTo>
                  <a:pt x="611" y="101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6618240" y="1935000"/>
            <a:ext cx="287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6566040" y="190656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6624720" y="2651040"/>
            <a:ext cx="287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6566040" y="261000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113520" y="1652760"/>
                <a:ext cx="89064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3ξ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0" name=""/>
          <p:cNvSpPr/>
          <p:nvPr/>
        </p:nvSpPr>
        <p:spPr>
          <a:xfrm>
            <a:off x="5853240" y="188928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5861160" y="229536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6089760" y="188280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6089760" y="2179800"/>
            <a:ext cx="1508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6141960" y="206208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5457960" y="2790720"/>
            <a:ext cx="974520" cy="152640"/>
          </a:xfrm>
          <a:custGeom>
            <a:avLst/>
            <a:gdLst/>
            <a:ahLst/>
            <a:rect l="l" t="t" r="r" b="b"/>
            <a:pathLst>
              <a:path w="614" h="96">
                <a:moveTo>
                  <a:pt x="614" y="2"/>
                </a:moveTo>
                <a:lnTo>
                  <a:pt x="0" y="0"/>
                </a:lnTo>
                <a:lnTo>
                  <a:pt x="0" y="96"/>
                </a:lnTo>
                <a:lnTo>
                  <a:pt x="612" y="96"/>
                </a:lnTo>
                <a:lnTo>
                  <a:pt x="612" y="5"/>
                </a:lnTo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5872320" y="2801880"/>
            <a:ext cx="14436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5891040" y="287820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475240" y="2376360"/>
                <a:ext cx="14572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3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 flipH="1">
            <a:off x="5795640" y="2295360"/>
            <a:ext cx="58680" cy="12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849920" y="2739960"/>
                <a:ext cx="6253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 </m:t>
                        </m:r>
                      </m:sub>
                    </m:sSub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1" name=""/>
          <p:cNvSpPr/>
          <p:nvPr/>
        </p:nvSpPr>
        <p:spPr>
          <a:xfrm>
            <a:off x="1514520" y="305604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1252440" y="5762520"/>
            <a:ext cx="14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1488960" y="355932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1187280" y="361620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2176560" y="362268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 flipH="1">
            <a:off x="1193400" y="372096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1822320" y="3720960"/>
            <a:ext cx="3477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1185840" y="4011480"/>
            <a:ext cx="986040" cy="425520"/>
          </a:xfrm>
          <a:custGeom>
            <a:avLst/>
            <a:gdLst/>
            <a:ahLst/>
            <a:rect l="l" t="t" r="r" b="b"/>
            <a:pathLst>
              <a:path w="621" h="268">
                <a:moveTo>
                  <a:pt x="4" y="170"/>
                </a:moveTo>
                <a:cubicBezTo>
                  <a:pt x="3" y="142"/>
                  <a:pt x="1" y="113"/>
                  <a:pt x="0" y="0"/>
                </a:cubicBezTo>
                <a:cubicBezTo>
                  <a:pt x="37" y="57"/>
                  <a:pt x="33" y="59"/>
                  <a:pt x="57" y="89"/>
                </a:cubicBezTo>
                <a:cubicBezTo>
                  <a:pt x="81" y="118"/>
                  <a:pt x="110" y="148"/>
                  <a:pt x="145" y="174"/>
                </a:cubicBezTo>
                <a:cubicBezTo>
                  <a:pt x="180" y="200"/>
                  <a:pt x="231" y="230"/>
                  <a:pt x="269" y="245"/>
                </a:cubicBezTo>
                <a:cubicBezTo>
                  <a:pt x="307" y="260"/>
                  <a:pt x="338" y="264"/>
                  <a:pt x="373" y="266"/>
                </a:cubicBezTo>
                <a:cubicBezTo>
                  <a:pt x="408" y="268"/>
                  <a:pt x="445" y="263"/>
                  <a:pt x="477" y="254"/>
                </a:cubicBezTo>
                <a:cubicBezTo>
                  <a:pt x="509" y="245"/>
                  <a:pt x="545" y="229"/>
                  <a:pt x="569" y="214"/>
                </a:cubicBezTo>
                <a:cubicBezTo>
                  <a:pt x="593" y="199"/>
                  <a:pt x="610" y="176"/>
                  <a:pt x="621" y="166"/>
                </a:cubicBez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1185840" y="4278240"/>
            <a:ext cx="986040" cy="1800"/>
          </a:xfrm>
          <a:custGeom>
            <a:avLst/>
            <a:gdLst/>
            <a:ahLst/>
            <a:rect l="l" t="t" r="r" b="b"/>
            <a:pathLst>
              <a:path w="621" h="1">
                <a:moveTo>
                  <a:pt x="0" y="0"/>
                </a:moveTo>
                <a:lnTo>
                  <a:pt x="621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920" bIns="-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1197000" y="3798720"/>
                <a:ext cx="43020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1" name=""/>
          <p:cNvSpPr/>
          <p:nvPr/>
        </p:nvSpPr>
        <p:spPr>
          <a:xfrm>
            <a:off x="1193760" y="4656240"/>
            <a:ext cx="971640" cy="615960"/>
          </a:xfrm>
          <a:custGeom>
            <a:avLst/>
            <a:gdLst/>
            <a:ahLst/>
            <a:rect l="l" t="t" r="r" b="b"/>
            <a:pathLst>
              <a:path w="612" h="388">
                <a:moveTo>
                  <a:pt x="0" y="244"/>
                </a:moveTo>
                <a:lnTo>
                  <a:pt x="0" y="0"/>
                </a:lnTo>
                <a:lnTo>
                  <a:pt x="608" y="388"/>
                </a:lnTo>
                <a:lnTo>
                  <a:pt x="612" y="244"/>
                </a:lnTo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181160" y="5046840"/>
            <a:ext cx="985680" cy="1440"/>
          </a:xfrm>
          <a:custGeom>
            <a:avLst/>
            <a:gdLst/>
            <a:ahLst/>
            <a:rect l="l" t="t" r="r" b="b"/>
            <a:pathLst>
              <a:path w="621" h="1">
                <a:moveTo>
                  <a:pt x="0" y="0"/>
                </a:moveTo>
                <a:lnTo>
                  <a:pt x="621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271520" y="4832280"/>
            <a:ext cx="144360" cy="14292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1998720" y="5056200"/>
            <a:ext cx="14436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017800" y="51325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1795320" y="44514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7" name=""/>
              <p:cNvSpPr txBox="1"/>
              <p:nvPr/>
            </p:nvSpPr>
            <p:spPr>
              <a:xfrm>
                <a:off x="1009800" y="4327560"/>
                <a:ext cx="401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48" name=""/>
          <p:cNvSpPr/>
          <p:nvPr/>
        </p:nvSpPr>
        <p:spPr>
          <a:xfrm>
            <a:off x="2327400" y="4129200"/>
            <a:ext cx="287280" cy="28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2274840" y="410040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2333520" y="4840200"/>
            <a:ext cx="287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2274840" y="479916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3232080" y="3395520"/>
            <a:ext cx="71640" cy="214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3298680" y="3395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3303720" y="3505320"/>
            <a:ext cx="971280" cy="144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4286160" y="3398760"/>
            <a:ext cx="71640" cy="214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4281480" y="3398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3708360" y="32115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4284720" y="3629160"/>
            <a:ext cx="0" cy="22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H="1">
            <a:off x="3301560" y="3798720"/>
            <a:ext cx="406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3708360" y="3798720"/>
            <a:ext cx="5698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3301920" y="3622680"/>
            <a:ext cx="0" cy="22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3708360" y="3624120"/>
            <a:ext cx="0" cy="22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3610080" y="310500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3295800" y="3513240"/>
            <a:ext cx="939600" cy="58680"/>
          </a:xfrm>
          <a:custGeom>
            <a:avLst/>
            <a:gdLst/>
            <a:ahLst/>
            <a:rect l="l" t="t" r="r" b="b"/>
            <a:pathLst>
              <a:path w="592" h="37">
                <a:moveTo>
                  <a:pt x="0" y="0"/>
                </a:moveTo>
                <a:cubicBezTo>
                  <a:pt x="11" y="1"/>
                  <a:pt x="39" y="1"/>
                  <a:pt x="64" y="4"/>
                </a:cubicBezTo>
                <a:cubicBezTo>
                  <a:pt x="89" y="7"/>
                  <a:pt x="121" y="12"/>
                  <a:pt x="148" y="16"/>
                </a:cubicBezTo>
                <a:cubicBezTo>
                  <a:pt x="175" y="20"/>
                  <a:pt x="199" y="25"/>
                  <a:pt x="224" y="28"/>
                </a:cubicBezTo>
                <a:cubicBezTo>
                  <a:pt x="249" y="31"/>
                  <a:pt x="271" y="35"/>
                  <a:pt x="300" y="36"/>
                </a:cubicBezTo>
                <a:cubicBezTo>
                  <a:pt x="329" y="37"/>
                  <a:pt x="369" y="36"/>
                  <a:pt x="401" y="34"/>
                </a:cubicBezTo>
                <a:cubicBezTo>
                  <a:pt x="433" y="32"/>
                  <a:pt x="460" y="29"/>
                  <a:pt x="492" y="24"/>
                </a:cubicBezTo>
                <a:cubicBezTo>
                  <a:pt x="524" y="19"/>
                  <a:pt x="571" y="8"/>
                  <a:pt x="592" y="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3308400" y="4097160"/>
            <a:ext cx="979560" cy="408240"/>
          </a:xfrm>
          <a:custGeom>
            <a:avLst/>
            <a:gdLst/>
            <a:ahLst/>
            <a:rect l="l" t="t" r="r" b="b"/>
            <a:pathLst>
              <a:path w="617" h="257">
                <a:moveTo>
                  <a:pt x="617" y="156"/>
                </a:moveTo>
                <a:lnTo>
                  <a:pt x="0" y="156"/>
                </a:lnTo>
                <a:lnTo>
                  <a:pt x="0" y="0"/>
                </a:lnTo>
                <a:lnTo>
                  <a:pt x="261" y="257"/>
                </a:lnTo>
                <a:lnTo>
                  <a:pt x="616" y="157"/>
                </a:ln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3722760" y="435456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7" name=""/>
              <p:cNvSpPr txBox="1"/>
              <p:nvPr/>
            </p:nvSpPr>
            <p:spPr>
              <a:xfrm>
                <a:off x="2782800" y="3759120"/>
                <a:ext cx="1028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 </m:t>
                        </m:r>
                      </m:sub>
                    </m:sSub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 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 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8" name=""/>
          <p:cNvSpPr/>
          <p:nvPr/>
        </p:nvSpPr>
        <p:spPr>
          <a:xfrm>
            <a:off x="3314880" y="5049720"/>
            <a:ext cx="979200" cy="411120"/>
          </a:xfrm>
          <a:custGeom>
            <a:avLst/>
            <a:gdLst/>
            <a:ahLst/>
            <a:rect l="l" t="t" r="r" b="b"/>
            <a:pathLst>
              <a:path w="617" h="259">
                <a:moveTo>
                  <a:pt x="617" y="170"/>
                </a:moveTo>
                <a:lnTo>
                  <a:pt x="0" y="165"/>
                </a:lnTo>
                <a:lnTo>
                  <a:pt x="0" y="0"/>
                </a:lnTo>
                <a:lnTo>
                  <a:pt x="260" y="0"/>
                </a:lnTo>
                <a:lnTo>
                  <a:pt x="265" y="259"/>
                </a:lnTo>
                <a:lnTo>
                  <a:pt x="617" y="259"/>
                </a:lnTo>
                <a:lnTo>
                  <a:pt x="617" y="170"/>
                </a:lnTo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3448080" y="5108400"/>
            <a:ext cx="144360" cy="14292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3938760" y="5316480"/>
            <a:ext cx="14436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3957480" y="539280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3308400" y="4091040"/>
            <a:ext cx="976320" cy="249120"/>
          </a:xfrm>
          <a:custGeom>
            <a:avLst/>
            <a:gdLst/>
            <a:ahLst/>
            <a:rect l="l" t="t" r="r" b="b"/>
            <a:pathLst>
              <a:path w="615" h="157">
                <a:moveTo>
                  <a:pt x="0" y="0"/>
                </a:moveTo>
                <a:lnTo>
                  <a:pt x="615" y="15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3722760" y="41911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3724200" y="419256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3722760" y="45115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3956040" y="4192560"/>
            <a:ext cx="7920" cy="316080"/>
          </a:xfrm>
          <a:custGeom>
            <a:avLst/>
            <a:gdLst/>
            <a:ahLst/>
            <a:rect l="l" t="t" r="r" b="b"/>
            <a:pathLst>
              <a:path w="5" h="199">
                <a:moveTo>
                  <a:pt x="0" y="0"/>
                </a:moveTo>
                <a:lnTo>
                  <a:pt x="5" y="199"/>
                </a:lnTo>
              </a:path>
            </a:pathLst>
          </a:custGeom>
          <a:noFill/>
          <a:ln w="6480">
            <a:solidFill>
              <a:srgbClr val="000000"/>
            </a:solidFill>
            <a:round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 flipV="1">
            <a:off x="3956040" y="4150800"/>
            <a:ext cx="255600" cy="166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3728880" y="4511520"/>
            <a:ext cx="51120" cy="59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3133800" y="50497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3152880" y="5464080"/>
            <a:ext cx="57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3203640" y="5043600"/>
            <a:ext cx="0" cy="41904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2889360" y="508176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4427640" y="4192560"/>
            <a:ext cx="287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4375080" y="416412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4433760" y="5103720"/>
            <a:ext cx="28764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4375080" y="506268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4230720" y="346536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8" name=""/>
              <p:cNvSpPr txBox="1"/>
              <p:nvPr/>
            </p:nvSpPr>
            <p:spPr>
              <a:xfrm>
                <a:off x="3699000" y="4468680"/>
                <a:ext cx="10810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 </m:t>
                        </m:r>
                      </m:sub>
                    </m:sSub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 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 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9" name=""/>
              <p:cNvSpPr txBox="1"/>
              <p:nvPr/>
            </p:nvSpPr>
            <p:spPr>
              <a:xfrm>
                <a:off x="2814480" y="4614840"/>
                <a:ext cx="831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 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90" name=""/>
          <p:cNvSpPr/>
          <p:nvPr/>
        </p:nvSpPr>
        <p:spPr>
          <a:xfrm>
            <a:off x="3132000" y="4917960"/>
            <a:ext cx="182880" cy="128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5369040" y="3413160"/>
            <a:ext cx="71280" cy="2142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5435640" y="34131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5440320" y="3522600"/>
            <a:ext cx="971640" cy="180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6423120" y="3416400"/>
            <a:ext cx="71280" cy="2142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418440" y="341640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6421320" y="3646440"/>
            <a:ext cx="0" cy="22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 flipH="1">
            <a:off x="5438520" y="3816360"/>
            <a:ext cx="406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5845320" y="3816360"/>
            <a:ext cx="5698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5438880" y="3639960"/>
            <a:ext cx="0" cy="22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5845320" y="3641760"/>
            <a:ext cx="0" cy="22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5589720" y="311472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rot="16200000">
            <a:off x="5744880" y="3394440"/>
            <a:ext cx="254160" cy="26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" y="8805"/>
                </a:moveTo>
                <a:arcTo wR="10800" hR="10800" stAng="-10161339" swAng="12364244"/>
                <a:lnTo>
                  <a:pt x="10800" y="10800"/>
                </a:lnTo>
                <a:close/>
              </a:path>
              <a:path fill="none" w="21600" h="21600">
                <a:moveTo>
                  <a:pt x="186" y="8805"/>
                </a:moveTo>
                <a:arcTo wR="10800" hR="10800" stAng="-10161339" swAng="1236424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437080" y="3486240"/>
            <a:ext cx="938160" cy="92160"/>
          </a:xfrm>
          <a:custGeom>
            <a:avLst/>
            <a:gdLst/>
            <a:ahLst/>
            <a:rect l="l" t="t" r="r" b="b"/>
            <a:pathLst>
              <a:path w="591" h="58">
                <a:moveTo>
                  <a:pt x="0" y="18"/>
                </a:moveTo>
                <a:cubicBezTo>
                  <a:pt x="10" y="17"/>
                  <a:pt x="36" y="17"/>
                  <a:pt x="60" y="14"/>
                </a:cubicBezTo>
                <a:cubicBezTo>
                  <a:pt x="84" y="11"/>
                  <a:pt x="115" y="2"/>
                  <a:pt x="143" y="1"/>
                </a:cubicBezTo>
                <a:cubicBezTo>
                  <a:pt x="171" y="0"/>
                  <a:pt x="205" y="4"/>
                  <a:pt x="231" y="9"/>
                </a:cubicBezTo>
                <a:cubicBezTo>
                  <a:pt x="257" y="14"/>
                  <a:pt x="274" y="27"/>
                  <a:pt x="300" y="34"/>
                </a:cubicBezTo>
                <a:cubicBezTo>
                  <a:pt x="326" y="41"/>
                  <a:pt x="362" y="50"/>
                  <a:pt x="388" y="54"/>
                </a:cubicBezTo>
                <a:cubicBezTo>
                  <a:pt x="414" y="58"/>
                  <a:pt x="435" y="58"/>
                  <a:pt x="459" y="57"/>
                </a:cubicBezTo>
                <a:cubicBezTo>
                  <a:pt x="483" y="56"/>
                  <a:pt x="513" y="53"/>
                  <a:pt x="535" y="49"/>
                </a:cubicBezTo>
                <a:cubicBezTo>
                  <a:pt x="557" y="45"/>
                  <a:pt x="579" y="36"/>
                  <a:pt x="591" y="33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5451480" y="4143240"/>
            <a:ext cx="971640" cy="393840"/>
          </a:xfrm>
          <a:custGeom>
            <a:avLst/>
            <a:gdLst/>
            <a:ahLst/>
            <a:rect l="l" t="t" r="r" b="b"/>
            <a:pathLst>
              <a:path w="612" h="248">
                <a:moveTo>
                  <a:pt x="612" y="73"/>
                </a:moveTo>
                <a:lnTo>
                  <a:pt x="0" y="73"/>
                </a:lnTo>
                <a:lnTo>
                  <a:pt x="2" y="116"/>
                </a:lnTo>
                <a:lnTo>
                  <a:pt x="258" y="0"/>
                </a:lnTo>
                <a:lnTo>
                  <a:pt x="258" y="248"/>
                </a:lnTo>
                <a:lnTo>
                  <a:pt x="611" y="75"/>
                </a:lnTo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6618240" y="4140360"/>
            <a:ext cx="287280" cy="28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6566040" y="411156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6624720" y="4768920"/>
            <a:ext cx="287280" cy="28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6566040" y="472752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5853240" y="41371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5861160" y="453708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6089760" y="4137120"/>
            <a:ext cx="0" cy="39528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6089760" y="4346640"/>
            <a:ext cx="215640" cy="115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6207120" y="429732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5457960" y="4879800"/>
            <a:ext cx="973080" cy="152640"/>
          </a:xfrm>
          <a:custGeom>
            <a:avLst/>
            <a:gdLst/>
            <a:ahLst/>
            <a:rect l="l" t="t" r="r" b="b"/>
            <a:pathLst>
              <a:path w="613" h="96">
                <a:moveTo>
                  <a:pt x="613" y="3"/>
                </a:moveTo>
                <a:lnTo>
                  <a:pt x="0" y="0"/>
                </a:lnTo>
                <a:lnTo>
                  <a:pt x="0" y="96"/>
                </a:lnTo>
                <a:lnTo>
                  <a:pt x="612" y="96"/>
                </a:lnTo>
                <a:lnTo>
                  <a:pt x="612" y="5"/>
                </a:lnTo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5872320" y="4889520"/>
            <a:ext cx="14436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5891040" y="496584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 flipH="1">
            <a:off x="5795640" y="4538520"/>
            <a:ext cx="586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6372360" y="347184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4886280" y="3879720"/>
                <a:ext cx="816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ξ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>
            <a:off x="5148360" y="4173480"/>
            <a:ext cx="306360" cy="157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4938840" y="5095800"/>
                <a:ext cx="9172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22" name=""/>
          <p:cNvSpPr/>
          <p:nvPr/>
        </p:nvSpPr>
        <p:spPr>
          <a:xfrm flipH="1">
            <a:off x="5364000" y="5022720"/>
            <a:ext cx="90720" cy="104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179800" y="5126040"/>
                <a:ext cx="401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24" name=""/>
          <p:cNvSpPr/>
          <p:nvPr/>
        </p:nvSpPr>
        <p:spPr>
          <a:xfrm>
            <a:off x="1116000" y="5692680"/>
            <a:ext cx="71280" cy="2145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1182600" y="5692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1189080" y="5803920"/>
            <a:ext cx="971640" cy="144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2174760" y="5692680"/>
            <a:ext cx="71640" cy="21456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2170080" y="5692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2124000" y="57578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1332000" y="33670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1476360" y="33670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1619280" y="33670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1763640" y="33670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1908000" y="33670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2050920" y="33670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1206360" y="3363840"/>
            <a:ext cx="9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1488960" y="580536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1187280" y="586260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2176560" y="586908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 flipH="1">
            <a:off x="1193400" y="596736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1822320" y="5967360"/>
            <a:ext cx="3477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1206360" y="3525840"/>
            <a:ext cx="920880" cy="79200"/>
          </a:xfrm>
          <a:custGeom>
            <a:avLst/>
            <a:gdLst/>
            <a:ahLst/>
            <a:rect l="l" t="t" r="r" b="b"/>
            <a:pathLst>
              <a:path w="580" h="50">
                <a:moveTo>
                  <a:pt x="0" y="0"/>
                </a:moveTo>
                <a:cubicBezTo>
                  <a:pt x="9" y="1"/>
                  <a:pt x="34" y="1"/>
                  <a:pt x="56" y="4"/>
                </a:cubicBezTo>
                <a:cubicBezTo>
                  <a:pt x="78" y="7"/>
                  <a:pt x="107" y="13"/>
                  <a:pt x="132" y="17"/>
                </a:cubicBezTo>
                <a:cubicBezTo>
                  <a:pt x="157" y="21"/>
                  <a:pt x="183" y="24"/>
                  <a:pt x="208" y="29"/>
                </a:cubicBezTo>
                <a:cubicBezTo>
                  <a:pt x="233" y="34"/>
                  <a:pt x="255" y="42"/>
                  <a:pt x="284" y="45"/>
                </a:cubicBezTo>
                <a:cubicBezTo>
                  <a:pt x="313" y="48"/>
                  <a:pt x="347" y="50"/>
                  <a:pt x="380" y="49"/>
                </a:cubicBezTo>
                <a:cubicBezTo>
                  <a:pt x="413" y="48"/>
                  <a:pt x="447" y="43"/>
                  <a:pt x="480" y="37"/>
                </a:cubicBezTo>
                <a:cubicBezTo>
                  <a:pt x="513" y="31"/>
                  <a:pt x="559" y="18"/>
                  <a:pt x="580" y="13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3480" bIns="33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3225960" y="5692680"/>
            <a:ext cx="71280" cy="2145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3292560" y="5692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3298680" y="5803920"/>
            <a:ext cx="971640" cy="144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4284720" y="5692680"/>
            <a:ext cx="71280" cy="21456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4280040" y="5692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4233960" y="575784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1136520" y="57592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1424160" y="576252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593720" y="5762520"/>
            <a:ext cx="14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770120" y="576252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54080" y="5762520"/>
            <a:ext cx="14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1560600" y="544356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3244680" y="575460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438360" y="5761080"/>
            <a:ext cx="2764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4272120" y="5873760"/>
            <a:ext cx="0" cy="22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3289320" y="5867280"/>
            <a:ext cx="0" cy="22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3708360" y="5869080"/>
            <a:ext cx="0" cy="22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48000" y="548964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08360" y="6054840"/>
            <a:ext cx="5698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3282840" y="6054840"/>
            <a:ext cx="4334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1200240" y="6041880"/>
            <a:ext cx="971640" cy="379440"/>
          </a:xfrm>
          <a:custGeom>
            <a:avLst/>
            <a:gdLst/>
            <a:ahLst/>
            <a:rect l="l" t="t" r="r" b="b"/>
            <a:pathLst>
              <a:path w="635" h="453">
                <a:moveTo>
                  <a:pt x="0" y="227"/>
                </a:moveTo>
                <a:lnTo>
                  <a:pt x="0" y="0"/>
                </a:lnTo>
                <a:lnTo>
                  <a:pt x="635" y="453"/>
                </a:lnTo>
                <a:lnTo>
                  <a:pt x="635" y="227"/>
                </a:lnTo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1193760" y="6227640"/>
            <a:ext cx="986040" cy="1800"/>
          </a:xfrm>
          <a:custGeom>
            <a:avLst/>
            <a:gdLst/>
            <a:ahLst/>
            <a:rect l="l" t="t" r="r" b="b"/>
            <a:pathLst>
              <a:path w="621" h="1">
                <a:moveTo>
                  <a:pt x="0" y="0"/>
                </a:moveTo>
                <a:lnTo>
                  <a:pt x="621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3920" bIns="-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1233360" y="6102360"/>
            <a:ext cx="108000" cy="10800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2030400" y="6257880"/>
            <a:ext cx="10800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2023920" y="63151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1270080" y="6238800"/>
                <a:ext cx="4302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9" name=""/>
          <p:cNvSpPr/>
          <p:nvPr/>
        </p:nvSpPr>
        <p:spPr>
          <a:xfrm>
            <a:off x="2340000" y="6134040"/>
            <a:ext cx="287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2281320" y="6105600"/>
            <a:ext cx="3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1063800" y="6039000"/>
            <a:ext cx="195120" cy="344160"/>
          </a:xfrm>
          <a:custGeom>
            <a:avLst/>
            <a:gdLst/>
            <a:ahLst/>
            <a:rect l="l" t="t" r="r" b="b"/>
            <a:pathLst>
              <a:path w="123" h="217">
                <a:moveTo>
                  <a:pt x="123" y="217"/>
                </a:moveTo>
                <a:cubicBezTo>
                  <a:pt x="89" y="206"/>
                  <a:pt x="53" y="192"/>
                  <a:pt x="33" y="172"/>
                </a:cubicBezTo>
                <a:cubicBezTo>
                  <a:pt x="13" y="152"/>
                  <a:pt x="4" y="124"/>
                  <a:pt x="2" y="100"/>
                </a:cubicBezTo>
                <a:cubicBezTo>
                  <a:pt x="0" y="76"/>
                  <a:pt x="9" y="45"/>
                  <a:pt x="22" y="28"/>
                </a:cubicBezTo>
                <a:cubicBezTo>
                  <a:pt x="35" y="11"/>
                  <a:pt x="70" y="6"/>
                  <a:pt x="8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1689120" y="6375240"/>
            <a:ext cx="476280" cy="74880"/>
          </a:xfrm>
          <a:custGeom>
            <a:avLst/>
            <a:gdLst/>
            <a:ahLst/>
            <a:rect l="l" t="t" r="r" b="b"/>
            <a:pathLst>
              <a:path w="300" h="47">
                <a:moveTo>
                  <a:pt x="0" y="0"/>
                </a:moveTo>
                <a:cubicBezTo>
                  <a:pt x="15" y="2"/>
                  <a:pt x="59" y="10"/>
                  <a:pt x="92" y="17"/>
                </a:cubicBezTo>
                <a:cubicBezTo>
                  <a:pt x="125" y="24"/>
                  <a:pt x="165" y="41"/>
                  <a:pt x="200" y="44"/>
                </a:cubicBezTo>
                <a:cubicBezTo>
                  <a:pt x="235" y="47"/>
                  <a:pt x="279" y="38"/>
                  <a:pt x="300" y="36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9160" bIns="29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3294000" y="6140520"/>
            <a:ext cx="973080" cy="298440"/>
          </a:xfrm>
          <a:custGeom>
            <a:avLst/>
            <a:gdLst/>
            <a:ahLst/>
            <a:rect l="l" t="t" r="r" b="b"/>
            <a:pathLst>
              <a:path w="613" h="188">
                <a:moveTo>
                  <a:pt x="0" y="103"/>
                </a:moveTo>
                <a:lnTo>
                  <a:pt x="1" y="0"/>
                </a:lnTo>
                <a:lnTo>
                  <a:pt x="265" y="0"/>
                </a:lnTo>
                <a:lnTo>
                  <a:pt x="265" y="188"/>
                </a:lnTo>
                <a:lnTo>
                  <a:pt x="613" y="188"/>
                </a:lnTo>
                <a:lnTo>
                  <a:pt x="612" y="103"/>
                </a:lnTo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3287880" y="6299280"/>
            <a:ext cx="985680" cy="1440"/>
          </a:xfrm>
          <a:custGeom>
            <a:avLst/>
            <a:gdLst/>
            <a:ahLst/>
            <a:rect l="l" t="t" r="r" b="b"/>
            <a:pathLst>
              <a:path w="621" h="1">
                <a:moveTo>
                  <a:pt x="0" y="0"/>
                </a:moveTo>
                <a:lnTo>
                  <a:pt x="621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44280" bIns="-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3456000" y="6167520"/>
            <a:ext cx="108000" cy="10800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3943440" y="6316560"/>
            <a:ext cx="10800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3936960" y="637380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4433760" y="6205680"/>
            <a:ext cx="287640" cy="28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4375080" y="617688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2817720" y="5985000"/>
            <a:ext cx="52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4821120" y="5576760"/>
            <a:ext cx="2160720" cy="96048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 rot="16200000">
            <a:off x="235800" y="5913720"/>
            <a:ext cx="72072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7236000" y="1189080"/>
            <a:ext cx="71280" cy="2142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7302600" y="1189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7307280" y="1298520"/>
            <a:ext cx="971640" cy="180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8290080" y="1192320"/>
            <a:ext cx="71280" cy="2142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8285040" y="11923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7613640" y="146520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7296120" y="136224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H="1">
            <a:off x="7299000" y="161460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7940520" y="1614600"/>
            <a:ext cx="3477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388360" y="1197000"/>
            <a:ext cx="108000" cy="1792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305920" y="129384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8440560" y="115092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8440560" y="137304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8440560" y="119700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8605800" y="119700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8524800" y="112536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7583400" y="942840"/>
            <a:ext cx="538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7588080" y="1222200"/>
            <a:ext cx="538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8285040" y="136836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7223040" y="2192400"/>
            <a:ext cx="115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7308720" y="2035080"/>
            <a:ext cx="971640" cy="152640"/>
          </a:xfrm>
          <a:custGeom>
            <a:avLst/>
            <a:gdLst/>
            <a:ahLst/>
            <a:rect l="l" t="t" r="r" b="b"/>
            <a:pathLst>
              <a:path w="612" h="96">
                <a:moveTo>
                  <a:pt x="612" y="2"/>
                </a:moveTo>
                <a:lnTo>
                  <a:pt x="0" y="0"/>
                </a:lnTo>
                <a:lnTo>
                  <a:pt x="0" y="96"/>
                </a:lnTo>
                <a:lnTo>
                  <a:pt x="612" y="96"/>
                </a:lnTo>
                <a:lnTo>
                  <a:pt x="612" y="5"/>
                </a:lnTo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8440560" y="2028960"/>
            <a:ext cx="287640" cy="28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8388360" y="200016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8439120" y="2727360"/>
            <a:ext cx="287280" cy="28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8380440" y="269892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8204040" y="23385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9" name=""/>
              <p:cNvSpPr txBox="1"/>
              <p:nvPr/>
            </p:nvSpPr>
            <p:spPr>
              <a:xfrm>
                <a:off x="7053120" y="1647720"/>
                <a:ext cx="822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0" name=""/>
              <p:cNvSpPr txBox="1"/>
              <p:nvPr/>
            </p:nvSpPr>
            <p:spPr>
              <a:xfrm>
                <a:off x="7248600" y="2166840"/>
                <a:ext cx="10764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1" name=""/>
          <p:cNvSpPr/>
          <p:nvPr/>
        </p:nvSpPr>
        <p:spPr>
          <a:xfrm>
            <a:off x="7308720" y="2743200"/>
            <a:ext cx="974880" cy="152280"/>
          </a:xfrm>
          <a:custGeom>
            <a:avLst/>
            <a:gdLst/>
            <a:ahLst/>
            <a:rect l="l" t="t" r="r" b="b"/>
            <a:pathLst>
              <a:path w="614" h="96">
                <a:moveTo>
                  <a:pt x="614" y="2"/>
                </a:moveTo>
                <a:lnTo>
                  <a:pt x="0" y="0"/>
                </a:lnTo>
                <a:lnTo>
                  <a:pt x="0" y="96"/>
                </a:lnTo>
                <a:lnTo>
                  <a:pt x="612" y="96"/>
                </a:lnTo>
                <a:lnTo>
                  <a:pt x="612" y="5"/>
                </a:lnTo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7723080" y="2754360"/>
            <a:ext cx="14472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7742160" y="283068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4" name=""/>
              <p:cNvSpPr txBox="1"/>
              <p:nvPr/>
            </p:nvSpPr>
            <p:spPr>
              <a:xfrm>
                <a:off x="7358040" y="2878200"/>
                <a:ext cx="959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5" name=""/>
          <p:cNvSpPr/>
          <p:nvPr/>
        </p:nvSpPr>
        <p:spPr>
          <a:xfrm>
            <a:off x="8427960" y="2379600"/>
            <a:ext cx="287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7302600" y="2546280"/>
            <a:ext cx="971280" cy="180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7032600" y="237168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8151840" y="236844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7236000" y="3414600"/>
            <a:ext cx="71280" cy="21456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7302600" y="34146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7307280" y="3524400"/>
            <a:ext cx="971640" cy="144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8290080" y="3417840"/>
            <a:ext cx="71280" cy="2142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8285040" y="34178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7613640" y="369108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7296120" y="358776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 flipH="1">
            <a:off x="7299000" y="384012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7940520" y="3840120"/>
            <a:ext cx="3477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8388360" y="3422520"/>
            <a:ext cx="108000" cy="179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8305920" y="351936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8440560" y="3376440"/>
            <a:ext cx="0" cy="287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8440560" y="359892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8440560" y="342252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8605800" y="342252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8524800" y="335124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7588080" y="3479760"/>
            <a:ext cx="538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8285040" y="359424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7308720" y="4336920"/>
            <a:ext cx="971640" cy="168480"/>
          </a:xfrm>
          <a:custGeom>
            <a:avLst/>
            <a:gdLst/>
            <a:ahLst/>
            <a:rect l="l" t="t" r="r" b="b"/>
            <a:pathLst>
              <a:path w="612" h="106">
                <a:moveTo>
                  <a:pt x="612" y="104"/>
                </a:moveTo>
                <a:lnTo>
                  <a:pt x="0" y="106"/>
                </a:lnTo>
                <a:lnTo>
                  <a:pt x="0" y="0"/>
                </a:lnTo>
                <a:lnTo>
                  <a:pt x="612" y="100"/>
                </a:lnTo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8434440" y="4280040"/>
            <a:ext cx="287280" cy="28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8381880" y="425124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8432640" y="5078520"/>
            <a:ext cx="287640" cy="28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8373960" y="504972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8388360" y="4643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7269120" y="3881520"/>
                <a:ext cx="9619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44" name=""/>
          <p:cNvSpPr/>
          <p:nvPr/>
        </p:nvSpPr>
        <p:spPr>
          <a:xfrm>
            <a:off x="7308720" y="5094360"/>
            <a:ext cx="974880" cy="152280"/>
          </a:xfrm>
          <a:custGeom>
            <a:avLst/>
            <a:gdLst/>
            <a:ahLst/>
            <a:rect l="l" t="t" r="r" b="b"/>
            <a:pathLst>
              <a:path w="614" h="96">
                <a:moveTo>
                  <a:pt x="614" y="2"/>
                </a:moveTo>
                <a:lnTo>
                  <a:pt x="0" y="0"/>
                </a:lnTo>
                <a:lnTo>
                  <a:pt x="0" y="96"/>
                </a:lnTo>
                <a:lnTo>
                  <a:pt x="612" y="96"/>
                </a:lnTo>
                <a:lnTo>
                  <a:pt x="612" y="5"/>
                </a:lnTo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7723080" y="5105520"/>
            <a:ext cx="14472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7742160" y="518148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7358040" y="5229360"/>
                <a:ext cx="959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48" name=""/>
          <p:cNvSpPr/>
          <p:nvPr/>
        </p:nvSpPr>
        <p:spPr>
          <a:xfrm>
            <a:off x="8427960" y="4684680"/>
            <a:ext cx="287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8238960" y="347508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7596360" y="3164040"/>
            <a:ext cx="537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7304040" y="3532320"/>
            <a:ext cx="939960" cy="36360"/>
          </a:xfrm>
          <a:custGeom>
            <a:avLst/>
            <a:gdLst/>
            <a:ahLst/>
            <a:rect l="l" t="t" r="r" b="b"/>
            <a:pathLst>
              <a:path w="592" h="37">
                <a:moveTo>
                  <a:pt x="0" y="0"/>
                </a:moveTo>
                <a:cubicBezTo>
                  <a:pt x="11" y="1"/>
                  <a:pt x="39" y="1"/>
                  <a:pt x="64" y="4"/>
                </a:cubicBezTo>
                <a:cubicBezTo>
                  <a:pt x="89" y="7"/>
                  <a:pt x="121" y="12"/>
                  <a:pt x="148" y="16"/>
                </a:cubicBezTo>
                <a:cubicBezTo>
                  <a:pt x="175" y="20"/>
                  <a:pt x="199" y="25"/>
                  <a:pt x="224" y="28"/>
                </a:cubicBezTo>
                <a:cubicBezTo>
                  <a:pt x="249" y="31"/>
                  <a:pt x="271" y="35"/>
                  <a:pt x="300" y="36"/>
                </a:cubicBezTo>
                <a:cubicBezTo>
                  <a:pt x="329" y="37"/>
                  <a:pt x="369" y="36"/>
                  <a:pt x="401" y="34"/>
                </a:cubicBezTo>
                <a:cubicBezTo>
                  <a:pt x="433" y="32"/>
                  <a:pt x="460" y="29"/>
                  <a:pt x="492" y="24"/>
                </a:cubicBezTo>
                <a:cubicBezTo>
                  <a:pt x="524" y="19"/>
                  <a:pt x="571" y="8"/>
                  <a:pt x="592" y="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9360" bIns="-9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7308720" y="4821120"/>
            <a:ext cx="974880" cy="152640"/>
          </a:xfrm>
          <a:custGeom>
            <a:avLst/>
            <a:gdLst/>
            <a:ahLst/>
            <a:rect l="l" t="t" r="r" b="b"/>
            <a:pathLst>
              <a:path w="614" h="96">
                <a:moveTo>
                  <a:pt x="614" y="2"/>
                </a:moveTo>
                <a:lnTo>
                  <a:pt x="0" y="0"/>
                </a:lnTo>
                <a:lnTo>
                  <a:pt x="0" y="96"/>
                </a:lnTo>
                <a:lnTo>
                  <a:pt x="612" y="96"/>
                </a:lnTo>
                <a:lnTo>
                  <a:pt x="612" y="5"/>
                </a:lnTo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7728120" y="4822920"/>
            <a:ext cx="144360" cy="14292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7093080" y="4479840"/>
                <a:ext cx="125568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5" name=""/>
          <p:cNvSpPr/>
          <p:nvPr/>
        </p:nvSpPr>
        <p:spPr>
          <a:xfrm>
            <a:off x="7236000" y="5676840"/>
            <a:ext cx="71280" cy="2142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7302600" y="56768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7307280" y="5786280"/>
            <a:ext cx="971640" cy="1800"/>
          </a:xfrm>
          <a:custGeom>
            <a:avLst/>
            <a:gdLst/>
            <a:ahLst/>
            <a:rect l="l" t="t" r="r" b="b"/>
            <a:pathLst>
              <a:path w="377" h="551">
                <a:moveTo>
                  <a:pt x="0" y="551"/>
                </a:moveTo>
                <a:cubicBezTo>
                  <a:pt x="63" y="458"/>
                  <a:pt x="299" y="115"/>
                  <a:pt x="37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8290080" y="5673600"/>
            <a:ext cx="71280" cy="2145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8285040" y="56736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7613640" y="591516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7296120" y="583092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 flipH="1">
            <a:off x="7299000" y="606420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7940520" y="6064200"/>
            <a:ext cx="34776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8388360" y="5684760"/>
            <a:ext cx="108000" cy="179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8305920" y="578160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8440560" y="563868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8440560" y="586116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8440560" y="568476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8605800" y="5684760"/>
            <a:ext cx="0" cy="17460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8524800" y="5613480"/>
            <a:ext cx="393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7594560" y="5703840"/>
            <a:ext cx="538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8285040" y="58374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8238960" y="57373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7596360" y="5438880"/>
            <a:ext cx="537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8432640" y="6108840"/>
            <a:ext cx="287640" cy="28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8373960" y="6080040"/>
            <a:ext cx="3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7308720" y="6226200"/>
            <a:ext cx="974880" cy="144360"/>
          </a:xfrm>
          <a:custGeom>
            <a:avLst/>
            <a:gdLst/>
            <a:ahLst/>
            <a:rect l="l" t="t" r="r" b="b"/>
            <a:pathLst>
              <a:path w="614" h="96">
                <a:moveTo>
                  <a:pt x="614" y="2"/>
                </a:moveTo>
                <a:lnTo>
                  <a:pt x="0" y="0"/>
                </a:lnTo>
                <a:lnTo>
                  <a:pt x="0" y="96"/>
                </a:lnTo>
                <a:lnTo>
                  <a:pt x="612" y="96"/>
                </a:lnTo>
                <a:lnTo>
                  <a:pt x="612" y="5"/>
                </a:lnTo>
              </a:path>
            </a:pathLst>
          </a:custGeom>
          <a:blipFill rotWithShape="0">
            <a:blip r:embed="rId4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7723080" y="6224760"/>
            <a:ext cx="144720" cy="14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7742160" y="63007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0" name=""/>
              <p:cNvSpPr txBox="1"/>
              <p:nvPr/>
            </p:nvSpPr>
            <p:spPr>
              <a:xfrm>
                <a:off x="7385040" y="6343560"/>
                <a:ext cx="86364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1" name=""/>
          <p:cNvSpPr/>
          <p:nvPr/>
        </p:nvSpPr>
        <p:spPr>
          <a:xfrm>
            <a:off x="7254720" y="57405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1792440" y="428616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8001000" y="1611360"/>
            <a:ext cx="944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de-DE" sz="1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de-DE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de-DE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5416560" y="127476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5902200" y="127476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3282840" y="348444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3768840" y="348444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5405400" y="349740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5891040" y="349740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4440240" y="1131840"/>
            <a:ext cx="863640" cy="314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1" name=""/>
              <p:cNvSpPr txBox="1"/>
              <p:nvPr/>
            </p:nvSpPr>
            <p:spPr>
              <a:xfrm>
                <a:off x="4125960" y="1647720"/>
                <a:ext cx="5349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 </m:t>
                        </m:r>
                      </m:sub>
                    </m:sSub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 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2" name=""/>
              <p:cNvSpPr txBox="1"/>
              <p:nvPr/>
            </p:nvSpPr>
            <p:spPr>
              <a:xfrm>
                <a:off x="2959200" y="2093760"/>
                <a:ext cx="6332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 </m:t>
                        </m:r>
                      </m:sub>
                    </m:sSub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 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3" name=""/>
              <p:cNvSpPr txBox="1"/>
              <p:nvPr/>
            </p:nvSpPr>
            <p:spPr>
              <a:xfrm>
                <a:off x="4060800" y="2165400"/>
                <a:ext cx="5349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 </m:t>
                        </m:r>
                      </m:sub>
                    </m:sSub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 </m:t>
                        </m:r>
                      </m:sub>
                    </m:sSub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4" name=""/>
              <p:cNvSpPr txBox="1"/>
              <p:nvPr/>
            </p:nvSpPr>
            <p:spPr>
              <a:xfrm>
                <a:off x="3635280" y="2900520"/>
                <a:ext cx="87156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ξ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 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4141800" y="3927600"/>
                <a:ext cx="5205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 </m:t>
                        </m:r>
                      </m:sub>
                    </m:sSub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96" name=""/>
          <p:cNvSpPr/>
          <p:nvPr/>
        </p:nvSpPr>
        <p:spPr>
          <a:xfrm>
            <a:off x="3284640" y="574200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3770280" y="574200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3279600" y="6248520"/>
            <a:ext cx="525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9" name=""/>
              <p:cNvSpPr txBox="1"/>
              <p:nvPr/>
            </p:nvSpPr>
            <p:spPr>
              <a:xfrm>
                <a:off x="4788000" y="2151000"/>
                <a:ext cx="9046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3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0" name=""/>
              <p:cNvSpPr txBox="1"/>
              <p:nvPr/>
            </p:nvSpPr>
            <p:spPr>
              <a:xfrm>
                <a:off x="5359320" y="4524480"/>
                <a:ext cx="9558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 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8" dur="indefinite" restart="never" nodeType="tmRoot">
          <p:childTnLst>
            <p:seq>
              <p:cTn id="6279" dur="indefinite" nodeType="mainSeq">
                <p:childTnLst>
                  <p:par>
                    <p:cTn id="6280" fill="hold">
                      <p:stCondLst>
                        <p:cond delay="0"/>
                      </p:stCondLst>
                      <p:childTnLst>
                        <p:par>
                          <p:cTn id="6281" fill="hold">
                            <p:stCondLst>
                              <p:cond delay="0"/>
                            </p:stCondLst>
                            <p:childTnLst>
                              <p:par>
                                <p:cTn id="6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4" dur="10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5" dur="10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6" dur="1000"/>
                                        <p:tgtEl>
                                          <p:spTgt spid="2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7" fill="hold">
                      <p:stCondLst>
                        <p:cond delay="indefinite"/>
                      </p:stCondLst>
                      <p:childTnLst>
                        <p:par>
                          <p:cTn id="6288" fill="hold">
                            <p:stCondLst>
                              <p:cond delay="0"/>
                            </p:stCondLst>
                            <p:childTnLst>
                              <p:par>
                                <p:cTn id="6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1" dur="5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2" fill="hold">
                      <p:stCondLst>
                        <p:cond delay="indefinite"/>
                      </p:stCondLst>
                      <p:childTnLst>
                        <p:par>
                          <p:cTn id="6293" fill="hold">
                            <p:stCondLst>
                              <p:cond delay="0"/>
                            </p:stCondLst>
                            <p:childTnLst>
                              <p:par>
                                <p:cTn id="6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6" dur="500"/>
                                        <p:tgtEl>
                                          <p:spTgt spid="2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9" dur="500"/>
                                        <p:tgtEl>
                                          <p:spTgt spid="2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2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5" dur="500"/>
                                        <p:tgtEl>
                                          <p:spTgt spid="2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8" dur="5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1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4" dur="5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7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0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3" dur="5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6" dur="5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9" dur="5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2" dur="500"/>
                                        <p:tgtEl>
                                          <p:spTgt spid="2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5" dur="5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8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1" dur="5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4" dur="500"/>
                                        <p:tgtEl>
                                          <p:spTgt spid="2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7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0" dur="500"/>
                                        <p:tgtEl>
                                          <p:spTgt spid="2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3" dur="500"/>
                                        <p:tgtEl>
                                          <p:spTgt spid="2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6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9" dur="5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2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5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8" dur="5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1" dur="500"/>
                                        <p:tgtEl>
                                          <p:spTgt spid="2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4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7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0" dur="5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3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6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9" dur="5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5" dur="5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8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1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4" dur="5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7" dur="500"/>
                                        <p:tgtEl>
                                          <p:spTgt spid="2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0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3" dur="500"/>
                                        <p:tgtEl>
                                          <p:spTgt spid="2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6" dur="500"/>
                                        <p:tgtEl>
                                          <p:spTgt spid="2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9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2" dur="500"/>
                                        <p:tgtEl>
                                          <p:spTgt spid="2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5" dur="500"/>
                                        <p:tgtEl>
                                          <p:spTgt spid="2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8" dur="5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1" dur="5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4" dur="500"/>
                                        <p:tgtEl>
                                          <p:spTgt spid="2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7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0" dur="5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3" dur="5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6" dur="5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9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2" dur="500"/>
                                        <p:tgtEl>
                                          <p:spTgt spid="2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5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8" dur="500"/>
                                        <p:tgtEl>
                                          <p:spTgt spid="2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1" dur="5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4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7" dur="5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0" dur="5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3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6" dur="5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9" dur="5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2" dur="500"/>
                                        <p:tgtEl>
                                          <p:spTgt spid="2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5" dur="500"/>
                                        <p:tgtEl>
                                          <p:spTgt spid="2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8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1" dur="500"/>
                                        <p:tgtEl>
                                          <p:spTgt spid="2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4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7" dur="5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0" dur="500"/>
                                        <p:tgtEl>
                                          <p:spTgt spid="2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3" dur="500"/>
                                        <p:tgtEl>
                                          <p:spTgt spid="2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6" dur="5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9" dur="500"/>
                                        <p:tgtEl>
                                          <p:spTgt spid="2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2" dur="500"/>
                                        <p:tgtEl>
                                          <p:spTgt spid="2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5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8" dur="500"/>
                                        <p:tgtEl>
                                          <p:spTgt spid="2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1" dur="5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4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7" dur="500"/>
                                        <p:tgtEl>
                                          <p:spTgt spid="2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0" dur="500"/>
                                        <p:tgtEl>
                                          <p:spTgt spid="2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3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9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2" dur="500"/>
                                        <p:tgtEl>
                                          <p:spTgt spid="2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5" dur="500"/>
                                        <p:tgtEl>
                                          <p:spTgt spid="2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8" dur="500"/>
                                        <p:tgtEl>
                                          <p:spTgt spid="2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1" dur="500"/>
                                        <p:tgtEl>
                                          <p:spTgt spid="2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4" dur="5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7" dur="500"/>
                                        <p:tgtEl>
                                          <p:spTgt spid="2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0" dur="500"/>
                                        <p:tgtEl>
                                          <p:spTgt spid="2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3" dur="500"/>
                                        <p:tgtEl>
                                          <p:spTgt spid="2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6" dur="500"/>
                                        <p:tgtEl>
                                          <p:spTgt spid="2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9" dur="5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2" dur="5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5" dur="500"/>
                                        <p:tgtEl>
                                          <p:spTgt spid="2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8" dur="5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1" dur="5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4" dur="5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7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0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3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6" dur="5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9" dur="5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2" dur="5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5" dur="5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8" dur="5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1" dur="500"/>
                                        <p:tgtEl>
                                          <p:spTgt spid="2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4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7" dur="500"/>
                                        <p:tgtEl>
                                          <p:spTgt spid="2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0" dur="500"/>
                                        <p:tgtEl>
                                          <p:spTgt spid="2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3" dur="5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6" dur="500"/>
                                        <p:tgtEl>
                                          <p:spTgt spid="2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9" dur="500"/>
                                        <p:tgtEl>
                                          <p:spTgt spid="2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2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5" dur="500"/>
                                        <p:tgtEl>
                                          <p:spTgt spid="2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8" dur="500"/>
                                        <p:tgtEl>
                                          <p:spTgt spid="2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1" dur="5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4" dur="5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7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0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3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6" dur="500"/>
                                        <p:tgtEl>
                                          <p:spTgt spid="2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9" dur="5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2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5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8" dur="5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1" dur="500"/>
                                        <p:tgtEl>
                                          <p:spTgt spid="2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4" dur="500"/>
                                        <p:tgtEl>
                                          <p:spTgt spid="2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7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0" dur="500"/>
                                        <p:tgtEl>
                                          <p:spTgt spid="2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3" dur="500"/>
                                        <p:tgtEl>
                                          <p:spTgt spid="2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6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9" dur="500"/>
                                        <p:tgtEl>
                                          <p:spTgt spid="2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2" dur="500"/>
                                        <p:tgtEl>
                                          <p:spTgt spid="2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5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8" dur="500"/>
                                        <p:tgtEl>
                                          <p:spTgt spid="2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1" dur="500"/>
                                        <p:tgtEl>
                                          <p:spTgt spid="2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4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7" dur="500"/>
                                        <p:tgtEl>
                                          <p:spTgt spid="2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0" dur="5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3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6" dur="500"/>
                                        <p:tgtEl>
                                          <p:spTgt spid="2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9" dur="5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2" dur="5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3" fill="hold">
                      <p:stCondLst>
                        <p:cond delay="indefinite"/>
                      </p:stCondLst>
                      <p:childTnLst>
                        <p:par>
                          <p:cTn id="6724" fill="hold">
                            <p:stCondLst>
                              <p:cond delay="0"/>
                            </p:stCondLst>
                            <p:childTnLst>
                              <p:par>
                                <p:cTn id="6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7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0" dur="5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3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6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9" dur="5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2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5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8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4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7" dur="500"/>
                                        <p:tgtEl>
                                          <p:spTgt spid="2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0" dur="500"/>
                                        <p:tgtEl>
                                          <p:spTgt spid="2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3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6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9" dur="500"/>
                                        <p:tgtEl>
                                          <p:spTgt spid="2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2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5" dur="5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8" dur="5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1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4" dur="5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7" dur="5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0" dur="5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3" dur="500"/>
                                        <p:tgtEl>
                                          <p:spTgt spid="2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6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9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2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5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8" dur="5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1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4" dur="500"/>
                                        <p:tgtEl>
                                          <p:spTgt spid="2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7" dur="500"/>
                                        <p:tgtEl>
                                          <p:spTgt spid="2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0" dur="500"/>
                                        <p:tgtEl>
                                          <p:spTgt spid="2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3" dur="500"/>
                                        <p:tgtEl>
                                          <p:spTgt spid="2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6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9" dur="500"/>
                                        <p:tgtEl>
                                          <p:spTgt spid="2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2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5" dur="5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8" dur="500"/>
                                        <p:tgtEl>
                                          <p:spTgt spid="2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1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7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0" dur="5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3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6" dur="500"/>
                                        <p:tgtEl>
                                          <p:spTgt spid="2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9" dur="500"/>
                                        <p:tgtEl>
                                          <p:spTgt spid="2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2" dur="500"/>
                                        <p:tgtEl>
                                          <p:spTgt spid="2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5" dur="500"/>
                                        <p:tgtEl>
                                          <p:spTgt spid="2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8" dur="500"/>
                                        <p:tgtEl>
                                          <p:spTgt spid="2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1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4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7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0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3" dur="500"/>
                                        <p:tgtEl>
                                          <p:spTgt spid="2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6" dur="5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9" dur="500"/>
                                        <p:tgtEl>
                                          <p:spTgt spid="2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2" dur="500"/>
                                        <p:tgtEl>
                                          <p:spTgt spid="2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5" dur="5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8" dur="500"/>
                                        <p:tgtEl>
                                          <p:spTgt spid="2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1" dur="500"/>
                                        <p:tgtEl>
                                          <p:spTgt spid="2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4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7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0" dur="500"/>
                                        <p:tgtEl>
                                          <p:spTgt spid="2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3" dur="5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6" dur="500"/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9" dur="500"/>
                                        <p:tgtEl>
                                          <p:spTgt spid="2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2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5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8" dur="500"/>
                                        <p:tgtEl>
                                          <p:spTgt spid="2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1" dur="5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4" dur="5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7" dur="500"/>
                                        <p:tgtEl>
                                          <p:spTgt spid="2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0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3" dur="5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6" dur="500"/>
                                        <p:tgtEl>
                                          <p:spTgt spid="2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9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2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5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8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1" dur="5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4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7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0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3" dur="5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6" dur="500"/>
                                        <p:tgtEl>
                                          <p:spTgt spid="2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9" dur="5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2" dur="5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5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8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1" dur="5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4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7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0" dur="500"/>
                                        <p:tgtEl>
                                          <p:spTgt spid="2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3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6" dur="5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9" dur="500"/>
                                        <p:tgtEl>
                                          <p:spTgt spid="2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2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5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8" dur="5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1" dur="5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4" dur="5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7" dur="500"/>
                                        <p:tgtEl>
                                          <p:spTgt spid="2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0" dur="5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3" dur="5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6" dur="500"/>
                                        <p:tgtEl>
                                          <p:spTgt spid="2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9" dur="5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2" dur="5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5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8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1" dur="500"/>
                                        <p:tgtEl>
                                          <p:spTgt spid="2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4" dur="500"/>
                                        <p:tgtEl>
                                          <p:spTgt spid="2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7" dur="5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0" dur="500"/>
                                        <p:tgtEl>
                                          <p:spTgt spid="2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3" dur="500"/>
                                        <p:tgtEl>
                                          <p:spTgt spid="2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6" dur="5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9" dur="500"/>
                                        <p:tgtEl>
                                          <p:spTgt spid="2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2" dur="5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5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8" dur="500"/>
                                        <p:tgtEl>
                                          <p:spTgt spid="2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1" dur="5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4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7" dur="500"/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0" dur="500"/>
                                        <p:tgtEl>
                                          <p:spTgt spid="2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3" dur="500"/>
                                        <p:tgtEl>
                                          <p:spTgt spid="2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6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9" dur="500"/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2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5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8" dur="500"/>
                                        <p:tgtEl>
                                          <p:spTgt spid="2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1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4" dur="5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7" dur="500"/>
                                        <p:tgtEl>
                                          <p:spTgt spid="2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0" dur="5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3" dur="500"/>
                                        <p:tgtEl>
                                          <p:spTgt spid="2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6" dur="500"/>
                                        <p:tgtEl>
                                          <p:spTgt spid="2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9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2" dur="5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5" dur="5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8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1" dur="5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4" dur="5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7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0" dur="5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3" dur="5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6" dur="500"/>
                                        <p:tgtEl>
                                          <p:spTgt spid="2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7" fill="hold">
                      <p:stCondLst>
                        <p:cond delay="indefinite"/>
                      </p:stCondLst>
                      <p:childTnLst>
                        <p:par>
                          <p:cTn id="7158" fill="hold">
                            <p:stCondLst>
                              <p:cond delay="0"/>
                            </p:stCondLst>
                            <p:childTnLst>
                              <p:par>
                                <p:cTn id="7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1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4" dur="500"/>
                                        <p:tgtEl>
                                          <p:spTgt spid="2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7" dur="5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0" dur="500"/>
                                        <p:tgtEl>
                                          <p:spTgt spid="2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3" dur="5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6" dur="500"/>
                                        <p:tgtEl>
                                          <p:spTgt spid="2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9" dur="500"/>
                                        <p:tgtEl>
                                          <p:spTgt spid="2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2" dur="5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5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8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1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4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7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0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3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6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9" dur="5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2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5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8" dur="5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1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4" dur="5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7" dur="5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0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3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6" dur="5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9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2" dur="5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5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8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1" dur="500"/>
                                        <p:tgtEl>
                                          <p:spTgt spid="2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4" dur="500"/>
                                        <p:tgtEl>
                                          <p:spTgt spid="2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7" dur="5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0" dur="5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3" dur="500"/>
                                        <p:tgtEl>
                                          <p:spTgt spid="2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6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9" dur="5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2" dur="5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5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8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1" dur="500"/>
                                        <p:tgtEl>
                                          <p:spTgt spid="2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4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7" dur="500"/>
                                        <p:tgtEl>
                                          <p:spTgt spid="2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0" dur="5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3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6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9" dur="500"/>
                                        <p:tgtEl>
                                          <p:spTgt spid="2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2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5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8" dur="5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1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4" dur="5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7" dur="500"/>
                                        <p:tgtEl>
                                          <p:spTgt spid="2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0" dur="5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3" dur="5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6" dur="500"/>
                                        <p:tgtEl>
                                          <p:spTgt spid="2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9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2" dur="500"/>
                                        <p:tgtEl>
                                          <p:spTgt spid="2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5" dur="5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8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1" dur="500"/>
                                        <p:tgtEl>
                                          <p:spTgt spid="2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4" dur="500"/>
                                        <p:tgtEl>
                                          <p:spTgt spid="2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7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0" dur="500"/>
                                        <p:tgtEl>
                                          <p:spTgt spid="2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3" dur="5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6" dur="5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9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2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5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8" dur="500"/>
                                        <p:tgtEl>
                                          <p:spTgt spid="2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1" dur="5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4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7" dur="500"/>
                                        <p:tgtEl>
                                          <p:spTgt spid="2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0" dur="500"/>
                                        <p:tgtEl>
                                          <p:spTgt spid="2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3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6" dur="500"/>
                                        <p:tgtEl>
                                          <p:spTgt spid="2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9" dur="500"/>
                                        <p:tgtEl>
                                          <p:spTgt spid="2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2" dur="500"/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5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8" dur="500"/>
                                        <p:tgtEl>
                                          <p:spTgt spid="2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1" dur="5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4" dur="500"/>
                                        <p:tgtEl>
                                          <p:spTgt spid="2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7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0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3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6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9" dur="5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2" dur="5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5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8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1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4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7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0" dur="5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3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6" dur="5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1763640" y="345960"/>
            <a:ext cx="5689800" cy="337320"/>
          </a:xfrm>
          <a:prstGeom prst="rect">
            <a:avLst/>
          </a:prstGeom>
          <a:solidFill>
            <a:srgbClr val="cd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Свойства матрицы внешней жёсткости ОС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3" name=""/>
              <p:cNvSpPr txBox="1"/>
              <p:nvPr/>
            </p:nvSpPr>
            <p:spPr>
              <a:xfrm>
                <a:off x="409680" y="752400"/>
                <a:ext cx="1955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ba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4" name=""/>
              <p:cNvSpPr txBox="1"/>
              <p:nvPr/>
            </p:nvSpPr>
            <p:spPr>
              <a:xfrm>
                <a:off x="2475000" y="752400"/>
                <a:ext cx="1666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5" name=""/>
          <p:cNvSpPr/>
          <p:nvPr/>
        </p:nvSpPr>
        <p:spPr>
          <a:xfrm>
            <a:off x="3975120" y="855720"/>
            <a:ext cx="3166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  теореме Рэлея (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J.W. Rayleig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349200" y="730080"/>
            <a:ext cx="1943280" cy="432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2436840" y="730080"/>
            <a:ext cx="4681440" cy="432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7261200" y="73980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&gt;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7262640" y="730080"/>
            <a:ext cx="1511640" cy="432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2089080" y="1268280"/>
            <a:ext cx="4753080" cy="337320"/>
          </a:xfrm>
          <a:prstGeom prst="rect">
            <a:avLst/>
          </a:prstGeom>
          <a:solidFill>
            <a:srgbClr val="cd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роверки коэффициентов КУ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24000" y="1552680"/>
            <a:ext cx="8496000" cy="6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Используются суммарные единичные силовые фактор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s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нутренние усилия и ре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пругих связей от одновременных единичных смещени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1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…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2124000" y="2158920"/>
            <a:ext cx="4718160" cy="30708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.  Универсальная проверка коэффициент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3" name=""/>
              <p:cNvSpPr txBox="1"/>
              <p:nvPr/>
            </p:nvSpPr>
            <p:spPr>
              <a:xfrm>
                <a:off x="1946160" y="2411280"/>
                <a:ext cx="5322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4" name=""/>
          <p:cNvSpPr/>
          <p:nvPr/>
        </p:nvSpPr>
        <p:spPr>
          <a:xfrm>
            <a:off x="2124000" y="3243240"/>
            <a:ext cx="4753080" cy="44352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.  Построчная проверка коэффициентов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ри отрицательном результате универсальной проверки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5" name=""/>
              <p:cNvSpPr txBox="1"/>
              <p:nvPr/>
            </p:nvSpPr>
            <p:spPr>
              <a:xfrm>
                <a:off x="2300400" y="3587760"/>
                <a:ext cx="56941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  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6" name=""/>
          <p:cNvSpPr/>
          <p:nvPr/>
        </p:nvSpPr>
        <p:spPr>
          <a:xfrm>
            <a:off x="331920" y="5950080"/>
            <a:ext cx="4392360" cy="642960"/>
          </a:xfrm>
          <a:prstGeom prst="rect">
            <a:avLst/>
          </a:prstGeom>
          <a:solidFill>
            <a:srgbClr val="c1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344520" y="60786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Искомые усилия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8" name=""/>
              <p:cNvSpPr txBox="1"/>
              <p:nvPr/>
            </p:nvSpPr>
            <p:spPr>
              <a:xfrm>
                <a:off x="2476440" y="5853240"/>
                <a:ext cx="21384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9" name=""/>
              <p:cNvSpPr txBox="1"/>
              <p:nvPr/>
            </p:nvSpPr>
            <p:spPr>
              <a:xfrm>
                <a:off x="4789440" y="5877000"/>
                <a:ext cx="40561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Σ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20" name=""/>
          <p:cNvSpPr/>
          <p:nvPr/>
        </p:nvSpPr>
        <p:spPr>
          <a:xfrm>
            <a:off x="2195640" y="4437000"/>
            <a:ext cx="4537080" cy="337320"/>
          </a:xfrm>
          <a:prstGeom prst="rect">
            <a:avLst/>
          </a:prstGeom>
          <a:solidFill>
            <a:srgbClr val="ab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роверка свободных членов КУ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1" name=""/>
              <p:cNvSpPr txBox="1"/>
              <p:nvPr/>
            </p:nvSpPr>
            <p:spPr>
              <a:xfrm>
                <a:off x="318960" y="4653000"/>
                <a:ext cx="8504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  <m:r>
                                      <m:t xml:space="preserve"> 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 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Σ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22" name=""/>
          <p:cNvSpPr/>
          <p:nvPr/>
        </p:nvSpPr>
        <p:spPr>
          <a:xfrm>
            <a:off x="1546200" y="5589720"/>
            <a:ext cx="6120000" cy="337320"/>
          </a:xfrm>
          <a:prstGeom prst="rect">
            <a:avLst/>
          </a:prstGeom>
          <a:solidFill>
            <a:srgbClr val="cd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Определение основных неизвестных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3" name=""/>
              <p:cNvSpPr txBox="1"/>
              <p:nvPr/>
            </p:nvSpPr>
            <p:spPr>
              <a:xfrm>
                <a:off x="6129360" y="5499000"/>
                <a:ext cx="14889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7" dur="indefinite" restart="never" nodeType="tmRoot">
          <p:childTnLst>
            <p:seq>
              <p:cTn id="7448" dur="indefinite" nodeType="mainSeq">
                <p:childTnLst>
                  <p:par>
                    <p:cTn id="7449" fill="hold">
                      <p:stCondLst>
                        <p:cond delay="0"/>
                      </p:stCondLst>
                      <p:childTnLst>
                        <p:par>
                          <p:cTn id="7450" fill="hold">
                            <p:stCondLst>
                              <p:cond delay="0"/>
                            </p:stCondLst>
                            <p:childTnLst>
                              <p:par>
                                <p:cTn id="7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3" dur="80"/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4" dur="80"/>
                                        <p:tgtEl>
                                          <p:spTgt spid="28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5" dur="80"/>
                                        <p:tgtEl>
                                          <p:spTgt spid="28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6" fill="hold">
                      <p:stCondLst>
                        <p:cond delay="indefinite"/>
                      </p:stCondLst>
                      <p:childTnLst>
                        <p:par>
                          <p:cTn id="7457" fill="hold">
                            <p:stCondLst>
                              <p:cond delay="0"/>
                            </p:stCondLst>
                            <p:childTnLst>
                              <p:par>
                                <p:cTn id="7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0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1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2" dur="1000"/>
                                        <p:tgtEl>
                                          <p:spTgt spid="2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5" dur="10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6" dur="10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7" dur="10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8" fill="hold">
                      <p:stCondLst>
                        <p:cond delay="indefinite"/>
                      </p:stCondLst>
                      <p:childTnLst>
                        <p:par>
                          <p:cTn id="7469" fill="hold">
                            <p:stCondLst>
                              <p:cond delay="0"/>
                            </p:stCondLst>
                            <p:childTnLst>
                              <p:par>
                                <p:cTn id="7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2" dur="10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3" dur="10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4" dur="10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7" dur="10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8" dur="1000" fill="hold"/>
                                        <p:tgtEl>
                                          <p:spTgt spid="2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9" dur="10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2" dur="1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3" dur="1000" fill="hold"/>
                                        <p:tgtEl>
                                          <p:spTgt spid="2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4" dur="10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5" fill="hold">
                      <p:stCondLst>
                        <p:cond delay="indefinite"/>
                      </p:stCondLst>
                      <p:childTnLst>
                        <p:par>
                          <p:cTn id="7486" fill="hold">
                            <p:stCondLst>
                              <p:cond delay="0"/>
                            </p:stCondLst>
                            <p:childTnLst>
                              <p:par>
                                <p:cTn id="7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9" dur="1000" fill="hold"/>
                                        <p:tgtEl>
                                          <p:spTgt spid="2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0" dur="1000" fill="hold"/>
                                        <p:tgtEl>
                                          <p:spTgt spid="2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1" dur="1000"/>
                                        <p:tgtEl>
                                          <p:spTgt spid="2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4" dur="10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5" dur="10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6" dur="1000"/>
                                        <p:tgtEl>
                                          <p:spTgt spid="2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7" fill="hold">
                      <p:stCondLst>
                        <p:cond delay="indefinite"/>
                      </p:stCondLst>
                      <p:childTnLst>
                        <p:par>
                          <p:cTn id="7498" fill="hold">
                            <p:stCondLst>
                              <p:cond delay="0"/>
                            </p:stCondLst>
                            <p:childTnLst>
                              <p:par>
                                <p:cTn id="7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1" dur="80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2" dur="80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3" dur="80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4" fill="hold">
                      <p:stCondLst>
                        <p:cond delay="indefinite"/>
                      </p:stCondLst>
                      <p:childTnLst>
                        <p:par>
                          <p:cTn id="7505" fill="hold">
                            <p:stCondLst>
                              <p:cond delay="0"/>
                            </p:stCondLst>
                            <p:childTnLst>
                              <p:par>
                                <p:cTn id="7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8" dur="1000" fill="hold"/>
                                        <p:tgtEl>
                                          <p:spTgt spid="2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9" dur="1000" fill="hold"/>
                                        <p:tgtEl>
                                          <p:spTgt spid="2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0" dur="10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1" fill="hold">
                      <p:stCondLst>
                        <p:cond delay="indefinite"/>
                      </p:stCondLst>
                      <p:childTnLst>
                        <p:par>
                          <p:cTn id="7512" fill="hold">
                            <p:stCondLst>
                              <p:cond delay="0"/>
                            </p:stCondLst>
                            <p:childTnLst>
                              <p:par>
                                <p:cTn id="75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5" dur="10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6" dur="1000" fill="hold"/>
                                        <p:tgtEl>
                                          <p:spTgt spid="2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7" dur="1000" fill="hold"/>
                                        <p:tgtEl>
                                          <p:spTgt spid="2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0" dur="10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1" dur="1000" fill="hold"/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2" dur="1000" fill="hold"/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3" fill="hold">
                      <p:stCondLst>
                        <p:cond delay="indefinite"/>
                      </p:stCondLst>
                      <p:childTnLst>
                        <p:par>
                          <p:cTn id="7524" fill="hold">
                            <p:stCondLst>
                              <p:cond delay="0"/>
                            </p:stCondLst>
                            <p:childTnLst>
                              <p:par>
                                <p:cTn id="7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7" dur="1000"/>
                                        <p:tgtEl>
                                          <p:spTgt spid="2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8" dur="1000" fill="hold"/>
                                        <p:tgtEl>
                                          <p:spTgt spid="2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9" dur="1000" fill="hold"/>
                                        <p:tgtEl>
                                          <p:spTgt spid="2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2" dur="10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3" dur="1000" fill="hold"/>
                                        <p:tgtEl>
                                          <p:spTgt spid="2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4" dur="1000" fill="hold"/>
                                        <p:tgtEl>
                                          <p:spTgt spid="2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5" fill="hold">
                      <p:stCondLst>
                        <p:cond delay="indefinite"/>
                      </p:stCondLst>
                      <p:childTnLst>
                        <p:par>
                          <p:cTn id="7536" fill="hold">
                            <p:stCondLst>
                              <p:cond delay="0"/>
                            </p:stCondLst>
                            <p:childTnLst>
                              <p:par>
                                <p:cTn id="7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9" dur="80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0" dur="80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1" dur="80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2" fill="hold">
                            <p:stCondLst>
                              <p:cond delay="1120"/>
                            </p:stCondLst>
                            <p:childTnLst>
                              <p:par>
                                <p:cTn id="75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5" dur="10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6" dur="10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7" dur="10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8" fill="hold">
                      <p:stCondLst>
                        <p:cond delay="indefinite"/>
                      </p:stCondLst>
                      <p:childTnLst>
                        <p:par>
                          <p:cTn id="7549" fill="hold">
                            <p:stCondLst>
                              <p:cond delay="0"/>
                            </p:stCondLst>
                            <p:childTnLst>
                              <p:par>
                                <p:cTn id="7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2" dur="1000" fill="hold"/>
                                        <p:tgtEl>
                                          <p:spTgt spid="2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3" dur="1000" fill="hold"/>
                                        <p:tgtEl>
                                          <p:spTgt spid="2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4" dur="10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7" dur="1000" fill="hold"/>
                                        <p:tgtEl>
                                          <p:spTgt spid="2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8" dur="1000" fill="hold"/>
                                        <p:tgtEl>
                                          <p:spTgt spid="2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9" dur="10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0" fill="hold">
                      <p:stCondLst>
                        <p:cond delay="indefinite"/>
                      </p:stCondLst>
                      <p:childTnLst>
                        <p:par>
                          <p:cTn id="7561" fill="hold">
                            <p:stCondLst>
                              <p:cond delay="0"/>
                            </p:stCondLst>
                            <p:childTnLst>
                              <p:par>
                                <p:cTn id="7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4" dur="5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7" dur="5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0" dur="500"/>
                                        <p:tgtEl>
                                          <p:spTgt spid="2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1" fill="hold">
                      <p:stCondLst>
                        <p:cond delay="indefinite"/>
                      </p:stCondLst>
                      <p:childTnLst>
                        <p:par>
                          <p:cTn id="7572" fill="hold">
                            <p:stCondLst>
                              <p:cond delay="0"/>
                            </p:stCondLst>
                            <p:childTnLst>
                              <p:par>
                                <p:cTn id="75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5" dur="10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6" dur="10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7" dur="1000"/>
                                        <p:tgtEl>
                                          <p:spTgt spid="2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1803240" y="1184400"/>
            <a:ext cx="2737080" cy="51516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татическая  проверка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 п р о в е р к а   р а в н о в е с и я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4427640" y="1989000"/>
            <a:ext cx="4392360" cy="16560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11280" y="371520"/>
            <a:ext cx="7848360" cy="337680"/>
          </a:xfrm>
          <a:prstGeom prst="rect">
            <a:avLst/>
          </a:prstGeom>
          <a:solidFill>
            <a:srgbClr val="fbddf7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 р о в е р к и    р е з у л ь т а т о в    р а с ч ё т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5003640" y="1184400"/>
            <a:ext cx="2305080" cy="6300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Кинематическа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 деформационная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ове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4503600" y="2206800"/>
                <a:ext cx="443556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  </m:t>
                        </m:r>
                        <m:r>
                          <m:t xml:space="preserve">(</m:t>
                        </m:r>
                        <m:r>
                          <m:t xml:space="preserve">?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0" name=""/>
          <p:cNvSpPr/>
          <p:nvPr/>
        </p:nvSpPr>
        <p:spPr>
          <a:xfrm rot="5400000">
            <a:off x="2938320" y="790200"/>
            <a:ext cx="469800" cy="324000"/>
          </a:xfrm>
          <a:prstGeom prst="rightArrow">
            <a:avLst>
              <a:gd name="adj1" fmla="val 41176"/>
              <a:gd name="adj2" fmla="val 54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2433600" y="1773360"/>
            <a:ext cx="1871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а) системы в ц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2390760" y="2060640"/>
            <a:ext cx="961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б) уз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2373480" y="2311560"/>
            <a:ext cx="21603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в) выделенных ча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5076720" y="19828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а)  о б щ а 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4427640" y="3716280"/>
            <a:ext cx="4392360" cy="19447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716360" y="3984480"/>
                <a:ext cx="389412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  </m:t>
                        </m:r>
                        <m:r>
                          <m:t xml:space="preserve">(</m:t>
                        </m:r>
                        <m:r>
                          <m:t xml:space="preserve">?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7" name=""/>
          <p:cNvSpPr/>
          <p:nvPr/>
        </p:nvSpPr>
        <p:spPr>
          <a:xfrm>
            <a:off x="5219640" y="3716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)  ч а с т н ы 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7923240" y="5222880"/>
                <a:ext cx="8078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9" name=""/>
          <p:cNvSpPr/>
          <p:nvPr/>
        </p:nvSpPr>
        <p:spPr>
          <a:xfrm>
            <a:off x="2124000" y="1700280"/>
            <a:ext cx="360360" cy="252360"/>
          </a:xfrm>
          <a:custGeom>
            <a:avLst/>
            <a:gdLst/>
            <a:ahLst/>
            <a:rect l="l" t="t" r="r" b="b"/>
            <a:pathLst>
              <a:path w="227" h="182">
                <a:moveTo>
                  <a:pt x="0" y="0"/>
                </a:moveTo>
                <a:lnTo>
                  <a:pt x="0" y="182"/>
                </a:lnTo>
                <a:lnTo>
                  <a:pt x="227" y="18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2125800" y="1954080"/>
            <a:ext cx="360360" cy="252720"/>
          </a:xfrm>
          <a:custGeom>
            <a:avLst/>
            <a:gdLst/>
            <a:ahLst/>
            <a:rect l="l" t="t" r="r" b="b"/>
            <a:pathLst>
              <a:path w="227" h="182">
                <a:moveTo>
                  <a:pt x="0" y="0"/>
                </a:moveTo>
                <a:lnTo>
                  <a:pt x="0" y="182"/>
                </a:lnTo>
                <a:lnTo>
                  <a:pt x="227" y="18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2125800" y="2214720"/>
            <a:ext cx="360360" cy="252360"/>
          </a:xfrm>
          <a:custGeom>
            <a:avLst/>
            <a:gdLst/>
            <a:ahLst/>
            <a:rect l="l" t="t" r="r" b="b"/>
            <a:pathLst>
              <a:path w="227" h="182">
                <a:moveTo>
                  <a:pt x="0" y="0"/>
                </a:moveTo>
                <a:lnTo>
                  <a:pt x="0" y="182"/>
                </a:lnTo>
                <a:lnTo>
                  <a:pt x="227" y="18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 rot="5400000">
            <a:off x="5918040" y="790200"/>
            <a:ext cx="469800" cy="324000"/>
          </a:xfrm>
          <a:prstGeom prst="rightArrow">
            <a:avLst>
              <a:gd name="adj1" fmla="val 41176"/>
              <a:gd name="adj2" fmla="val 54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336600" y="1022400"/>
            <a:ext cx="1452600" cy="8125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Главная</a:t>
            </a: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 Narrow"/>
              </a:rPr>
              <a:t>в мет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 Narrow"/>
              </a:rPr>
              <a:t>перем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7308720" y="1014480"/>
            <a:ext cx="1511280" cy="9259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 Narrow"/>
              </a:rPr>
              <a:t>Только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0033"/>
                </a:solidFill>
                <a:latin typeface="Arial Narrow"/>
              </a:rPr>
              <a:t>статичес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0033"/>
                </a:solidFill>
                <a:latin typeface="Arial Narrow"/>
              </a:rPr>
              <a:t>неопределим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 Narrow"/>
              </a:rPr>
              <a:t>рассчитыва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 Narrow"/>
              </a:rPr>
              <a:t>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2652840" y="4584600"/>
            <a:ext cx="187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 ОС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260280" y="2898720"/>
                <a:ext cx="13003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47" name=""/>
          <p:cNvSpPr/>
          <p:nvPr/>
        </p:nvSpPr>
        <p:spPr>
          <a:xfrm>
            <a:off x="1496880" y="2879640"/>
            <a:ext cx="307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…=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 ОС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1413000" y="4591080"/>
                <a:ext cx="1282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49" name=""/>
          <p:cNvSpPr/>
          <p:nvPr/>
        </p:nvSpPr>
        <p:spPr>
          <a:xfrm rot="5400000">
            <a:off x="6067440" y="1798560"/>
            <a:ext cx="179280" cy="201600"/>
          </a:xfrm>
          <a:prstGeom prst="rightArrow">
            <a:avLst>
              <a:gd name="adj1" fmla="val 62417"/>
              <a:gd name="adj2" fmla="val 3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5003640" y="5767560"/>
            <a:ext cx="331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аведомо равные ну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мещения по направлени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ишних связей в С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8" dur="indefinite" restart="never" nodeType="tmRoot">
          <p:childTnLst>
            <p:seq>
              <p:cTn id="7579" dur="indefinite" nodeType="mainSeq">
                <p:childTnLst>
                  <p:par>
                    <p:cTn id="7580" fill="hold">
                      <p:stCondLst>
                        <p:cond delay="0"/>
                      </p:stCondLst>
                      <p:childTnLst>
                        <p:par>
                          <p:cTn id="7581" fill="hold">
                            <p:stCondLst>
                              <p:cond delay="0"/>
                            </p:stCondLst>
                            <p:childTnLst>
                              <p:par>
                                <p:cTn id="75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4" dur="80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5" dur="80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6" dur="80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7" fill="hold">
                      <p:stCondLst>
                        <p:cond delay="indefinite"/>
                      </p:stCondLst>
                      <p:childTnLst>
                        <p:par>
                          <p:cTn id="7588" fill="hold">
                            <p:stCondLst>
                              <p:cond delay="0"/>
                            </p:stCondLst>
                            <p:childTnLst>
                              <p:par>
                                <p:cTn id="75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1" dur="10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2" dur="1000" fill="hold"/>
                                        <p:tgtEl>
                                          <p:spTgt spid="2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3" dur="1000" fill="hold"/>
                                        <p:tgtEl>
                                          <p:spTgt spid="2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6" dur="10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7" dur="10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8" dur="10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9" fill="hold">
                      <p:stCondLst>
                        <p:cond delay="indefinite"/>
                      </p:stCondLst>
                      <p:childTnLst>
                        <p:par>
                          <p:cTn id="7600" fill="hold">
                            <p:stCondLst>
                              <p:cond delay="0"/>
                            </p:stCondLst>
                            <p:childTnLst>
                              <p:par>
                                <p:cTn id="7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3" dur="10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4" dur="10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5" dur="1000" fill="hold"/>
                                        <p:tgtEl>
                                          <p:spTgt spid="2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8" dur="10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9" dur="10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0" dur="1000" fill="hold"/>
                                        <p:tgtEl>
                                          <p:spTgt spid="2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1" fill="hold">
                      <p:stCondLst>
                        <p:cond delay="indefinite"/>
                      </p:stCondLst>
                      <p:childTnLst>
                        <p:par>
                          <p:cTn id="7612" fill="hold">
                            <p:stCondLst>
                              <p:cond delay="0"/>
                            </p:stCondLst>
                            <p:childTnLst>
                              <p:par>
                                <p:cTn id="76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5" dur="10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6" dur="10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7" dur="1000" fill="hold"/>
                                        <p:tgtEl>
                                          <p:spTgt spid="2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0" dur="10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1" dur="1000" fill="hold"/>
                                        <p:tgtEl>
                                          <p:spTgt spid="2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2" dur="1000" fill="hold"/>
                                        <p:tgtEl>
                                          <p:spTgt spid="2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3" fill="hold">
                      <p:stCondLst>
                        <p:cond delay="indefinite"/>
                      </p:stCondLst>
                      <p:childTnLst>
                        <p:par>
                          <p:cTn id="7624" fill="hold">
                            <p:stCondLst>
                              <p:cond delay="0"/>
                            </p:stCondLst>
                            <p:childTnLst>
                              <p:par>
                                <p:cTn id="7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7" dur="10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8" dur="10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9" dur="1000" fill="hold"/>
                                        <p:tgtEl>
                                          <p:spTgt spid="2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2" dur="1000"/>
                                        <p:tgtEl>
                                          <p:spTgt spid="2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3" dur="10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4" dur="10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5" fill="hold">
                      <p:stCondLst>
                        <p:cond delay="indefinite"/>
                      </p:stCondLst>
                      <p:childTnLst>
                        <p:par>
                          <p:cTn id="7636" fill="hold">
                            <p:stCondLst>
                              <p:cond delay="0"/>
                            </p:stCondLst>
                            <p:childTnLst>
                              <p:par>
                                <p:cTn id="7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9" dur="1000" fill="hold"/>
                                        <p:tgtEl>
                                          <p:spTgt spid="2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0" dur="1000" fill="hold"/>
                                        <p:tgtEl>
                                          <p:spTgt spid="2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1" dur="10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2" fill="hold">
                      <p:stCondLst>
                        <p:cond delay="indefinite"/>
                      </p:stCondLst>
                      <p:childTnLst>
                        <p:par>
                          <p:cTn id="7643" fill="hold">
                            <p:stCondLst>
                              <p:cond delay="0"/>
                            </p:stCondLst>
                            <p:childTnLst>
                              <p:par>
                                <p:cTn id="76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6" dur="10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7" dur="10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8" dur="1000" fill="hold"/>
                                        <p:tgtEl>
                                          <p:spTgt spid="2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1" dur="10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2" dur="1000" fill="hold"/>
                                        <p:tgtEl>
                                          <p:spTgt spid="2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3" dur="1000" fill="hold"/>
                                        <p:tgtEl>
                                          <p:spTgt spid="2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4" fill="hold">
                      <p:stCondLst>
                        <p:cond delay="indefinite"/>
                      </p:stCondLst>
                      <p:childTnLst>
                        <p:par>
                          <p:cTn id="7655" fill="hold">
                            <p:stCondLst>
                              <p:cond delay="0"/>
                            </p:stCondLst>
                            <p:childTnLst>
                              <p:par>
                                <p:cTn id="76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8" dur="10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9" dur="10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0" dur="10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1" fill="hold">
                      <p:stCondLst>
                        <p:cond delay="indefinite"/>
                      </p:stCondLst>
                      <p:childTnLst>
                        <p:par>
                          <p:cTn id="7662" fill="hold">
                            <p:stCondLst>
                              <p:cond delay="0"/>
                            </p:stCondLst>
                            <p:childTnLst>
                              <p:par>
                                <p:cTn id="76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5" dur="10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6" dur="1000" fill="hold"/>
                                        <p:tgtEl>
                                          <p:spTgt spid="2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7" dur="1000" fill="hold"/>
                                        <p:tgtEl>
                                          <p:spTgt spid="2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0" dur="1000"/>
                                        <p:tgtEl>
                                          <p:spTgt spid="2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1" dur="10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2" dur="1000" fill="hold"/>
                                        <p:tgtEl>
                                          <p:spTgt spid="2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5" dur="1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6" dur="1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7" dur="1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8" fill="hold">
                      <p:stCondLst>
                        <p:cond delay="indefinite"/>
                      </p:stCondLst>
                      <p:childTnLst>
                        <p:par>
                          <p:cTn id="7679" fill="hold">
                            <p:stCondLst>
                              <p:cond delay="0"/>
                            </p:stCondLst>
                            <p:childTnLst>
                              <p:par>
                                <p:cTn id="76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2" dur="10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3" dur="10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4" dur="10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5" fill="hold">
                      <p:stCondLst>
                        <p:cond delay="indefinite"/>
                      </p:stCondLst>
                      <p:childTnLst>
                        <p:par>
                          <p:cTn id="7686" fill="hold">
                            <p:stCondLst>
                              <p:cond delay="0"/>
                            </p:stCondLst>
                            <p:childTnLst>
                              <p:par>
                                <p:cTn id="7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9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2" dur="5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3" fill="hold">
                      <p:stCondLst>
                        <p:cond delay="indefinite"/>
                      </p:stCondLst>
                      <p:childTnLst>
                        <p:par>
                          <p:cTn id="7694" fill="hold">
                            <p:stCondLst>
                              <p:cond delay="0"/>
                            </p:stCondLst>
                            <p:childTnLst>
                              <p:par>
                                <p:cTn id="76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7" dur="10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8" dur="10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9" dur="10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2" dur="1000"/>
                                        <p:tgtEl>
                                          <p:spTgt spid="2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3" dur="10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4" dur="10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5" fill="hold">
                      <p:stCondLst>
                        <p:cond delay="indefinite"/>
                      </p:stCondLst>
                      <p:childTnLst>
                        <p:par>
                          <p:cTn id="7706" fill="hold">
                            <p:stCondLst>
                              <p:cond delay="0"/>
                            </p:stCondLst>
                            <p:childTnLst>
                              <p:par>
                                <p:cTn id="77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9" dur="10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0" dur="1000" fill="hold"/>
                                        <p:tgtEl>
                                          <p:spTgt spid="2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1" dur="1000"/>
                                        <p:tgtEl>
                                          <p:spTgt spid="2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4" dur="10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5" dur="1000" fill="hold"/>
                                        <p:tgtEl>
                                          <p:spTgt spid="2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6" dur="10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7" fill="hold">
                      <p:stCondLst>
                        <p:cond delay="indefinite"/>
                      </p:stCondLst>
                      <p:childTnLst>
                        <p:par>
                          <p:cTn id="7718" fill="hold">
                            <p:stCondLst>
                              <p:cond delay="0"/>
                            </p:stCondLst>
                            <p:childTnLst>
                              <p:par>
                                <p:cTn id="7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1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4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7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8" dur="80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9" dur="80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0" dur="80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 к  слайду  18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 Сколько различных вариантов ОСМП может быть предложено для расчёта некотор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нной системы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3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 Какие условия (требования) положены в основу вывода уравнений мет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мещений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( 8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 Каковы по изначальному смыслу канонические уравнения метода перем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КУМП) – статические, кинематические или физические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( 8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 Варианты записи канонических уравнений метода перемещени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 обычной форме – развернутое и компактное представления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( 9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в матричной форме – поэлементная и укрупненная записи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( 9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 Раскрыть смыс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системы КУМП в целом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( 10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произвольного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го) канонического уравнения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( 10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левой част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го канонического уравнения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( 10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свободного члена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го канонического уравнения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c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( 10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) слагаемого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( 10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) коэффициента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( 10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 Как называется и какой смысл имеет матрица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эффициентов КУМП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5" action="ppaction://hlinksldjump"/>
              </a:rPr>
              <a:t>( 9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 Как называются и какой смысл имеют коэффициенты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  Коэффициенты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6" action="ppaction://hlinksldjump"/>
              </a:rPr>
              <a:t>(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означить на схеме ОСМП и истолковать смысл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по заданию) и/ил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7" action="ppaction://hlinksldjump"/>
              </a:rPr>
              <a:t>( 11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 Каким главным требованиям должны удовлетворять деформированные состоя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МП при единичных смещениях связей и при заданных воздействиях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8" action="ppaction://hlinksldjump"/>
              </a:rPr>
              <a:t>( 11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9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.  Методы и способы определения коэффициентов и свободных членов КУМП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1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. Статические способы (приёмы) определения реакций угловых и линейных связ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СМП, рациональное их использование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2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420840" y="63342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7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 к  слайду  19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1. Кинематические способы определения реакций связей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13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2. Типы  элементов ОСМП, табличные эпюры и способы их получения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( 14 – 15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3. Свойства компонентов матрицы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  Теорема о взаимности единичных реакций в ЛД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теорема Рэлея)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( 16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4. Какой должна быть сумма компонентов матрицы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: положительной, отрицательно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вной 0,  любой?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( 16 )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. Проверки коэффициентов (универсальная и построчная) и свободных чле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нонических уравнений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( 16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6. Усилия в какой системе используются для проверки реакций в ОСМП от за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действий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( 16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7. Почему канонические уравнения метода перемещений являются разрешающ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равнениями задачи расчёта СНС (синтезом статической, геометрической и физ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ской сторон задачи)?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– см. лекцию «Смешанный метод расчёта СНС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. Определение основных неизвестных и искомых усилий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( 17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9. Полная проверка результатов расчёта системы методом перемещений, ее соста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асти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( 17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. Какая из частей полной проверки результатов расчёта – статическая или кинемат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ская – является главной и почему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( 17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1. Содержание и приёмы статической проверки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( 17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Могут ли выполняться услов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вновесия при наличии ошибок (каких?) в решении задач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. Сущность и техника выполнения кинематической (деформационной) про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зультатов расчёта методом перемещений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( 17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3. Формулы кинематической проверки (общей и частных) при силовых, температур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кинематических воздействия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7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407880" y="63468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658800"/>
            <a:ext cx="7632720" cy="165564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690480"/>
            <a:ext cx="5545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Основная система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57240"/>
            <a:ext cx="835344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, как правило, кинематически определимая систем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аемая из заданной деформируем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тём введения в расчётные узлы минимально необходимых угловых и линейных связей по направлениям перемещений, принимаемых за основные неизвест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32080" y="347508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47360" y="3475080"/>
            <a:ext cx="73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4240" y="3471840"/>
            <a:ext cx="161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33640" y="3471840"/>
            <a:ext cx="16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601640" y="3774600"/>
            <a:ext cx="41760" cy="155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400000">
            <a:off x="1510920" y="2963880"/>
            <a:ext cx="7128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2960" y="2957400"/>
            <a:ext cx="179640" cy="503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28800" y="3475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944440" y="3475080"/>
            <a:ext cx="73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0960" y="3471840"/>
            <a:ext cx="16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30720" y="3471840"/>
            <a:ext cx="161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98360" y="3774600"/>
            <a:ext cx="41760" cy="155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0040" y="2957400"/>
            <a:ext cx="179280" cy="503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296532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7280" y="292572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300348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2998800"/>
            <a:ext cx="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98840" y="3143160"/>
            <a:ext cx="71280" cy="14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33840" y="3141720"/>
            <a:ext cx="7128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5440" y="314172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33840" y="314172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92480" y="34354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92480" y="348300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92480" y="35305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868480"/>
            <a:ext cx="1079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Угло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3920" y="34606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3760" y="3478320"/>
            <a:ext cx="161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63920" y="3772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995280" y="3473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49840" y="3341520"/>
            <a:ext cx="71280" cy="25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49840" y="3341520"/>
            <a:ext cx="0" cy="2527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03880" y="3473280"/>
            <a:ext cx="28728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89480" y="34304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95840" y="34243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95640" y="2909880"/>
            <a:ext cx="10796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Линей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6320" y="4726080"/>
            <a:ext cx="86544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009240" y="472608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221000"/>
            <a:ext cx="1366920" cy="50508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72608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85800" y="46688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01960" y="467820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98680" y="47260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042800">
            <a:off x="3013920" y="472752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30280" y="544032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004920" y="544032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6960" y="4776840"/>
            <a:ext cx="71280" cy="17928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46600" y="4778280"/>
            <a:ext cx="71280" cy="17964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5003640"/>
            <a:ext cx="21564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0133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70280" y="4975200"/>
            <a:ext cx="21600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70280" y="4984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2400" y="5638680"/>
            <a:ext cx="431640" cy="71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2400" y="56386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52640" y="5638680"/>
            <a:ext cx="432000" cy="7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52640" y="56386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8920" y="55958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63880" y="55897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55760" y="5446800"/>
            <a:ext cx="11592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122640" y="5442120"/>
            <a:ext cx="100080" cy="18540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9320" y="46879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9320" y="495612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32200" y="46879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33640" y="49323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31840" y="46911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4114800"/>
            <a:ext cx="216000" cy="216000"/>
          </a:xfrm>
          <a:prstGeom prst="ellipse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3440" y="4121280"/>
            <a:ext cx="216000" cy="215640"/>
          </a:xfrm>
          <a:prstGeom prst="ellipse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4667400"/>
            <a:ext cx="216000" cy="215640"/>
          </a:xfrm>
          <a:prstGeom prst="ellipse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59200" y="4676760"/>
            <a:ext cx="215640" cy="216000"/>
          </a:xfrm>
          <a:prstGeom prst="ellipse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67000" y="5392800"/>
            <a:ext cx="215640" cy="216000"/>
          </a:xfrm>
          <a:prstGeom prst="ellipse">
            <a:avLst/>
          </a:prstGeom>
          <a:noFill/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00520" y="5364000"/>
            <a:ext cx="215640" cy="216000"/>
          </a:xfrm>
          <a:prstGeom prst="ellipse">
            <a:avLst/>
          </a:prstGeom>
          <a:noFill/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82720" y="5078520"/>
            <a:ext cx="1008000" cy="336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ж.у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1280" y="329256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7593840" y="329256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4800" y="2787480"/>
            <a:ext cx="1366920" cy="50508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84800" y="32925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0760" y="32353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86560" y="32446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329256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042800">
            <a:off x="7598520" y="329400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4880" y="4006800"/>
            <a:ext cx="1447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589520" y="400680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81560" y="3343320"/>
            <a:ext cx="71640" cy="17928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31200" y="3344760"/>
            <a:ext cx="71280" cy="17964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95880" y="3570120"/>
            <a:ext cx="216000" cy="7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5880" y="35798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3440" y="3570120"/>
            <a:ext cx="21600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53440" y="35798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77000" y="4205160"/>
            <a:ext cx="431640" cy="71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77000" y="42051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37600" y="4205160"/>
            <a:ext cx="431640" cy="7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37600" y="42051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3520" y="416232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48480" y="415620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4013280"/>
            <a:ext cx="11592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707240" y="4008600"/>
            <a:ext cx="100080" cy="18540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64280" y="32544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64280" y="352260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416800" y="325440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16800" y="35272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16800" y="32767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7680" y="3216240"/>
            <a:ext cx="166680" cy="1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86560" y="3219480"/>
            <a:ext cx="166680" cy="1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40480" y="275256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74080" y="274788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73920" y="4094280"/>
            <a:ext cx="166680" cy="1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10320" y="4097160"/>
            <a:ext cx="166680" cy="167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61080" y="23716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арнирная 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83560" y="3262320"/>
            <a:ext cx="36360" cy="7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31000" y="3257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31000" y="33307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5400000">
            <a:off x="5294880" y="3417120"/>
            <a:ext cx="36360" cy="7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81560" y="33782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4000" y="337968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8442720" y="3402720"/>
            <a:ext cx="36360" cy="7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24720" y="33638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507520" y="33656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68720" y="3164040"/>
            <a:ext cx="71640" cy="252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41800" y="315900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41800" y="328932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97520" y="323856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5273280" y="2879640"/>
            <a:ext cx="71280" cy="252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78240" y="30402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10360" y="303228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5263920" y="29908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748720" y="3165480"/>
            <a:ext cx="71280" cy="25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747280" y="316548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16880" y="329580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04440" y="324468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5400000">
            <a:off x="8421120" y="2884320"/>
            <a:ext cx="71280" cy="25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326080" y="30384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458200" y="303228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8411400" y="29955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49960" y="2666880"/>
            <a:ext cx="71640" cy="252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23040" y="266220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23040" y="279252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78400" y="27417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56240" y="4137120"/>
            <a:ext cx="873360" cy="37116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38960" y="3627360"/>
            <a:ext cx="873000" cy="37116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lang="ru-RU" sz="2000" spc="-1" strike="noStrike" baseline="-25000">
                <a:solidFill>
                  <a:srgbClr val="990033"/>
                </a:solidFill>
                <a:latin typeface="Times New Roman"/>
              </a:rPr>
              <a:t>с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=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69080" y="3978360"/>
            <a:ext cx="217440" cy="142920"/>
          </a:xfrm>
          <a:prstGeom prst="downArrow">
            <a:avLst>
              <a:gd name="adj1" fmla="val 44528"/>
              <a:gd name="adj2" fmla="val 48889"/>
            </a:avLst>
          </a:prstGeom>
          <a:solidFill>
            <a:srgbClr val="bbe0e3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6560" y="4508640"/>
            <a:ext cx="649440" cy="215640"/>
          </a:xfrm>
          <a:prstGeom prst="rightArrow">
            <a:avLst>
              <a:gd name="adj1" fmla="val 50000"/>
              <a:gd name="adj2" fmla="val 75292"/>
            </a:avLst>
          </a:prstGeom>
          <a:solidFill>
            <a:srgbClr val="bbe0e3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4495200">
            <a:off x="5922720" y="4125960"/>
            <a:ext cx="198720" cy="722160"/>
          </a:xfrm>
          <a:prstGeom prst="downArrow">
            <a:avLst>
              <a:gd name="adj1" fmla="val 51481"/>
              <a:gd name="adj2" fmla="val 99852"/>
            </a:avLst>
          </a:prstGeom>
          <a:solidFill>
            <a:srgbClr val="bbe0e3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59400" y="4797360"/>
            <a:ext cx="1008000" cy="39888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38560" y="5553000"/>
            <a:ext cx="86544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7341480" y="555300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32440" y="5048280"/>
            <a:ext cx="1366920" cy="50472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32440" y="55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18040" y="549576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34200" y="55054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30920" y="555300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042800">
            <a:off x="7346160" y="555516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62520" y="6267600"/>
            <a:ext cx="14472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337160" y="6267600"/>
            <a:ext cx="14436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5603760"/>
            <a:ext cx="71280" cy="17964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78840" y="5605560"/>
            <a:ext cx="71280" cy="17928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43520" y="5830920"/>
            <a:ext cx="216000" cy="71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43520" y="5840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101080" y="5830920"/>
            <a:ext cx="216000" cy="71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01080" y="5840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24640" y="6465960"/>
            <a:ext cx="431640" cy="712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24640" y="64659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84880" y="6465960"/>
            <a:ext cx="432000" cy="7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84880" y="64659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1160" y="64231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96120" y="641664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88000" y="6273720"/>
            <a:ext cx="11592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454880" y="6269040"/>
            <a:ext cx="10008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11560" y="551484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11560" y="578340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64440" y="551484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64440" y="578808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64440" y="55180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9380000">
            <a:off x="5682960" y="5253120"/>
            <a:ext cx="71280" cy="179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91240" y="525312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9380000">
            <a:off x="7103880" y="6118200"/>
            <a:ext cx="71280" cy="179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12160" y="611820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9380000">
            <a:off x="6113520" y="4743360"/>
            <a:ext cx="71280" cy="179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21440" y="4748040"/>
            <a:ext cx="216000" cy="287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2220000">
            <a:off x="7121520" y="4738680"/>
            <a:ext cx="71280" cy="1792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964560" y="4735440"/>
            <a:ext cx="212040" cy="3031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2220000">
            <a:off x="7500960" y="5241960"/>
            <a:ext cx="71280" cy="1792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343640" y="5243760"/>
            <a:ext cx="212400" cy="3027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2220000">
            <a:off x="6070680" y="6105600"/>
            <a:ext cx="71280" cy="1792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13360" y="6102360"/>
            <a:ext cx="212760" cy="3031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21400" y="5427720"/>
            <a:ext cx="71280" cy="25236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94120" y="542304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94120" y="555300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49840" y="550224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5022360" y="5143320"/>
            <a:ext cx="71280" cy="2523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927320" y="52974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59440" y="529596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5012640" y="52545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489880" y="5427720"/>
            <a:ext cx="71640" cy="2523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88440" y="542772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58040" y="555768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45600" y="550692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8172000" y="5143320"/>
            <a:ext cx="71280" cy="25236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6960" y="52974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09080" y="529128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8162280" y="52545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54760" y="4919760"/>
            <a:ext cx="71280" cy="2523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27840" y="491508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27840" y="5045040"/>
            <a:ext cx="21564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83200" y="499428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27640" y="499896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77000" y="5205240"/>
            <a:ext cx="39600" cy="35424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00720" y="4686480"/>
            <a:ext cx="39600" cy="3538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89640" y="6049800"/>
            <a:ext cx="39960" cy="35424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6958080" y="4705200"/>
            <a:ext cx="23760" cy="3304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7337520" y="5210280"/>
            <a:ext cx="23760" cy="33012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5921280" y="6060960"/>
            <a:ext cx="23760" cy="3304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29400" y="5243400"/>
            <a:ext cx="147600" cy="6696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42040" y="607860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51680" y="471024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6086520"/>
            <a:ext cx="146160" cy="61920"/>
          </a:xfrm>
          <a:custGeom>
            <a:avLst/>
            <a:gdLst/>
            <a:ahLst/>
            <a:rect l="l" t="t" r="r" b="b"/>
            <a:pathLst>
              <a:path w="92" h="39">
                <a:moveTo>
                  <a:pt x="92" y="39"/>
                </a:moveTo>
                <a:cubicBezTo>
                  <a:pt x="86" y="36"/>
                  <a:pt x="69" y="21"/>
                  <a:pt x="54" y="15"/>
                </a:cubicBezTo>
                <a:cubicBezTo>
                  <a:pt x="39" y="9"/>
                  <a:pt x="11" y="3"/>
                  <a:pt x="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85080" y="4724280"/>
            <a:ext cx="145800" cy="61920"/>
          </a:xfrm>
          <a:custGeom>
            <a:avLst/>
            <a:gdLst/>
            <a:ahLst/>
            <a:rect l="l" t="t" r="r" b="b"/>
            <a:pathLst>
              <a:path w="92" h="39">
                <a:moveTo>
                  <a:pt x="92" y="39"/>
                </a:moveTo>
                <a:cubicBezTo>
                  <a:pt x="86" y="36"/>
                  <a:pt x="69" y="21"/>
                  <a:pt x="54" y="15"/>
                </a:cubicBezTo>
                <a:cubicBezTo>
                  <a:pt x="39" y="9"/>
                  <a:pt x="11" y="3"/>
                  <a:pt x="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364520" y="5234040"/>
            <a:ext cx="145800" cy="61920"/>
          </a:xfrm>
          <a:custGeom>
            <a:avLst/>
            <a:gdLst/>
            <a:ahLst/>
            <a:rect l="l" t="t" r="r" b="b"/>
            <a:pathLst>
              <a:path w="92" h="39">
                <a:moveTo>
                  <a:pt x="92" y="39"/>
                </a:moveTo>
                <a:cubicBezTo>
                  <a:pt x="86" y="36"/>
                  <a:pt x="69" y="21"/>
                  <a:pt x="54" y="15"/>
                </a:cubicBezTo>
                <a:cubicBezTo>
                  <a:pt x="39" y="9"/>
                  <a:pt x="11" y="3"/>
                  <a:pt x="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73640" y="5459400"/>
            <a:ext cx="0" cy="64764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56720" y="5459400"/>
            <a:ext cx="0" cy="64764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4975200"/>
            <a:ext cx="0" cy="28728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52960" y="5873760"/>
            <a:ext cx="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10520" y="5883120"/>
            <a:ext cx="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34200" y="5046840"/>
            <a:ext cx="0" cy="2156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52960" y="6021360"/>
            <a:ext cx="21600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34200" y="5229360"/>
            <a:ext cx="18252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956720" y="6021360"/>
            <a:ext cx="24912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91000" y="5397480"/>
            <a:ext cx="649440" cy="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118360" y="5402160"/>
            <a:ext cx="649440" cy="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85960" y="5554800"/>
            <a:ext cx="19836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8550000" y="5556240"/>
            <a:ext cx="19836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529160" y="5400360"/>
            <a:ext cx="0" cy="144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8699400" y="5411520"/>
            <a:ext cx="0" cy="144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45280" y="45021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29400" y="450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08720" y="48909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08720" y="48942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96080" y="57452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12000" y="57261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40360" y="52228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65840" y="59641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22960" y="51674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902720" y="5959440"/>
            <a:ext cx="50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491680" y="5038560"/>
            <a:ext cx="50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16360" y="4437000"/>
            <a:ext cx="865440" cy="34308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95640" y="2349360"/>
            <a:ext cx="3456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 Black"/>
              </a:rPr>
              <a:t>ОСМП</a:t>
            </a:r>
            <a:r>
              <a:rPr b="1" lang="ru-RU" sz="14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 Black"/>
              </a:rPr>
              <a:t>=</a:t>
            </a:r>
            <a:r>
              <a:rPr b="1" lang="ru-RU" sz="14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 Black"/>
              </a:rPr>
              <a:t>РД</a:t>
            </a:r>
            <a:r>
              <a:rPr b="1" lang="en-US" sz="2000" spc="-1" strike="noStrike">
                <a:solidFill>
                  <a:srgbClr val="660033"/>
                </a:solidFill>
                <a:latin typeface="Arial Black"/>
              </a:rPr>
              <a:t>C</a:t>
            </a:r>
            <a:r>
              <a:rPr b="1" lang="ru-RU" sz="12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 Black"/>
              </a:rPr>
              <a:t>+</a:t>
            </a:r>
            <a:r>
              <a:rPr b="1" lang="ru-RU" sz="12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 Black"/>
              </a:rPr>
              <a:t>ДСРУ</a:t>
            </a:r>
            <a:r>
              <a:rPr b="1" lang="ru-RU" sz="12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 Black"/>
              </a:rPr>
              <a:t>+</a:t>
            </a:r>
            <a:r>
              <a:rPr b="1" lang="en-US" sz="12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 Black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690480"/>
            <a:ext cx="6553080" cy="313200"/>
          </a:xfrm>
          <a:prstGeom prst="rect">
            <a:avLst/>
          </a:prstGeom>
          <a:solidFill>
            <a:srgbClr val="b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Основная система метода перемещений (ОСМ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9380000">
            <a:off x="6014520" y="4728960"/>
            <a:ext cx="71640" cy="17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31080" y="472428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1880" y="4917960"/>
            <a:ext cx="71640" cy="25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08360" y="492120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02080" y="504684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64080" y="50036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2223720" y="4619520"/>
            <a:ext cx="71280" cy="25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133360" y="47736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5480" y="478152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2219040" y="473076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670960" y="2828880"/>
            <a:ext cx="71280" cy="25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669160" y="282888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439120" y="295920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626320" y="29084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5400000">
            <a:off x="3362040" y="4560480"/>
            <a:ext cx="71640" cy="252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266640" y="47214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98760" y="471492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3352680" y="467820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16480" y="4662360"/>
            <a:ext cx="39960" cy="35424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76800" y="4705200"/>
            <a:ext cx="147960" cy="6696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92440" y="5199120"/>
            <a:ext cx="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05240" y="5372280"/>
            <a:ext cx="18252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642760" y="5329080"/>
            <a:ext cx="19836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89200" y="5205240"/>
            <a:ext cx="392400" cy="1800"/>
          </a:xfrm>
          <a:custGeom>
            <a:avLst/>
            <a:gdLst/>
            <a:ahLst/>
            <a:rect l="l" t="t" r="r" b="b"/>
            <a:pathLst>
              <a:path w="247" h="1">
                <a:moveTo>
                  <a:pt x="24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00440" y="5040360"/>
            <a:ext cx="0" cy="28872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33720" y="5049720"/>
            <a:ext cx="1800" cy="165240"/>
          </a:xfrm>
          <a:custGeom>
            <a:avLst/>
            <a:gdLst/>
            <a:ahLst/>
            <a:rect l="l" t="t" r="r" b="b"/>
            <a:pathLst>
              <a:path w="1" h="104">
                <a:moveTo>
                  <a:pt x="0" y="0"/>
                </a:moveTo>
                <a:lnTo>
                  <a:pt x="0" y="104"/>
                </a:ln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43120" y="23050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24400" y="56008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8040" y="49528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02040" y="49276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47880" y="43480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17720" y="2376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48000" y="53290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9640" y="1468440"/>
            <a:ext cx="28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риативность ОС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279600" y="1355760"/>
            <a:ext cx="287640" cy="179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24400" y="18684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в) за счёт выбора расчётных узлов (дополнительные Р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95800" y="1666800"/>
            <a:ext cx="252360" cy="3672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538440" y="1154160"/>
            <a:ext cx="38610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а) за счёт различий в выборе направл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и точек размещения линейных связ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67000" y="1779480"/>
            <a:ext cx="287280" cy="21600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22600" y="1525680"/>
            <a:ext cx="400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б) при использовании или неучёте гипоте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7399440" y="1503360"/>
                <a:ext cx="7016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471600" y="2952720"/>
            <a:ext cx="1695240" cy="91116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0920" y="3859200"/>
            <a:ext cx="216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50920" y="3868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19320" y="38116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66840" y="3854520"/>
            <a:ext cx="21564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66840" y="3863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96840" y="291456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9380000">
            <a:off x="1942920" y="2660760"/>
            <a:ext cx="71280" cy="17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51200" y="266076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36600" y="2612880"/>
            <a:ext cx="39960" cy="35424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989000" y="265104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5160" y="2835360"/>
            <a:ext cx="71640" cy="25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8240" y="2833560"/>
            <a:ext cx="0" cy="2527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74720" y="296064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23960" y="29131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8120" y="31561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082520" y="2995560"/>
            <a:ext cx="254160" cy="171360"/>
          </a:xfrm>
          <a:custGeom>
            <a:avLst/>
            <a:gdLst/>
            <a:ahLst/>
            <a:rect l="l" t="t" r="r" b="b"/>
            <a:pathLst>
              <a:path w="160" h="108">
                <a:moveTo>
                  <a:pt x="0" y="0"/>
                </a:moveTo>
                <a:lnTo>
                  <a:pt x="160" y="10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93760" y="3224160"/>
            <a:ext cx="162000" cy="95400"/>
          </a:xfrm>
          <a:custGeom>
            <a:avLst/>
            <a:gdLst/>
            <a:ahLst/>
            <a:rect l="l" t="t" r="r" b="b"/>
            <a:pathLst>
              <a:path w="102" h="60">
                <a:moveTo>
                  <a:pt x="102" y="0"/>
                </a:moveTo>
                <a:lnTo>
                  <a:pt x="0" y="6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32080" y="3166920"/>
            <a:ext cx="171360" cy="25560"/>
          </a:xfrm>
          <a:custGeom>
            <a:avLst/>
            <a:gdLst/>
            <a:ahLst/>
            <a:rect l="l" t="t" r="r" b="b"/>
            <a:pathLst>
              <a:path w="108" h="16">
                <a:moveTo>
                  <a:pt x="108" y="0"/>
                </a:moveTo>
                <a:lnTo>
                  <a:pt x="0" y="16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160" bIns="-20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31760" y="3040200"/>
            <a:ext cx="36720" cy="3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 rot="1822800">
            <a:off x="862560" y="2889360"/>
            <a:ext cx="288720" cy="22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801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8014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39680" y="2701800"/>
            <a:ext cx="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38240" y="2751120"/>
            <a:ext cx="35892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87440" y="2703600"/>
            <a:ext cx="0" cy="4316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20680" y="3438360"/>
                <a:ext cx="7016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2449440" y="28432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3058560" y="2520720"/>
            <a:ext cx="71280" cy="252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968200" y="26892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97080" y="268920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3049200" y="26449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92640" y="31543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37040" y="2994120"/>
            <a:ext cx="253800" cy="171360"/>
          </a:xfrm>
          <a:custGeom>
            <a:avLst/>
            <a:gdLst/>
            <a:ahLst/>
            <a:rect l="l" t="t" r="r" b="b"/>
            <a:pathLst>
              <a:path w="160" h="108">
                <a:moveTo>
                  <a:pt x="0" y="0"/>
                </a:moveTo>
                <a:lnTo>
                  <a:pt x="160" y="10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7920" y="3222720"/>
            <a:ext cx="162000" cy="95040"/>
          </a:xfrm>
          <a:custGeom>
            <a:avLst/>
            <a:gdLst/>
            <a:ahLst/>
            <a:rect l="l" t="t" r="r" b="b"/>
            <a:pathLst>
              <a:path w="102" h="60">
                <a:moveTo>
                  <a:pt x="102" y="0"/>
                </a:moveTo>
                <a:lnTo>
                  <a:pt x="0" y="6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86240" y="3165480"/>
            <a:ext cx="171360" cy="25560"/>
          </a:xfrm>
          <a:custGeom>
            <a:avLst/>
            <a:gdLst/>
            <a:ahLst/>
            <a:rect l="l" t="t" r="r" b="b"/>
            <a:pathLst>
              <a:path w="108" h="16">
                <a:moveTo>
                  <a:pt x="108" y="0"/>
                </a:moveTo>
                <a:lnTo>
                  <a:pt x="0" y="16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160" bIns="-20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86280" y="3038400"/>
            <a:ext cx="36360" cy="36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 rot="1822800">
            <a:off x="2917440" y="2887200"/>
            <a:ext cx="288000" cy="22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801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8014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1600" y="2949480"/>
            <a:ext cx="0" cy="252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739600" y="3203640"/>
            <a:ext cx="64764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32200" y="23115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6040" y="2955960"/>
            <a:ext cx="1724040" cy="91116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32440" y="3862440"/>
            <a:ext cx="215640" cy="7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32440" y="38718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00480" y="38149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11280" y="3857760"/>
            <a:ext cx="216000" cy="71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11280" y="3867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9380000">
            <a:off x="4024080" y="2664000"/>
            <a:ext cx="71280" cy="179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2360" y="266400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18120" y="2616120"/>
            <a:ext cx="39600" cy="35424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070520" y="265428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174840" y="3441600"/>
                <a:ext cx="702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3051000" y="29131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2430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20000">
            <a:off x="4859280" y="2676600"/>
            <a:ext cx="71640" cy="252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858920" y="2714760"/>
            <a:ext cx="133560" cy="2142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08600" y="2808360"/>
            <a:ext cx="190440" cy="122040"/>
          </a:xfrm>
          <a:custGeom>
            <a:avLst/>
            <a:gdLst/>
            <a:ahLst/>
            <a:rect l="l" t="t" r="r" b="b"/>
            <a:pathLst>
              <a:path w="120" h="77">
                <a:moveTo>
                  <a:pt x="0" y="0"/>
                </a:moveTo>
                <a:lnTo>
                  <a:pt x="120" y="77"/>
                </a:lnTo>
              </a:path>
            </a:pathLst>
          </a:custGeom>
          <a:noFill/>
          <a:ln w="1908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5400000">
            <a:off x="4878000" y="27781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437080" y="31543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81480" y="2994120"/>
            <a:ext cx="254160" cy="171360"/>
          </a:xfrm>
          <a:custGeom>
            <a:avLst/>
            <a:gdLst/>
            <a:ahLst/>
            <a:rect l="l" t="t" r="r" b="b"/>
            <a:pathLst>
              <a:path w="160" h="108">
                <a:moveTo>
                  <a:pt x="0" y="0"/>
                </a:moveTo>
                <a:lnTo>
                  <a:pt x="160" y="108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2720" y="3222720"/>
            <a:ext cx="162000" cy="95040"/>
          </a:xfrm>
          <a:custGeom>
            <a:avLst/>
            <a:gdLst/>
            <a:ahLst/>
            <a:rect l="l" t="t" r="r" b="b"/>
            <a:pathLst>
              <a:path w="102" h="60">
                <a:moveTo>
                  <a:pt x="102" y="0"/>
                </a:moveTo>
                <a:lnTo>
                  <a:pt x="0" y="60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530680" y="3165480"/>
            <a:ext cx="171720" cy="25560"/>
          </a:xfrm>
          <a:custGeom>
            <a:avLst/>
            <a:gdLst/>
            <a:ahLst/>
            <a:rect l="l" t="t" r="r" b="b"/>
            <a:pathLst>
              <a:path w="108" h="16">
                <a:moveTo>
                  <a:pt x="108" y="0"/>
                </a:moveTo>
                <a:lnTo>
                  <a:pt x="0" y="16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0160" bIns="-20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0720" y="3038400"/>
            <a:ext cx="36720" cy="36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 rot="1822800">
            <a:off x="4961520" y="2887560"/>
            <a:ext cx="288720" cy="22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4801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480144"/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46720" y="2617920"/>
            <a:ext cx="336600" cy="222120"/>
          </a:xfrm>
          <a:custGeom>
            <a:avLst/>
            <a:gdLst/>
            <a:ahLst/>
            <a:rect l="l" t="t" r="r" b="b"/>
            <a:pathLst>
              <a:path w="212" h="140">
                <a:moveTo>
                  <a:pt x="0" y="0"/>
                </a:moveTo>
                <a:lnTo>
                  <a:pt x="212" y="140"/>
                </a:ln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867280" y="23176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60840" y="2955960"/>
            <a:ext cx="1724040" cy="91116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76880" y="3862440"/>
            <a:ext cx="216000" cy="712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6880" y="38718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45280" y="38149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56080" y="3857760"/>
            <a:ext cx="216000" cy="71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56080" y="3867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9380000">
            <a:off x="6068520" y="2663640"/>
            <a:ext cx="71640" cy="179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76800" y="266400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62560" y="2616120"/>
            <a:ext cx="39960" cy="35424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4960" y="265428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219640" y="3441600"/>
                <a:ext cx="7016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5095800" y="29131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265960" y="23209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8363880" y="29145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354880" y="2712960"/>
            <a:ext cx="21600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8361360" y="2649600"/>
            <a:ext cx="0" cy="2872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24680" y="23176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621480" y="2955960"/>
            <a:ext cx="1724040" cy="91116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237520" y="3862440"/>
            <a:ext cx="216000" cy="71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237520" y="38718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305920" y="38149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516720" y="3857760"/>
            <a:ext cx="216000" cy="71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16720" y="3867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9380000">
            <a:off x="8129160" y="2663640"/>
            <a:ext cx="71640" cy="1792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137440" y="266400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313840" y="2610000"/>
            <a:ext cx="39600" cy="3538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175600" y="265428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7280280" y="3441600"/>
                <a:ext cx="7016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7156440" y="29131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160960" y="2556000"/>
            <a:ext cx="216000" cy="3603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503680" y="2797200"/>
            <a:ext cx="215640" cy="3603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8577360" y="2646360"/>
            <a:ext cx="0" cy="2872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752200" y="2948040"/>
            <a:ext cx="28764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62280" y="4986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195640" y="54421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697040" y="5041800"/>
            <a:ext cx="1695600" cy="91116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76720" y="5948280"/>
            <a:ext cx="215640" cy="7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6720" y="59580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344760" y="59007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92280" y="5943600"/>
            <a:ext cx="216000" cy="71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92280" y="59529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222640" y="50036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8480000">
            <a:off x="3003480" y="4719600"/>
            <a:ext cx="71280" cy="1796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87640" y="4719600"/>
            <a:ext cx="405000" cy="3128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33800" y="4595760"/>
            <a:ext cx="272880" cy="451080"/>
          </a:xfrm>
          <a:custGeom>
            <a:avLst/>
            <a:gdLst/>
            <a:ahLst/>
            <a:rect l="l" t="t" r="r" b="b"/>
            <a:pathLst>
              <a:path w="172" h="284">
                <a:moveTo>
                  <a:pt x="0" y="0"/>
                </a:moveTo>
                <a:lnTo>
                  <a:pt x="172" y="284"/>
                </a:lnTo>
              </a:path>
            </a:pathLst>
          </a:custGeom>
          <a:noFill/>
          <a:ln w="9360">
            <a:solidFill>
              <a:srgbClr val="9900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20605800">
            <a:off x="3020760" y="466704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20960" y="4924440"/>
            <a:ext cx="71280" cy="2523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994040" y="492300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000160" y="504972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49400" y="50022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65480" y="5089680"/>
            <a:ext cx="2880" cy="468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268360" y="5505480"/>
            <a:ext cx="32400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98840" y="5372280"/>
            <a:ext cx="0" cy="1872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24000" y="5827680"/>
            <a:ext cx="936720" cy="43200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195640" y="5805360"/>
                <a:ext cx="838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≠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2297160" y="5078520"/>
            <a:ext cx="255600" cy="217440"/>
          </a:xfrm>
          <a:custGeom>
            <a:avLst/>
            <a:gdLst/>
            <a:ahLst/>
            <a:rect l="l" t="t" r="r" b="b"/>
            <a:pathLst>
              <a:path w="161" h="137">
                <a:moveTo>
                  <a:pt x="0" y="0"/>
                </a:moveTo>
                <a:lnTo>
                  <a:pt x="161" y="137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550960" y="52801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471760" y="5348160"/>
            <a:ext cx="96840" cy="61920"/>
          </a:xfrm>
          <a:custGeom>
            <a:avLst/>
            <a:gdLst/>
            <a:ahLst/>
            <a:rect l="l" t="t" r="r" b="b"/>
            <a:pathLst>
              <a:path w="61" h="39">
                <a:moveTo>
                  <a:pt x="61" y="0"/>
                </a:moveTo>
                <a:lnTo>
                  <a:pt x="0" y="39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644920" y="5295960"/>
            <a:ext cx="93600" cy="20520"/>
          </a:xfrm>
          <a:custGeom>
            <a:avLst/>
            <a:gdLst/>
            <a:ahLst/>
            <a:rect l="l" t="t" r="r" b="b"/>
            <a:pathLst>
              <a:path w="59" h="13">
                <a:moveTo>
                  <a:pt x="59" y="0"/>
                </a:moveTo>
                <a:lnTo>
                  <a:pt x="0" y="13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5200" bIns="-25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3357360" y="49309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5400000">
            <a:off x="3409560" y="50086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780000" y="5049720"/>
            <a:ext cx="20160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03520" y="5170320"/>
            <a:ext cx="88920" cy="123840"/>
          </a:xfrm>
          <a:custGeom>
            <a:avLst/>
            <a:gdLst/>
            <a:ahLst/>
            <a:rect l="l" t="t" r="r" b="b"/>
            <a:pathLst>
              <a:path w="56" h="78">
                <a:moveTo>
                  <a:pt x="0" y="0"/>
                </a:moveTo>
                <a:lnTo>
                  <a:pt x="56" y="21"/>
                </a:lnTo>
                <a:lnTo>
                  <a:pt x="33" y="78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164360" y="4915080"/>
            <a:ext cx="71640" cy="2523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62920" y="491508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932520" y="504504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120080" y="49942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759720" y="44067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400000">
            <a:off x="6855840" y="49989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54760" y="4799160"/>
            <a:ext cx="21600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854760" y="4735440"/>
            <a:ext cx="0" cy="2872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418440" y="44038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14880" y="5041800"/>
            <a:ext cx="1724040" cy="911160"/>
          </a:xfrm>
          <a:custGeom>
            <a:avLst/>
            <a:gdLst/>
            <a:ahLst/>
            <a:rect l="l" t="t" r="r" b="b"/>
            <a:pathLst>
              <a:path w="1424" h="675">
                <a:moveTo>
                  <a:pt x="0" y="675"/>
                </a:moveTo>
                <a:lnTo>
                  <a:pt x="471" y="0"/>
                </a:lnTo>
                <a:lnTo>
                  <a:pt x="1424" y="0"/>
                </a:lnTo>
                <a:lnTo>
                  <a:pt x="1424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730920" y="5948280"/>
            <a:ext cx="216000" cy="7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730920" y="5958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799320" y="590076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10120" y="5943600"/>
            <a:ext cx="216000" cy="712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10120" y="59529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19380000">
            <a:off x="6622560" y="4749480"/>
            <a:ext cx="71640" cy="1792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30840" y="474984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7240" y="4695840"/>
            <a:ext cx="39600" cy="3538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69000" y="4740120"/>
            <a:ext cx="147600" cy="6696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5886360" y="5516640"/>
                <a:ext cx="7016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5649840" y="499896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7070760" y="4731840"/>
            <a:ext cx="0" cy="2876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227640" y="500364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73720" y="544500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356000" y="4508640"/>
            <a:ext cx="1584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Дополн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расчётные уз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96000" y="4861080"/>
            <a:ext cx="423720" cy="152280"/>
          </a:xfrm>
          <a:custGeom>
            <a:avLst/>
            <a:gdLst/>
            <a:ahLst/>
            <a:rect l="l" t="t" r="r" b="b"/>
            <a:pathLst>
              <a:path w="246" h="174">
                <a:moveTo>
                  <a:pt x="0" y="0"/>
                </a:moveTo>
                <a:cubicBezTo>
                  <a:pt x="21" y="14"/>
                  <a:pt x="85" y="55"/>
                  <a:pt x="126" y="84"/>
                </a:cubicBezTo>
                <a:cubicBezTo>
                  <a:pt x="167" y="113"/>
                  <a:pt x="221" y="155"/>
                  <a:pt x="246" y="1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133960" y="4896000"/>
            <a:ext cx="276120" cy="542880"/>
          </a:xfrm>
          <a:custGeom>
            <a:avLst/>
            <a:gdLst/>
            <a:ahLst/>
            <a:rect l="l" t="t" r="r" b="b"/>
            <a:pathLst>
              <a:path w="174" h="342">
                <a:moveTo>
                  <a:pt x="0" y="0"/>
                </a:moveTo>
                <a:cubicBezTo>
                  <a:pt x="22" y="30"/>
                  <a:pt x="103" y="123"/>
                  <a:pt x="132" y="180"/>
                </a:cubicBezTo>
                <a:cubicBezTo>
                  <a:pt x="161" y="237"/>
                  <a:pt x="165" y="308"/>
                  <a:pt x="174" y="3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7400000">
            <a:off x="5032080" y="5311800"/>
            <a:ext cx="71280" cy="17928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998960" y="5338800"/>
            <a:ext cx="381240" cy="1382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60960" y="5168880"/>
            <a:ext cx="216000" cy="2872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62680" y="5197320"/>
            <a:ext cx="112680" cy="149400"/>
          </a:xfrm>
          <a:custGeom>
            <a:avLst/>
            <a:gdLst/>
            <a:ahLst/>
            <a:rect l="l" t="t" r="r" b="b"/>
            <a:pathLst>
              <a:path w="71" h="94">
                <a:moveTo>
                  <a:pt x="0" y="94"/>
                </a:moveTo>
                <a:cubicBezTo>
                  <a:pt x="5" y="85"/>
                  <a:pt x="15" y="56"/>
                  <a:pt x="27" y="40"/>
                </a:cubicBezTo>
                <a:cubicBezTo>
                  <a:pt x="39" y="24"/>
                  <a:pt x="62" y="8"/>
                  <a:pt x="71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759280" y="5354640"/>
            <a:ext cx="71640" cy="2523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57840" y="535464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27800" y="5484960"/>
            <a:ext cx="21564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5000" y="54338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5400000">
            <a:off x="5451120" y="54388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5400000">
            <a:off x="6229440" y="5294160"/>
            <a:ext cx="71280" cy="25272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6140160" y="53910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265800" y="512280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5400000">
            <a:off x="6219720" y="508608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5400000">
            <a:off x="6224400" y="53388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410080" y="5516640"/>
            <a:ext cx="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5632560" y="5516640"/>
            <a:ext cx="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416560" y="5659560"/>
            <a:ext cx="21600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88120" y="5227560"/>
            <a:ext cx="20160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448320" y="5059440"/>
            <a:ext cx="1800" cy="164880"/>
          </a:xfrm>
          <a:custGeom>
            <a:avLst/>
            <a:gdLst/>
            <a:ahLst/>
            <a:rect l="l" t="t" r="r" b="b"/>
            <a:pathLst>
              <a:path w="1" h="104">
                <a:moveTo>
                  <a:pt x="0" y="0"/>
                </a:moveTo>
                <a:lnTo>
                  <a:pt x="0" y="104"/>
                </a:ln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824440" y="43639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411960" y="49928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26920" y="621036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 учёт продольных деформаций стержней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6200000">
            <a:off x="4263120" y="176760"/>
            <a:ext cx="287640" cy="7848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04480 h 7848360"/>
              <a:gd name="textAreaBottom" fmla="*/ 7643880 h 78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49"/>
                </a:lnTo>
                <a:cubicBezTo>
                  <a:pt x="10800" y="9349"/>
                  <a:pt x="5400" y="10249"/>
                  <a:pt x="0" y="10249"/>
                </a:cubicBezTo>
                <a:cubicBezTo>
                  <a:pt x="5400" y="10249"/>
                  <a:pt x="10800" y="11149"/>
                  <a:pt x="10800" y="120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005360" y="4168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5222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427640" y="5222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8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9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0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0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58920" y="690480"/>
            <a:ext cx="6553080" cy="313200"/>
          </a:xfrm>
          <a:prstGeom prst="rect">
            <a:avLst/>
          </a:prstGeom>
          <a:solidFill>
            <a:srgbClr val="b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Основная система метода перемещений (ОСМ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9380000">
            <a:off x="4120920" y="4822920"/>
            <a:ext cx="71280" cy="17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137120" y="481824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978440" y="5454720"/>
            <a:ext cx="71280" cy="25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84920" y="545796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78280" y="558324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940280" y="55404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5400000">
            <a:off x="1204560" y="4583160"/>
            <a:ext cx="71640" cy="25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114200" y="473724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46320" y="475128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5400000">
            <a:off x="1199880" y="46944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5400000">
            <a:off x="2644200" y="4591080"/>
            <a:ext cx="71640" cy="25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549160" y="475128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81280" y="475128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2634480" y="47084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922320" y="4886280"/>
            <a:ext cx="71280" cy="252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995400" y="488484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01880" y="5011560"/>
            <a:ext cx="21564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50760" y="496404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49480" y="4870440"/>
            <a:ext cx="71640" cy="252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948040" y="487044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17640" y="500076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905200" y="49500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9380000">
            <a:off x="4820760" y="4817880"/>
            <a:ext cx="71640" cy="17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29040" y="481824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319560" y="5529240"/>
            <a:ext cx="71280" cy="252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317760" y="552924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087720" y="565956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560880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rot="5400000">
            <a:off x="4695480" y="5724360"/>
            <a:ext cx="71280" cy="25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606560" y="58212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732200" y="559116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5400000">
            <a:off x="4690800" y="57690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87400" y="1693800"/>
            <a:ext cx="2160720" cy="649440"/>
          </a:xfrm>
          <a:custGeom>
            <a:avLst/>
            <a:gdLst/>
            <a:ahLst/>
            <a:rect l="l" t="t" r="r" b="b"/>
            <a:pathLst>
              <a:path w="1361" h="409">
                <a:moveTo>
                  <a:pt x="0" y="409"/>
                </a:moveTo>
                <a:lnTo>
                  <a:pt x="216" y="0"/>
                </a:lnTo>
                <a:lnTo>
                  <a:pt x="1120" y="0"/>
                </a:lnTo>
                <a:lnTo>
                  <a:pt x="1361" y="409"/>
                </a:lnTo>
                <a:lnTo>
                  <a:pt x="0" y="409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30480" y="1693800"/>
            <a:ext cx="1428480" cy="649440"/>
          </a:xfrm>
          <a:custGeom>
            <a:avLst/>
            <a:gdLst/>
            <a:ahLst/>
            <a:rect l="l" t="t" r="r" b="b"/>
            <a:pathLst>
              <a:path w="900" h="409">
                <a:moveTo>
                  <a:pt x="0" y="0"/>
                </a:moveTo>
                <a:lnTo>
                  <a:pt x="236" y="404"/>
                </a:lnTo>
                <a:lnTo>
                  <a:pt x="460" y="8"/>
                </a:lnTo>
                <a:lnTo>
                  <a:pt x="691" y="409"/>
                </a:lnTo>
                <a:lnTo>
                  <a:pt x="90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42680" y="2343240"/>
            <a:ext cx="14436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87400" y="2343240"/>
            <a:ext cx="14436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48120" y="23432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5720" y="2301840"/>
            <a:ext cx="7128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195560" y="165744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24200" y="166068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627280" y="1657440"/>
            <a:ext cx="7164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2565360"/>
            <a:ext cx="39528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4360" y="2558880"/>
            <a:ext cx="3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32200" y="2565360"/>
            <a:ext cx="215640" cy="71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35440" y="2558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23960" y="251784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06720" y="252108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008160" y="2305080"/>
            <a:ext cx="7164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977760" y="2519280"/>
            <a:ext cx="7164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68520" y="230364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297160" y="2306520"/>
            <a:ext cx="7128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05040" y="3278160"/>
            <a:ext cx="2160360" cy="649440"/>
          </a:xfrm>
          <a:custGeom>
            <a:avLst/>
            <a:gdLst/>
            <a:ahLst/>
            <a:rect l="l" t="t" r="r" b="b"/>
            <a:pathLst>
              <a:path w="1361" h="409">
                <a:moveTo>
                  <a:pt x="0" y="409"/>
                </a:moveTo>
                <a:lnTo>
                  <a:pt x="216" y="0"/>
                </a:lnTo>
                <a:lnTo>
                  <a:pt x="1120" y="0"/>
                </a:lnTo>
                <a:lnTo>
                  <a:pt x="1361" y="409"/>
                </a:lnTo>
                <a:lnTo>
                  <a:pt x="0" y="409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47760" y="3278160"/>
            <a:ext cx="1428840" cy="649440"/>
          </a:xfrm>
          <a:custGeom>
            <a:avLst/>
            <a:gdLst/>
            <a:ahLst/>
            <a:rect l="l" t="t" r="r" b="b"/>
            <a:pathLst>
              <a:path w="900" h="409">
                <a:moveTo>
                  <a:pt x="0" y="0"/>
                </a:moveTo>
                <a:lnTo>
                  <a:pt x="236" y="404"/>
                </a:lnTo>
                <a:lnTo>
                  <a:pt x="460" y="8"/>
                </a:lnTo>
                <a:lnTo>
                  <a:pt x="691" y="409"/>
                </a:lnTo>
                <a:lnTo>
                  <a:pt x="90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760320" y="3927600"/>
            <a:ext cx="14472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905040" y="3927600"/>
            <a:ext cx="14436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065400" y="392760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73000" y="3886200"/>
            <a:ext cx="7164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212840" y="324180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41480" y="3244680"/>
            <a:ext cx="7164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644920" y="324180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01640" y="4149720"/>
            <a:ext cx="395280" cy="71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01640" y="4143240"/>
            <a:ext cx="3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49480" y="4149720"/>
            <a:ext cx="216000" cy="7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952720" y="4143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41240" y="4102200"/>
            <a:ext cx="7164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024360" y="410544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25800" y="388944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95400" y="4103640"/>
            <a:ext cx="7128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585800" y="3887640"/>
            <a:ext cx="7164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14440" y="3890880"/>
            <a:ext cx="7164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05040" y="5006880"/>
            <a:ext cx="2160360" cy="649440"/>
          </a:xfrm>
          <a:custGeom>
            <a:avLst/>
            <a:gdLst/>
            <a:ahLst/>
            <a:rect l="l" t="t" r="r" b="b"/>
            <a:pathLst>
              <a:path w="1361" h="409">
                <a:moveTo>
                  <a:pt x="0" y="409"/>
                </a:moveTo>
                <a:lnTo>
                  <a:pt x="216" y="0"/>
                </a:lnTo>
                <a:lnTo>
                  <a:pt x="1120" y="0"/>
                </a:lnTo>
                <a:lnTo>
                  <a:pt x="1361" y="409"/>
                </a:lnTo>
                <a:lnTo>
                  <a:pt x="0" y="409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47760" y="5006880"/>
            <a:ext cx="1428840" cy="649440"/>
          </a:xfrm>
          <a:custGeom>
            <a:avLst/>
            <a:gdLst/>
            <a:ahLst/>
            <a:rect l="l" t="t" r="r" b="b"/>
            <a:pathLst>
              <a:path w="900" h="409">
                <a:moveTo>
                  <a:pt x="0" y="0"/>
                </a:moveTo>
                <a:lnTo>
                  <a:pt x="236" y="404"/>
                </a:lnTo>
                <a:lnTo>
                  <a:pt x="460" y="8"/>
                </a:lnTo>
                <a:lnTo>
                  <a:pt x="691" y="409"/>
                </a:lnTo>
                <a:lnTo>
                  <a:pt x="90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760320" y="5656320"/>
            <a:ext cx="1447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905040" y="5656320"/>
            <a:ext cx="14436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65400" y="5656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73000" y="5614920"/>
            <a:ext cx="7164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12840" y="497052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41480" y="4973760"/>
            <a:ext cx="7164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644920" y="497052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01640" y="5878440"/>
            <a:ext cx="395280" cy="7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640" y="5872320"/>
            <a:ext cx="3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949480" y="5878440"/>
            <a:ext cx="216000" cy="7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952720" y="58723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41240" y="5830920"/>
            <a:ext cx="7164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24360" y="583416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025800" y="561816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95400" y="5832360"/>
            <a:ext cx="7128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042920" y="3560760"/>
            <a:ext cx="71640" cy="7128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33360" y="3887640"/>
            <a:ext cx="71640" cy="7164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59120" y="3887640"/>
            <a:ext cx="71280" cy="7164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581120" y="3240000"/>
            <a:ext cx="71640" cy="7164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306520" y="3240000"/>
            <a:ext cx="71640" cy="7164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397160" y="3560760"/>
            <a:ext cx="71280" cy="7128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122560" y="3560760"/>
            <a:ext cx="71280" cy="7128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71760" y="3560760"/>
            <a:ext cx="71280" cy="7128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41480" y="3573360"/>
            <a:ext cx="71640" cy="7164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6880" y="3887640"/>
            <a:ext cx="71640" cy="7164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70120" y="3554280"/>
            <a:ext cx="71280" cy="7164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522440" y="3244680"/>
            <a:ext cx="1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51080" y="3244680"/>
            <a:ext cx="1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22440" y="3319560"/>
            <a:ext cx="1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251080" y="3319560"/>
            <a:ext cx="1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95400" y="3890880"/>
            <a:ext cx="1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11440" y="3890880"/>
            <a:ext cx="1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895400" y="3965400"/>
            <a:ext cx="1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611440" y="3965400"/>
            <a:ext cx="1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177920" y="3890880"/>
            <a:ext cx="1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77920" y="3965400"/>
            <a:ext cx="1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349280" y="3516480"/>
            <a:ext cx="96840" cy="16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09760" y="3481560"/>
            <a:ext cx="96840" cy="16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82960" y="3535200"/>
            <a:ext cx="9684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143080" y="3500280"/>
            <a:ext cx="9684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795760" y="3535200"/>
            <a:ext cx="9684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855880" y="3500280"/>
            <a:ext cx="9684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1002960" y="3487680"/>
            <a:ext cx="9036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1068120" y="3522600"/>
            <a:ext cx="9036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1730160" y="3487680"/>
            <a:ext cx="9036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1795320" y="3522600"/>
            <a:ext cx="9072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503360" y="5661000"/>
            <a:ext cx="108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619280" y="5661000"/>
            <a:ext cx="108000" cy="216000"/>
          </a:xfrm>
          <a:prstGeom prst="line">
            <a:avLst/>
          </a:prstGeom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4680" y="5883120"/>
            <a:ext cx="360360" cy="716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444680" y="5877000"/>
            <a:ext cx="360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84280" y="5835600"/>
            <a:ext cx="7164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681200" y="583740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228760" y="5661000"/>
            <a:ext cx="108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344680" y="5661000"/>
            <a:ext cx="108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170080" y="5883120"/>
            <a:ext cx="360360" cy="716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170080" y="5877000"/>
            <a:ext cx="360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209680" y="5835600"/>
            <a:ext cx="7164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406600" y="5837400"/>
            <a:ext cx="7164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585800" y="5616720"/>
            <a:ext cx="7164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14440" y="5619600"/>
            <a:ext cx="7164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1981080" y="4768920"/>
            <a:ext cx="10800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54360" y="4773600"/>
            <a:ext cx="10764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782720" y="4686480"/>
            <a:ext cx="360360" cy="71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782720" y="4762440"/>
            <a:ext cx="360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822320" y="4721400"/>
            <a:ext cx="7164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048040" y="472284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76440" y="2492280"/>
            <a:ext cx="792000" cy="39528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438280" y="3490920"/>
            <a:ext cx="9072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2503080" y="3525840"/>
            <a:ext cx="9036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512720" y="4065480"/>
            <a:ext cx="936720" cy="39528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512720" y="6002280"/>
            <a:ext cx="936720" cy="36036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de-DE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80000" y="1916280"/>
            <a:ext cx="1871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780000" y="1916280"/>
            <a:ext cx="1871640" cy="468000"/>
          </a:xfrm>
          <a:custGeom>
            <a:avLst/>
            <a:gdLst/>
            <a:ahLst/>
            <a:rect l="l" t="t" r="r" b="b"/>
            <a:pathLst>
              <a:path w="1179" h="233">
                <a:moveTo>
                  <a:pt x="0" y="0"/>
                </a:moveTo>
                <a:lnTo>
                  <a:pt x="594" y="233"/>
                </a:lnTo>
                <a:lnTo>
                  <a:pt x="11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41960" y="1916280"/>
            <a:ext cx="763560" cy="468000"/>
          </a:xfrm>
          <a:custGeom>
            <a:avLst/>
            <a:gdLst/>
            <a:ahLst/>
            <a:rect l="l" t="t" r="r" b="b"/>
            <a:pathLst>
              <a:path w="1179" h="233">
                <a:moveTo>
                  <a:pt x="0" y="0"/>
                </a:moveTo>
                <a:lnTo>
                  <a:pt x="594" y="233"/>
                </a:lnTo>
                <a:lnTo>
                  <a:pt x="11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39960" y="1933560"/>
            <a:ext cx="1447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84680" y="1933560"/>
            <a:ext cx="14436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53000" y="188280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2155680"/>
            <a:ext cx="395280" cy="716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2149560"/>
            <a:ext cx="3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21240" y="2108160"/>
            <a:ext cx="7128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875040" y="2109960"/>
            <a:ext cx="7164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640480" y="1916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524560" y="2138400"/>
            <a:ext cx="216000" cy="712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527800" y="2131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599080" y="2093760"/>
            <a:ext cx="7164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600880" y="187812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348080" y="1925640"/>
            <a:ext cx="7164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029200" y="192888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692600" y="2340000"/>
            <a:ext cx="7164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81440" y="3467160"/>
            <a:ext cx="1871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781440" y="3467160"/>
            <a:ext cx="1871640" cy="468360"/>
          </a:xfrm>
          <a:custGeom>
            <a:avLst/>
            <a:gdLst/>
            <a:ahLst/>
            <a:rect l="l" t="t" r="r" b="b"/>
            <a:pathLst>
              <a:path w="1179" h="233">
                <a:moveTo>
                  <a:pt x="0" y="0"/>
                </a:moveTo>
                <a:lnTo>
                  <a:pt x="594" y="233"/>
                </a:lnTo>
                <a:lnTo>
                  <a:pt x="11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3467160"/>
            <a:ext cx="763560" cy="468360"/>
          </a:xfrm>
          <a:custGeom>
            <a:avLst/>
            <a:gdLst/>
            <a:ahLst/>
            <a:rect l="l" t="t" r="r" b="b"/>
            <a:pathLst>
              <a:path w="1179" h="233">
                <a:moveTo>
                  <a:pt x="0" y="0"/>
                </a:moveTo>
                <a:lnTo>
                  <a:pt x="594" y="233"/>
                </a:lnTo>
                <a:lnTo>
                  <a:pt x="11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41400" y="3484440"/>
            <a:ext cx="14436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786120" y="3484440"/>
            <a:ext cx="14436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754440" y="3433680"/>
            <a:ext cx="7128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83080" y="3706920"/>
            <a:ext cx="395280" cy="7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583080" y="3700440"/>
            <a:ext cx="3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22680" y="3659040"/>
            <a:ext cx="7128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876840" y="366084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641920" y="3467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526000" y="3689280"/>
            <a:ext cx="216000" cy="716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529240" y="3683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600880" y="364500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602320" y="342900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30800" y="343692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056200" y="342900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694400" y="3890880"/>
            <a:ext cx="7128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786120" y="5118120"/>
            <a:ext cx="1871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786120" y="5118120"/>
            <a:ext cx="1871640" cy="468360"/>
          </a:xfrm>
          <a:custGeom>
            <a:avLst/>
            <a:gdLst/>
            <a:ahLst/>
            <a:rect l="l" t="t" r="r" b="b"/>
            <a:pathLst>
              <a:path w="1179" h="233">
                <a:moveTo>
                  <a:pt x="0" y="0"/>
                </a:moveTo>
                <a:lnTo>
                  <a:pt x="594" y="233"/>
                </a:lnTo>
                <a:lnTo>
                  <a:pt x="11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348080" y="5118120"/>
            <a:ext cx="763560" cy="468360"/>
          </a:xfrm>
          <a:custGeom>
            <a:avLst/>
            <a:gdLst/>
            <a:ahLst/>
            <a:rect l="l" t="t" r="r" b="b"/>
            <a:pathLst>
              <a:path w="1179" h="233">
                <a:moveTo>
                  <a:pt x="0" y="0"/>
                </a:moveTo>
                <a:lnTo>
                  <a:pt x="594" y="233"/>
                </a:lnTo>
                <a:lnTo>
                  <a:pt x="11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3646080" y="5135400"/>
            <a:ext cx="14436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0800" y="5135400"/>
            <a:ext cx="14472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759120" y="5084640"/>
            <a:ext cx="7164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587760" y="5357880"/>
            <a:ext cx="395280" cy="71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587760" y="5351400"/>
            <a:ext cx="3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627360" y="5310360"/>
            <a:ext cx="7164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1520" y="531180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646600" y="51181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530680" y="5340240"/>
            <a:ext cx="216000" cy="7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533920" y="5334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605560" y="5295960"/>
            <a:ext cx="71280" cy="71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607000" y="5079960"/>
            <a:ext cx="7164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4560" y="5127480"/>
            <a:ext cx="7128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035680" y="5130720"/>
            <a:ext cx="7128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699080" y="5541840"/>
            <a:ext cx="71280" cy="716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327560" y="1413000"/>
            <a:ext cx="792000" cy="39528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302000" y="4076640"/>
            <a:ext cx="884520" cy="39528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232160" y="3673440"/>
            <a:ext cx="57240" cy="5724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524480" y="3692520"/>
            <a:ext cx="56880" cy="5724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75120" y="3683160"/>
            <a:ext cx="57240" cy="5688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138640" y="3683160"/>
            <a:ext cx="57240" cy="5688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299120" y="6002280"/>
            <a:ext cx="863280" cy="36036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de-DE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4140000" y="2185920"/>
            <a:ext cx="14436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149720" y="2160720"/>
            <a:ext cx="395280" cy="196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746520" y="22622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903920" y="2166840"/>
            <a:ext cx="44136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91200" y="2160720"/>
            <a:ext cx="179280" cy="179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229360" y="22557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3480" y="36925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202280" y="363996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079960" y="36493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105520" y="37015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470480" y="3668760"/>
            <a:ext cx="10800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14760" y="3630600"/>
            <a:ext cx="10800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4833720" y="3630600"/>
            <a:ext cx="10764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4878360" y="3664080"/>
            <a:ext cx="10800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92360" y="1197000"/>
            <a:ext cx="0" cy="532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796000" y="1197000"/>
            <a:ext cx="0" cy="532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rot="16200000">
            <a:off x="-120240" y="1925640"/>
            <a:ext cx="1152720" cy="40320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да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-155880" y="3552120"/>
            <a:ext cx="1224000" cy="40320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арнир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rot="16200000">
            <a:off x="-123480" y="5200200"/>
            <a:ext cx="1152360" cy="403200"/>
          </a:xfrm>
          <a:prstGeom prst="rect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rot="5400000">
            <a:off x="4344480" y="4662360"/>
            <a:ext cx="71280" cy="25236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49440" y="482292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381560" y="482292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rot="5400000">
            <a:off x="4335120" y="47800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rot="5400000">
            <a:off x="5032440" y="4659120"/>
            <a:ext cx="71280" cy="25272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4936680" y="481968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68800" y="481968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rot="5400000">
            <a:off x="5022720" y="477648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rot="5400000">
            <a:off x="4338360" y="50086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rot="5400000">
            <a:off x="5025960" y="500508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029280" y="2637000"/>
            <a:ext cx="503280" cy="14436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90" y="0"/>
                </a:lnTo>
                <a:lnTo>
                  <a:pt x="317" y="0"/>
                </a:lnTo>
                <a:lnTo>
                  <a:pt x="226" y="91"/>
                </a:lnTo>
                <a:lnTo>
                  <a:pt x="0" y="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029280" y="2637000"/>
            <a:ext cx="503280" cy="14436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226" y="91"/>
                </a:lnTo>
                <a:lnTo>
                  <a:pt x="317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250040" y="2637000"/>
            <a:ext cx="503280" cy="14436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90" y="0"/>
                </a:lnTo>
                <a:lnTo>
                  <a:pt x="317" y="0"/>
                </a:lnTo>
                <a:lnTo>
                  <a:pt x="226" y="91"/>
                </a:lnTo>
                <a:lnTo>
                  <a:pt x="0" y="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250040" y="2637000"/>
            <a:ext cx="503280" cy="14436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226" y="91"/>
                </a:lnTo>
                <a:lnTo>
                  <a:pt x="317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92960" y="2062080"/>
            <a:ext cx="503280" cy="14472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90" y="0"/>
                </a:lnTo>
                <a:lnTo>
                  <a:pt x="317" y="0"/>
                </a:lnTo>
                <a:lnTo>
                  <a:pt x="226" y="91"/>
                </a:lnTo>
                <a:lnTo>
                  <a:pt x="0" y="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492960" y="2062080"/>
            <a:ext cx="503280" cy="14472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226" y="91"/>
                </a:lnTo>
                <a:lnTo>
                  <a:pt x="317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713720" y="2062080"/>
            <a:ext cx="503280" cy="14472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90" y="0"/>
                </a:lnTo>
                <a:lnTo>
                  <a:pt x="317" y="0"/>
                </a:lnTo>
                <a:lnTo>
                  <a:pt x="226" y="91"/>
                </a:lnTo>
                <a:lnTo>
                  <a:pt x="0" y="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713720" y="2062080"/>
            <a:ext cx="503280" cy="14472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226" y="91"/>
                </a:lnTo>
                <a:lnTo>
                  <a:pt x="317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745320" y="1125360"/>
            <a:ext cx="1224000" cy="100836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635"/>
                </a:moveTo>
                <a:lnTo>
                  <a:pt x="0" y="0"/>
                </a:lnTo>
                <a:lnTo>
                  <a:pt x="771" y="0"/>
                </a:lnTo>
                <a:lnTo>
                  <a:pt x="771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283440" y="1692360"/>
            <a:ext cx="1224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635"/>
                </a:moveTo>
                <a:lnTo>
                  <a:pt x="0" y="0"/>
                </a:lnTo>
                <a:lnTo>
                  <a:pt x="771" y="0"/>
                </a:lnTo>
                <a:lnTo>
                  <a:pt x="771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278400" y="1125360"/>
            <a:ext cx="466920" cy="565200"/>
          </a:xfrm>
          <a:custGeom>
            <a:avLst/>
            <a:gdLst/>
            <a:ahLst/>
            <a:rect l="l" t="t" r="r" b="b"/>
            <a:pathLst>
              <a:path w="294" h="356">
                <a:moveTo>
                  <a:pt x="294" y="0"/>
                </a:moveTo>
                <a:lnTo>
                  <a:pt x="0" y="3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97720" y="1125360"/>
            <a:ext cx="466920" cy="565200"/>
          </a:xfrm>
          <a:custGeom>
            <a:avLst/>
            <a:gdLst/>
            <a:ahLst/>
            <a:rect l="l" t="t" r="r" b="b"/>
            <a:pathLst>
              <a:path w="294" h="356">
                <a:moveTo>
                  <a:pt x="294" y="0"/>
                </a:moveTo>
                <a:lnTo>
                  <a:pt x="0" y="3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313320" y="1225440"/>
            <a:ext cx="400320" cy="1397160"/>
          </a:xfrm>
          <a:custGeom>
            <a:avLst/>
            <a:gdLst/>
            <a:ahLst/>
            <a:rect l="l" t="t" r="r" b="b"/>
            <a:pathLst>
              <a:path w="252" h="880">
                <a:moveTo>
                  <a:pt x="252" y="0"/>
                </a:moveTo>
                <a:lnTo>
                  <a:pt x="0" y="8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697800" y="1176480"/>
            <a:ext cx="46080" cy="45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284880" y="2624040"/>
            <a:ext cx="46080" cy="46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539120" y="1220760"/>
            <a:ext cx="399960" cy="1397160"/>
          </a:xfrm>
          <a:custGeom>
            <a:avLst/>
            <a:gdLst/>
            <a:ahLst/>
            <a:rect l="l" t="t" r="r" b="b"/>
            <a:pathLst>
              <a:path w="252" h="880">
                <a:moveTo>
                  <a:pt x="252" y="0"/>
                </a:moveTo>
                <a:lnTo>
                  <a:pt x="0" y="8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923240" y="1171440"/>
            <a:ext cx="46080" cy="46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510320" y="2619360"/>
            <a:ext cx="46080" cy="46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294600" y="221148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24720" y="221148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024600" y="4470480"/>
            <a:ext cx="503280" cy="14436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90" y="0"/>
                </a:lnTo>
                <a:lnTo>
                  <a:pt x="317" y="0"/>
                </a:lnTo>
                <a:lnTo>
                  <a:pt x="226" y="91"/>
                </a:lnTo>
                <a:lnTo>
                  <a:pt x="0" y="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024600" y="4470480"/>
            <a:ext cx="503280" cy="14436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226" y="91"/>
                </a:lnTo>
                <a:lnTo>
                  <a:pt x="317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245360" y="4470480"/>
            <a:ext cx="503280" cy="14436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90" y="0"/>
                </a:lnTo>
                <a:lnTo>
                  <a:pt x="317" y="0"/>
                </a:lnTo>
                <a:lnTo>
                  <a:pt x="226" y="91"/>
                </a:lnTo>
                <a:lnTo>
                  <a:pt x="0" y="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245360" y="4470480"/>
            <a:ext cx="503280" cy="14436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226" y="91"/>
                </a:lnTo>
                <a:lnTo>
                  <a:pt x="317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488280" y="3895560"/>
            <a:ext cx="502920" cy="14472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90" y="0"/>
                </a:lnTo>
                <a:lnTo>
                  <a:pt x="317" y="0"/>
                </a:lnTo>
                <a:lnTo>
                  <a:pt x="226" y="91"/>
                </a:lnTo>
                <a:lnTo>
                  <a:pt x="0" y="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488280" y="3895560"/>
            <a:ext cx="502920" cy="14472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226" y="91"/>
                </a:lnTo>
                <a:lnTo>
                  <a:pt x="317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709040" y="3895560"/>
            <a:ext cx="502920" cy="14472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90" y="0"/>
                </a:lnTo>
                <a:lnTo>
                  <a:pt x="317" y="0"/>
                </a:lnTo>
                <a:lnTo>
                  <a:pt x="226" y="91"/>
                </a:lnTo>
                <a:lnTo>
                  <a:pt x="0" y="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709040" y="3895560"/>
            <a:ext cx="502920" cy="14472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226" y="91"/>
                </a:lnTo>
                <a:lnTo>
                  <a:pt x="317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740640" y="2959200"/>
            <a:ext cx="1224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635"/>
                </a:moveTo>
                <a:lnTo>
                  <a:pt x="0" y="0"/>
                </a:lnTo>
                <a:lnTo>
                  <a:pt x="771" y="0"/>
                </a:lnTo>
                <a:lnTo>
                  <a:pt x="771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78400" y="3525840"/>
            <a:ext cx="1224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635"/>
                </a:moveTo>
                <a:lnTo>
                  <a:pt x="0" y="0"/>
                </a:lnTo>
                <a:lnTo>
                  <a:pt x="771" y="0"/>
                </a:lnTo>
                <a:lnTo>
                  <a:pt x="771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273720" y="2959200"/>
            <a:ext cx="466920" cy="565200"/>
          </a:xfrm>
          <a:custGeom>
            <a:avLst/>
            <a:gdLst/>
            <a:ahLst/>
            <a:rect l="l" t="t" r="r" b="b"/>
            <a:pathLst>
              <a:path w="294" h="356">
                <a:moveTo>
                  <a:pt x="294" y="0"/>
                </a:moveTo>
                <a:lnTo>
                  <a:pt x="0" y="3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488360" y="2959200"/>
            <a:ext cx="466560" cy="565200"/>
          </a:xfrm>
          <a:custGeom>
            <a:avLst/>
            <a:gdLst/>
            <a:ahLst/>
            <a:rect l="l" t="t" r="r" b="b"/>
            <a:pathLst>
              <a:path w="294" h="356">
                <a:moveTo>
                  <a:pt x="294" y="0"/>
                </a:moveTo>
                <a:lnTo>
                  <a:pt x="0" y="3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294600" y="3016080"/>
            <a:ext cx="425160" cy="1473480"/>
          </a:xfrm>
          <a:custGeom>
            <a:avLst/>
            <a:gdLst/>
            <a:ahLst/>
            <a:rect l="l" t="t" r="r" b="b"/>
            <a:pathLst>
              <a:path w="268" h="928">
                <a:moveTo>
                  <a:pt x="268" y="0"/>
                </a:moveTo>
                <a:lnTo>
                  <a:pt x="0" y="9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515360" y="3009960"/>
            <a:ext cx="425160" cy="1473120"/>
          </a:xfrm>
          <a:custGeom>
            <a:avLst/>
            <a:gdLst/>
            <a:ahLst/>
            <a:rect l="l" t="t" r="r" b="b"/>
            <a:pathLst>
              <a:path w="268" h="928">
                <a:moveTo>
                  <a:pt x="268" y="0"/>
                </a:moveTo>
                <a:lnTo>
                  <a:pt x="0" y="92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681960" y="2905200"/>
            <a:ext cx="10764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5600" y="289872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684840" y="38908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908840" y="3884760"/>
            <a:ext cx="108000" cy="107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221520" y="34718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445520" y="3465360"/>
            <a:ext cx="10764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224760" y="4457880"/>
            <a:ext cx="107640" cy="107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48400" y="445140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477120" y="3722760"/>
            <a:ext cx="56880" cy="5724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7696080" y="3716280"/>
            <a:ext cx="57240" cy="57240"/>
          </a:xfrm>
          <a:prstGeom prst="ellipse">
            <a:avLst/>
          </a:prstGeom>
          <a:solidFill>
            <a:srgbClr val="e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6457680" y="3651120"/>
            <a:ext cx="5076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6508440" y="3668760"/>
            <a:ext cx="5076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7679880" y="3645000"/>
            <a:ext cx="5076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7730640" y="3662280"/>
            <a:ext cx="50760" cy="1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24600" y="6308640"/>
            <a:ext cx="503280" cy="14472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90" y="0"/>
                </a:lnTo>
                <a:lnTo>
                  <a:pt x="317" y="0"/>
                </a:lnTo>
                <a:lnTo>
                  <a:pt x="226" y="91"/>
                </a:lnTo>
                <a:lnTo>
                  <a:pt x="0" y="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24600" y="6308640"/>
            <a:ext cx="503280" cy="14472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226" y="91"/>
                </a:lnTo>
                <a:lnTo>
                  <a:pt x="317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245360" y="6308640"/>
            <a:ext cx="503280" cy="14472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90" y="0"/>
                </a:lnTo>
                <a:lnTo>
                  <a:pt x="317" y="0"/>
                </a:lnTo>
                <a:lnTo>
                  <a:pt x="226" y="91"/>
                </a:lnTo>
                <a:lnTo>
                  <a:pt x="0" y="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245360" y="6308640"/>
            <a:ext cx="503280" cy="14472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226" y="91"/>
                </a:lnTo>
                <a:lnTo>
                  <a:pt x="317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488280" y="5734080"/>
            <a:ext cx="502920" cy="14436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90" y="0"/>
                </a:lnTo>
                <a:lnTo>
                  <a:pt x="317" y="0"/>
                </a:lnTo>
                <a:lnTo>
                  <a:pt x="226" y="91"/>
                </a:lnTo>
                <a:lnTo>
                  <a:pt x="0" y="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88280" y="5734080"/>
            <a:ext cx="502920" cy="14436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226" y="91"/>
                </a:lnTo>
                <a:lnTo>
                  <a:pt x="317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709040" y="5734080"/>
            <a:ext cx="502920" cy="14436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90" y="0"/>
                </a:lnTo>
                <a:lnTo>
                  <a:pt x="317" y="0"/>
                </a:lnTo>
                <a:lnTo>
                  <a:pt x="226" y="91"/>
                </a:lnTo>
                <a:lnTo>
                  <a:pt x="0" y="9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709040" y="5734080"/>
            <a:ext cx="502920" cy="144360"/>
          </a:xfrm>
          <a:custGeom>
            <a:avLst/>
            <a:gdLst/>
            <a:ahLst/>
            <a:rect l="l" t="t" r="r" b="b"/>
            <a:pathLst>
              <a:path w="317" h="91">
                <a:moveTo>
                  <a:pt x="0" y="91"/>
                </a:moveTo>
                <a:lnTo>
                  <a:pt x="226" y="91"/>
                </a:lnTo>
                <a:lnTo>
                  <a:pt x="317" y="0"/>
                </a:lnTo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740640" y="4797360"/>
            <a:ext cx="1224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635"/>
                </a:moveTo>
                <a:lnTo>
                  <a:pt x="0" y="0"/>
                </a:lnTo>
                <a:lnTo>
                  <a:pt x="771" y="0"/>
                </a:lnTo>
                <a:lnTo>
                  <a:pt x="771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278400" y="5364000"/>
            <a:ext cx="1224000" cy="100836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635"/>
                </a:moveTo>
                <a:lnTo>
                  <a:pt x="0" y="0"/>
                </a:lnTo>
                <a:lnTo>
                  <a:pt x="771" y="0"/>
                </a:lnTo>
                <a:lnTo>
                  <a:pt x="771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273720" y="4797360"/>
            <a:ext cx="466920" cy="565200"/>
          </a:xfrm>
          <a:custGeom>
            <a:avLst/>
            <a:gdLst/>
            <a:ahLst/>
            <a:rect l="l" t="t" r="r" b="b"/>
            <a:pathLst>
              <a:path w="294" h="356">
                <a:moveTo>
                  <a:pt x="294" y="0"/>
                </a:moveTo>
                <a:lnTo>
                  <a:pt x="0" y="3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488360" y="4797360"/>
            <a:ext cx="466560" cy="565200"/>
          </a:xfrm>
          <a:custGeom>
            <a:avLst/>
            <a:gdLst/>
            <a:ahLst/>
            <a:rect l="l" t="t" r="r" b="b"/>
            <a:pathLst>
              <a:path w="294" h="356">
                <a:moveTo>
                  <a:pt x="294" y="0"/>
                </a:moveTo>
                <a:lnTo>
                  <a:pt x="0" y="3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308640" y="4902120"/>
            <a:ext cx="399960" cy="1397160"/>
          </a:xfrm>
          <a:custGeom>
            <a:avLst/>
            <a:gdLst/>
            <a:ahLst/>
            <a:rect l="l" t="t" r="r" b="b"/>
            <a:pathLst>
              <a:path w="252" h="880">
                <a:moveTo>
                  <a:pt x="252" y="0"/>
                </a:moveTo>
                <a:lnTo>
                  <a:pt x="0" y="8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92760" y="4848120"/>
            <a:ext cx="46080" cy="46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280200" y="6296040"/>
            <a:ext cx="46080" cy="46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534440" y="4897440"/>
            <a:ext cx="399960" cy="1397160"/>
          </a:xfrm>
          <a:custGeom>
            <a:avLst/>
            <a:gdLst/>
            <a:ahLst/>
            <a:rect l="l" t="t" r="r" b="b"/>
            <a:pathLst>
              <a:path w="252" h="880">
                <a:moveTo>
                  <a:pt x="252" y="0"/>
                </a:moveTo>
                <a:lnTo>
                  <a:pt x="0" y="88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918560" y="4843440"/>
            <a:ext cx="46080" cy="46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505640" y="6291360"/>
            <a:ext cx="46080" cy="46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740640" y="4365720"/>
            <a:ext cx="56880" cy="1443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745320" y="4365720"/>
            <a:ext cx="0" cy="431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954920" y="4365720"/>
            <a:ext cx="57240" cy="14436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959600" y="4365720"/>
            <a:ext cx="0" cy="431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488360" y="4906800"/>
            <a:ext cx="56880" cy="14472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493040" y="4906800"/>
            <a:ext cx="0" cy="432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69040" y="4927680"/>
            <a:ext cx="57240" cy="1443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273720" y="4927680"/>
            <a:ext cx="0" cy="431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952960" y="5229360"/>
            <a:ext cx="71640" cy="25236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029280" y="5232240"/>
            <a:ext cx="0" cy="2527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024600" y="535788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985000" y="5324400"/>
            <a:ext cx="7128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195960" y="5326200"/>
            <a:ext cx="7164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396120" y="4667400"/>
            <a:ext cx="71280" cy="2523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72080" y="4670280"/>
            <a:ext cx="0" cy="2527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467400" y="479592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427800" y="4762440"/>
            <a:ext cx="7128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634080" y="4759200"/>
            <a:ext cx="7164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043680" y="5392800"/>
            <a:ext cx="17928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rot="5400000">
            <a:off x="6059160" y="5451480"/>
            <a:ext cx="71640" cy="25236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968800" y="554184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058080" y="5506920"/>
            <a:ext cx="7128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412040" y="5378400"/>
            <a:ext cx="7128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259760" y="5445000"/>
            <a:ext cx="17928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5400000">
            <a:off x="7275600" y="5503680"/>
            <a:ext cx="71280" cy="25272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7184880" y="5594400"/>
            <a:ext cx="25272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273800" y="5559480"/>
            <a:ext cx="7164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85000" y="4708440"/>
            <a:ext cx="144360" cy="5724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6745320" y="4762440"/>
            <a:ext cx="2872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8104320" y="4724280"/>
            <a:ext cx="144360" cy="572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7964640" y="4778280"/>
            <a:ext cx="2872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384960" y="5272200"/>
            <a:ext cx="144360" cy="5688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6278400" y="5330880"/>
            <a:ext cx="2527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618320" y="5307120"/>
            <a:ext cx="144720" cy="5688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7511760" y="5361120"/>
            <a:ext cx="252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rot="18378600">
            <a:off x="6782760" y="4564440"/>
            <a:ext cx="144360" cy="5076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6750000" y="4556160"/>
            <a:ext cx="179280" cy="216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rot="18378600">
            <a:off x="6301440" y="5112360"/>
            <a:ext cx="144720" cy="5112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6269040" y="5103720"/>
            <a:ext cx="179280" cy="216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rot="18378600">
            <a:off x="7609680" y="5198040"/>
            <a:ext cx="144360" cy="5076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529400" y="5146560"/>
            <a:ext cx="179640" cy="216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rot="18378600">
            <a:off x="8051040" y="4609080"/>
            <a:ext cx="144360" cy="507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970760" y="4557600"/>
            <a:ext cx="179640" cy="216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8015400" y="1504800"/>
            <a:ext cx="865080" cy="39528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8015400" y="3262320"/>
            <a:ext cx="865080" cy="38268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858080" y="5969160"/>
            <a:ext cx="936720" cy="36036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de-DE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278240" y="1806480"/>
            <a:ext cx="216000" cy="21600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957920" y="1806480"/>
            <a:ext cx="215640" cy="21600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178680" y="1576440"/>
            <a:ext cx="215640" cy="21600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634080" y="1027080"/>
            <a:ext cx="216000" cy="21600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861320" y="1025640"/>
            <a:ext cx="216000" cy="21564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392960" y="1576440"/>
            <a:ext cx="216000" cy="21600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457280" y="6270480"/>
            <a:ext cx="1001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de-DE" sz="1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24240" y="6267600"/>
            <a:ext cx="1008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de-DE" sz="1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746840" y="6269040"/>
            <a:ext cx="1133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de-DE" sz="1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0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1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4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7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0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3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9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3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34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3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0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9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5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3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2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5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8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1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4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7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0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6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5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8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4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8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1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4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7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0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3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8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1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7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50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53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56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59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2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5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8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71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74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77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80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83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86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89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3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500"/>
                            </p:stCondLst>
                            <p:childTnLst>
                              <p:par>
                                <p:cTn id="19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"/>
                            </p:stCondLst>
                            <p:childTnLst>
                              <p:par>
                                <p:cTn id="19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1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9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1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4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7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9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4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3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6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9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2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8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1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7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0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3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6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9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5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500"/>
                            </p:stCondLst>
                            <p:childTnLst>
                              <p:par>
                                <p:cTn id="2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3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6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2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5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8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1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4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7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0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3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9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2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500"/>
                            </p:stCondLst>
                            <p:childTnLst>
                              <p:par>
                                <p:cTn id="2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0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3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9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5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0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3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9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8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500"/>
                            </p:stCondLst>
                            <p:childTnLst>
                              <p:par>
                                <p:cTn id="24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7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3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6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9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2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5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1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7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3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6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5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500"/>
                            </p:stCondLst>
                            <p:childTnLst>
                              <p:par>
                                <p:cTn id="26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500"/>
                            </p:stCondLst>
                            <p:childTnLst>
                              <p:par>
                                <p:cTn id="2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0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6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9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2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1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7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0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6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9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2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5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8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1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0" fill="hold">
                            <p:stCondLst>
                              <p:cond delay="500"/>
                            </p:stCondLst>
                            <p:childTnLst>
                              <p:par>
                                <p:cTn id="27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5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5500"/>
                            </p:stCondLst>
                            <p:childTnLst>
                              <p:par>
                                <p:cTn id="28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9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1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6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8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5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258920" y="716040"/>
            <a:ext cx="6553080" cy="31320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06320" y="2238480"/>
            <a:ext cx="86544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3009240" y="223848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00200" y="1733400"/>
            <a:ext cx="1366920" cy="50508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600200" y="223848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585800" y="21812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901960" y="219060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498680" y="22384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rot="16042800">
            <a:off x="3013920" y="223992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30280" y="295272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3004920" y="295272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6960" y="2289240"/>
            <a:ext cx="71280" cy="17928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846600" y="2290680"/>
            <a:ext cx="71280" cy="17964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1280" y="2516040"/>
            <a:ext cx="215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11280" y="25257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770280" y="2487600"/>
            <a:ext cx="21600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770280" y="24969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292400" y="3151080"/>
            <a:ext cx="43164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292400" y="31510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852640" y="3151080"/>
            <a:ext cx="432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52640" y="3151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528920" y="31082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963880" y="31021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355760" y="2959200"/>
            <a:ext cx="11592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3122640" y="2954160"/>
            <a:ext cx="10008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79320" y="22003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9320" y="24685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832200" y="22003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833640" y="24447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031840" y="22035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925880" y="1106640"/>
            <a:ext cx="1008360" cy="32256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038560" y="2247840"/>
            <a:ext cx="86544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7341480" y="224784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932440" y="1743120"/>
            <a:ext cx="1366920" cy="50472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932440" y="22478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918040" y="219060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234200" y="22003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830920" y="224784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rot="16042800">
            <a:off x="7346160" y="225000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762520" y="2962440"/>
            <a:ext cx="14472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7337160" y="2962440"/>
            <a:ext cx="14436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5029200" y="2298600"/>
            <a:ext cx="71280" cy="17964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178840" y="2300400"/>
            <a:ext cx="71280" cy="17928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943520" y="2525760"/>
            <a:ext cx="216000" cy="7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943520" y="2535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101080" y="2525760"/>
            <a:ext cx="216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101080" y="2535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624640" y="3160800"/>
            <a:ext cx="43164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624640" y="316080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184880" y="3160800"/>
            <a:ext cx="432000" cy="7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84880" y="316080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861160" y="311796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296120" y="31114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688000" y="2968560"/>
            <a:ext cx="11592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7454880" y="2963880"/>
            <a:ext cx="10008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11560" y="22096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011560" y="24782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8164440" y="22096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164440" y="24829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364440" y="22129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rot="19380000">
            <a:off x="5682960" y="1947960"/>
            <a:ext cx="71280" cy="179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691240" y="194796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rot="19380000">
            <a:off x="7103880" y="2813040"/>
            <a:ext cx="71280" cy="179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112160" y="281304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rot="19380000">
            <a:off x="6113520" y="1438200"/>
            <a:ext cx="71280" cy="179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21440" y="1442880"/>
            <a:ext cx="216000" cy="287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rot="2220000">
            <a:off x="7121520" y="1433520"/>
            <a:ext cx="71280" cy="179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6964560" y="1430280"/>
            <a:ext cx="212040" cy="3031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rot="2220000">
            <a:off x="7500960" y="1936800"/>
            <a:ext cx="71280" cy="179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7343640" y="1938600"/>
            <a:ext cx="212400" cy="3027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2220000">
            <a:off x="6070680" y="2800440"/>
            <a:ext cx="71280" cy="179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5913360" y="2797200"/>
            <a:ext cx="212760" cy="3031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721400" y="2122560"/>
            <a:ext cx="71280" cy="25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794120" y="211788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794120" y="224784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749840" y="21970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rot="5400000">
            <a:off x="5022360" y="1838160"/>
            <a:ext cx="71280" cy="25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4927320" y="199224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059440" y="199080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5400000">
            <a:off x="5013000" y="19494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489880" y="2122560"/>
            <a:ext cx="71640" cy="252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8488440" y="212256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8258040" y="225252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8445600" y="220176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rot="5400000">
            <a:off x="8172000" y="1838160"/>
            <a:ext cx="71280" cy="252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8076960" y="199224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209080" y="198612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rot="5400000">
            <a:off x="8162640" y="19494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954760" y="1614600"/>
            <a:ext cx="71280" cy="252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027840" y="1609560"/>
            <a:ext cx="0" cy="2527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027840" y="1739880"/>
            <a:ext cx="21564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983200" y="16891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227640" y="169380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877000" y="1900080"/>
            <a:ext cx="39600" cy="35424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300720" y="1380960"/>
            <a:ext cx="39600" cy="35424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289640" y="2744640"/>
            <a:ext cx="39960" cy="35424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958080" y="1400040"/>
            <a:ext cx="23760" cy="3304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7337520" y="1905120"/>
            <a:ext cx="23760" cy="33012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921280" y="2755800"/>
            <a:ext cx="23760" cy="3304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29400" y="193824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142040" y="277344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51680" y="140508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940360" y="2781360"/>
            <a:ext cx="146160" cy="61920"/>
          </a:xfrm>
          <a:custGeom>
            <a:avLst/>
            <a:gdLst/>
            <a:ahLst/>
            <a:rect l="l" t="t" r="r" b="b"/>
            <a:pathLst>
              <a:path w="92" h="39">
                <a:moveTo>
                  <a:pt x="92" y="39"/>
                </a:moveTo>
                <a:cubicBezTo>
                  <a:pt x="86" y="36"/>
                  <a:pt x="69" y="21"/>
                  <a:pt x="54" y="15"/>
                </a:cubicBezTo>
                <a:cubicBezTo>
                  <a:pt x="39" y="9"/>
                  <a:pt x="11" y="3"/>
                  <a:pt x="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985080" y="1419120"/>
            <a:ext cx="145800" cy="61920"/>
          </a:xfrm>
          <a:custGeom>
            <a:avLst/>
            <a:gdLst/>
            <a:ahLst/>
            <a:rect l="l" t="t" r="r" b="b"/>
            <a:pathLst>
              <a:path w="92" h="39">
                <a:moveTo>
                  <a:pt x="92" y="39"/>
                </a:moveTo>
                <a:cubicBezTo>
                  <a:pt x="86" y="36"/>
                  <a:pt x="69" y="21"/>
                  <a:pt x="54" y="15"/>
                </a:cubicBezTo>
                <a:cubicBezTo>
                  <a:pt x="39" y="9"/>
                  <a:pt x="11" y="3"/>
                  <a:pt x="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364520" y="1928880"/>
            <a:ext cx="145800" cy="61920"/>
          </a:xfrm>
          <a:custGeom>
            <a:avLst/>
            <a:gdLst/>
            <a:ahLst/>
            <a:rect l="l" t="t" r="r" b="b"/>
            <a:pathLst>
              <a:path w="92" h="39">
                <a:moveTo>
                  <a:pt x="92" y="39"/>
                </a:moveTo>
                <a:cubicBezTo>
                  <a:pt x="86" y="36"/>
                  <a:pt x="69" y="21"/>
                  <a:pt x="54" y="15"/>
                </a:cubicBezTo>
                <a:cubicBezTo>
                  <a:pt x="39" y="9"/>
                  <a:pt x="11" y="3"/>
                  <a:pt x="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273640" y="2154240"/>
            <a:ext cx="0" cy="64764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956720" y="2154240"/>
            <a:ext cx="0" cy="64764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516720" y="1670040"/>
            <a:ext cx="0" cy="28728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052960" y="2568600"/>
            <a:ext cx="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8210520" y="2577960"/>
            <a:ext cx="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334200" y="1741320"/>
            <a:ext cx="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052960" y="2716200"/>
            <a:ext cx="21600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334200" y="1924200"/>
            <a:ext cx="18252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7956720" y="2716200"/>
            <a:ext cx="24912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491000" y="2092320"/>
            <a:ext cx="649440" cy="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18360" y="2097000"/>
            <a:ext cx="649440" cy="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4485960" y="2249640"/>
            <a:ext cx="19836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8550000" y="2251080"/>
            <a:ext cx="19836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4529160" y="2095200"/>
            <a:ext cx="0" cy="144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8699400" y="2106360"/>
            <a:ext cx="0" cy="144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245280" y="1197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629400" y="12034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508720" y="15858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308720" y="15890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896080" y="24400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912000" y="242100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140360" y="1917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965840" y="26589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222960" y="186228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902720" y="2654280"/>
            <a:ext cx="50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8491680" y="1733400"/>
            <a:ext cx="50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130560" y="1461960"/>
            <a:ext cx="865080" cy="34308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415880" y="10746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данная 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6" dur="indefinite" restart="never" nodeType="tmRoot">
          <p:childTnLst>
            <p:seq>
              <p:cTn id="2907" dur="indefinite" nodeType="mainSeq">
                <p:childTnLst>
                  <p:par>
                    <p:cTn id="2908" fill="hold">
                      <p:stCondLst>
                        <p:cond delay="0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2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3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4" dur="8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2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7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3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9" fill="hold">
                      <p:stCondLst>
                        <p:cond delay="indefinite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4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7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3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9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6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6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2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5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1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1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4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2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0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258920" y="716040"/>
            <a:ext cx="6553080" cy="31320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06320" y="2238480"/>
            <a:ext cx="86544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3009240" y="223848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600200" y="1733400"/>
            <a:ext cx="1366920" cy="50508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533600" y="2243160"/>
            <a:ext cx="151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433520" y="218592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041640" y="219060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347840" y="2252520"/>
            <a:ext cx="76320" cy="66960"/>
          </a:xfrm>
          <a:custGeom>
            <a:avLst/>
            <a:gdLst/>
            <a:ahLst/>
            <a:rect l="l" t="t" r="r" b="b"/>
            <a:pathLst>
              <a:path w="48" h="42">
                <a:moveTo>
                  <a:pt x="0" y="9"/>
                </a:moveTo>
                <a:lnTo>
                  <a:pt x="42" y="0"/>
                </a:lnTo>
                <a:lnTo>
                  <a:pt x="48" y="42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129120" y="22334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48"/>
                </a:moveTo>
                <a:lnTo>
                  <a:pt x="6" y="0"/>
                </a:lnTo>
                <a:lnTo>
                  <a:pt x="48" y="9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420920" y="2989440"/>
            <a:ext cx="14436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3014280" y="2981160"/>
            <a:ext cx="14436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54040" y="2440080"/>
            <a:ext cx="71280" cy="21564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73040" y="2709720"/>
            <a:ext cx="21600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73040" y="2719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292400" y="3151080"/>
            <a:ext cx="43164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292400" y="31510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852640" y="3151080"/>
            <a:ext cx="432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852640" y="3151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31082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963880" y="31021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341360" y="3002040"/>
            <a:ext cx="115920" cy="1443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3132000" y="2997360"/>
            <a:ext cx="100080" cy="1443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36400" y="23446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36400" y="266220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031840" y="22035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925880" y="1106640"/>
            <a:ext cx="1008360" cy="32256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038560" y="2247840"/>
            <a:ext cx="86544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7341480" y="224784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932440" y="1743120"/>
            <a:ext cx="1366920" cy="50472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932440" y="22478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918040" y="219060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7234200" y="22003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830920" y="224784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rot="16042800">
            <a:off x="7346160" y="225000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762520" y="2962440"/>
            <a:ext cx="14472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7337160" y="2962440"/>
            <a:ext cx="14436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029200" y="2298600"/>
            <a:ext cx="71280" cy="17964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178840" y="2300400"/>
            <a:ext cx="71280" cy="17928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943520" y="2525760"/>
            <a:ext cx="216000" cy="7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943520" y="2535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8101080" y="2525760"/>
            <a:ext cx="216000" cy="7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8101080" y="2535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624640" y="3160800"/>
            <a:ext cx="43164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624640" y="316080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184880" y="3160800"/>
            <a:ext cx="43200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4880" y="316080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861160" y="311796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296120" y="31114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688000" y="2968560"/>
            <a:ext cx="11592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7454880" y="2963880"/>
            <a:ext cx="10008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11560" y="22096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011560" y="24782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164440" y="22096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164440" y="24829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364440" y="22129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rot="19380000">
            <a:off x="5682960" y="1947960"/>
            <a:ext cx="71280" cy="17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691240" y="194796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rot="19380000">
            <a:off x="7103880" y="2813040"/>
            <a:ext cx="71280" cy="179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112160" y="281304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19380000">
            <a:off x="6113520" y="1438200"/>
            <a:ext cx="71280" cy="179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121440" y="1442880"/>
            <a:ext cx="216000" cy="287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rot="2220000">
            <a:off x="7121520" y="1433520"/>
            <a:ext cx="71280" cy="179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6964560" y="1430280"/>
            <a:ext cx="212040" cy="3031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rot="2220000">
            <a:off x="7500960" y="1936800"/>
            <a:ext cx="71280" cy="179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7343640" y="1938600"/>
            <a:ext cx="212400" cy="3027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rot="2220000">
            <a:off x="6070680" y="2800440"/>
            <a:ext cx="71280" cy="179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5913360" y="2797200"/>
            <a:ext cx="212760" cy="3031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721400" y="2122560"/>
            <a:ext cx="71280" cy="252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794120" y="211788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794120" y="224784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749840" y="21970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rot="5400000">
            <a:off x="5022360" y="1838160"/>
            <a:ext cx="71280" cy="25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4927320" y="199224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059440" y="199080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rot="5400000">
            <a:off x="5013000" y="19494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489880" y="2122560"/>
            <a:ext cx="71640" cy="25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488440" y="212256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258040" y="225252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445600" y="220176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rot="5400000">
            <a:off x="8172000" y="1838160"/>
            <a:ext cx="71280" cy="252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8076960" y="199224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8209080" y="198612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rot="5400000">
            <a:off x="8162640" y="19494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954760" y="1614600"/>
            <a:ext cx="71280" cy="252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027840" y="1609560"/>
            <a:ext cx="0" cy="2527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027840" y="1739880"/>
            <a:ext cx="21564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83200" y="16891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227640" y="169380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130560" y="1461960"/>
            <a:ext cx="865080" cy="34308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15880" y="10746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данная 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33240" y="2252520"/>
            <a:ext cx="938520" cy="847800"/>
          </a:xfrm>
          <a:custGeom>
            <a:avLst/>
            <a:gdLst/>
            <a:ahLst/>
            <a:rect l="l" t="t" r="r" b="b"/>
            <a:pathLst>
              <a:path w="591" h="534">
                <a:moveTo>
                  <a:pt x="0" y="87"/>
                </a:moveTo>
                <a:cubicBezTo>
                  <a:pt x="17" y="87"/>
                  <a:pt x="65" y="86"/>
                  <a:pt x="102" y="84"/>
                </a:cubicBezTo>
                <a:cubicBezTo>
                  <a:pt x="139" y="82"/>
                  <a:pt x="183" y="79"/>
                  <a:pt x="225" y="72"/>
                </a:cubicBezTo>
                <a:cubicBezTo>
                  <a:pt x="267" y="65"/>
                  <a:pt x="309" y="54"/>
                  <a:pt x="354" y="42"/>
                </a:cubicBezTo>
                <a:cubicBezTo>
                  <a:pt x="399" y="30"/>
                  <a:pt x="435" y="9"/>
                  <a:pt x="495" y="0"/>
                </a:cubicBezTo>
                <a:cubicBezTo>
                  <a:pt x="504" y="69"/>
                  <a:pt x="507" y="109"/>
                  <a:pt x="519" y="174"/>
                </a:cubicBezTo>
                <a:cubicBezTo>
                  <a:pt x="529" y="235"/>
                  <a:pt x="540" y="306"/>
                  <a:pt x="552" y="366"/>
                </a:cubicBezTo>
                <a:cubicBezTo>
                  <a:pt x="564" y="426"/>
                  <a:pt x="583" y="499"/>
                  <a:pt x="591" y="5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017880" y="2233440"/>
            <a:ext cx="979560" cy="847800"/>
          </a:xfrm>
          <a:custGeom>
            <a:avLst/>
            <a:gdLst/>
            <a:ahLst/>
            <a:rect l="l" t="t" r="r" b="b"/>
            <a:pathLst>
              <a:path w="617" h="534">
                <a:moveTo>
                  <a:pt x="617" y="45"/>
                </a:moveTo>
                <a:cubicBezTo>
                  <a:pt x="598" y="49"/>
                  <a:pt x="546" y="63"/>
                  <a:pt x="505" y="66"/>
                </a:cubicBezTo>
                <a:cubicBezTo>
                  <a:pt x="465" y="69"/>
                  <a:pt x="415" y="70"/>
                  <a:pt x="372" y="66"/>
                </a:cubicBezTo>
                <a:cubicBezTo>
                  <a:pt x="329" y="62"/>
                  <a:pt x="294" y="53"/>
                  <a:pt x="245" y="42"/>
                </a:cubicBezTo>
                <a:cubicBezTo>
                  <a:pt x="196" y="31"/>
                  <a:pt x="148" y="6"/>
                  <a:pt x="76" y="0"/>
                </a:cubicBezTo>
                <a:cubicBezTo>
                  <a:pt x="67" y="108"/>
                  <a:pt x="67" y="116"/>
                  <a:pt x="61" y="177"/>
                </a:cubicBezTo>
                <a:cubicBezTo>
                  <a:pt x="55" y="238"/>
                  <a:pt x="50" y="307"/>
                  <a:pt x="40" y="366"/>
                </a:cubicBezTo>
                <a:cubicBezTo>
                  <a:pt x="30" y="425"/>
                  <a:pt x="8" y="499"/>
                  <a:pt x="0" y="5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981600" y="2357280"/>
            <a:ext cx="71280" cy="10800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895560" y="2516040"/>
            <a:ext cx="216000" cy="716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895560" y="25257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963960" y="226224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63960" y="24685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514520" y="1757520"/>
            <a:ext cx="1528560" cy="447480"/>
          </a:xfrm>
          <a:custGeom>
            <a:avLst/>
            <a:gdLst/>
            <a:ahLst/>
            <a:rect l="l" t="t" r="r" b="b"/>
            <a:pathLst>
              <a:path w="963" h="282">
                <a:moveTo>
                  <a:pt x="0" y="282"/>
                </a:moveTo>
                <a:cubicBezTo>
                  <a:pt x="10" y="275"/>
                  <a:pt x="38" y="261"/>
                  <a:pt x="63" y="240"/>
                </a:cubicBezTo>
                <a:cubicBezTo>
                  <a:pt x="88" y="219"/>
                  <a:pt x="126" y="179"/>
                  <a:pt x="150" y="153"/>
                </a:cubicBezTo>
                <a:cubicBezTo>
                  <a:pt x="174" y="127"/>
                  <a:pt x="188" y="105"/>
                  <a:pt x="207" y="84"/>
                </a:cubicBezTo>
                <a:cubicBezTo>
                  <a:pt x="226" y="63"/>
                  <a:pt x="228" y="63"/>
                  <a:pt x="264" y="27"/>
                </a:cubicBezTo>
                <a:cubicBezTo>
                  <a:pt x="321" y="45"/>
                  <a:pt x="340" y="53"/>
                  <a:pt x="375" y="60"/>
                </a:cubicBezTo>
                <a:cubicBezTo>
                  <a:pt x="410" y="67"/>
                  <a:pt x="442" y="70"/>
                  <a:pt x="474" y="69"/>
                </a:cubicBezTo>
                <a:cubicBezTo>
                  <a:pt x="506" y="68"/>
                  <a:pt x="539" y="61"/>
                  <a:pt x="565" y="55"/>
                </a:cubicBezTo>
                <a:cubicBezTo>
                  <a:pt x="591" y="49"/>
                  <a:pt x="613" y="39"/>
                  <a:pt x="633" y="30"/>
                </a:cubicBezTo>
                <a:cubicBezTo>
                  <a:pt x="653" y="21"/>
                  <a:pt x="648" y="21"/>
                  <a:pt x="687" y="0"/>
                </a:cubicBezTo>
                <a:cubicBezTo>
                  <a:pt x="729" y="24"/>
                  <a:pt x="736" y="28"/>
                  <a:pt x="765" y="60"/>
                </a:cubicBezTo>
                <a:cubicBezTo>
                  <a:pt x="794" y="92"/>
                  <a:pt x="825" y="155"/>
                  <a:pt x="858" y="192"/>
                </a:cubicBezTo>
                <a:cubicBezTo>
                  <a:pt x="891" y="229"/>
                  <a:pt x="941" y="263"/>
                  <a:pt x="963" y="2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46200" y="25272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348000" y="209376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492360" y="212868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5280" y="214776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780000" y="215100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268360" y="15699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927080" y="1911240"/>
            <a:ext cx="720720" cy="28908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075040" y="1868400"/>
            <a:ext cx="3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41520" y="2717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808200" y="25336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55640" y="2430360"/>
            <a:ext cx="37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576440" y="1652760"/>
            <a:ext cx="36036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552680" y="180180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582560" y="1666800"/>
            <a:ext cx="27000" cy="133560"/>
          </a:xfrm>
          <a:custGeom>
            <a:avLst/>
            <a:gdLst/>
            <a:ahLst/>
            <a:rect l="l" t="t" r="r" b="b"/>
            <a:pathLst>
              <a:path w="17" h="84">
                <a:moveTo>
                  <a:pt x="2" y="84"/>
                </a:moveTo>
                <a:cubicBezTo>
                  <a:pt x="2" y="77"/>
                  <a:pt x="0" y="60"/>
                  <a:pt x="2" y="46"/>
                </a:cubicBezTo>
                <a:cubicBezTo>
                  <a:pt x="4" y="32"/>
                  <a:pt x="14" y="10"/>
                  <a:pt x="1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598840" y="1754280"/>
            <a:ext cx="25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2598840" y="1604520"/>
            <a:ext cx="196920" cy="149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776680" y="1619280"/>
            <a:ext cx="44280" cy="128520"/>
          </a:xfrm>
          <a:custGeom>
            <a:avLst/>
            <a:gdLst/>
            <a:ahLst/>
            <a:rect l="l" t="t" r="r" b="b"/>
            <a:pathLst>
              <a:path w="28" h="81">
                <a:moveTo>
                  <a:pt x="27" y="81"/>
                </a:moveTo>
                <a:cubicBezTo>
                  <a:pt x="26" y="76"/>
                  <a:pt x="28" y="61"/>
                  <a:pt x="24" y="48"/>
                </a:cubicBezTo>
                <a:cubicBezTo>
                  <a:pt x="20" y="35"/>
                  <a:pt x="5" y="1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1403280" y="225216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156120" y="22716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463760" y="2502000"/>
            <a:ext cx="82440" cy="12600"/>
          </a:xfrm>
          <a:custGeom>
            <a:avLst/>
            <a:gdLst/>
            <a:ahLst/>
            <a:rect l="l" t="t" r="r" b="b"/>
            <a:pathLst>
              <a:path w="52" h="8">
                <a:moveTo>
                  <a:pt x="52" y="0"/>
                </a:moveTo>
                <a:cubicBezTo>
                  <a:pt x="49" y="1"/>
                  <a:pt x="45" y="1"/>
                  <a:pt x="36" y="2"/>
                </a:cubicBezTo>
                <a:cubicBezTo>
                  <a:pt x="27" y="3"/>
                  <a:pt x="7" y="7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33120" bIns="-33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319040" y="2508120"/>
            <a:ext cx="86040" cy="3240"/>
          </a:xfrm>
          <a:custGeom>
            <a:avLst/>
            <a:gdLst/>
            <a:ahLst/>
            <a:rect l="l" t="t" r="r" b="b"/>
            <a:pathLst>
              <a:path w="54" h="2">
                <a:moveTo>
                  <a:pt x="0" y="0"/>
                </a:moveTo>
                <a:cubicBezTo>
                  <a:pt x="4" y="0"/>
                  <a:pt x="17" y="2"/>
                  <a:pt x="26" y="2"/>
                </a:cubicBezTo>
                <a:cubicBezTo>
                  <a:pt x="35" y="2"/>
                  <a:pt x="48" y="2"/>
                  <a:pt x="54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42480" bIns="-42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022560" y="2451240"/>
            <a:ext cx="85680" cy="7920"/>
          </a:xfrm>
          <a:custGeom>
            <a:avLst/>
            <a:gdLst/>
            <a:ahLst/>
            <a:rect l="l" t="t" r="r" b="b"/>
            <a:pathLst>
              <a:path w="54" h="5">
                <a:moveTo>
                  <a:pt x="0" y="0"/>
                </a:moveTo>
                <a:cubicBezTo>
                  <a:pt x="4" y="1"/>
                  <a:pt x="15" y="3"/>
                  <a:pt x="24" y="4"/>
                </a:cubicBezTo>
                <a:cubicBezTo>
                  <a:pt x="33" y="5"/>
                  <a:pt x="48" y="5"/>
                  <a:pt x="54" y="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37800" bIns="-37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156120" y="2457360"/>
            <a:ext cx="91800" cy="7920"/>
          </a:xfrm>
          <a:custGeom>
            <a:avLst/>
            <a:gdLst/>
            <a:ahLst/>
            <a:rect l="l" t="t" r="r" b="b"/>
            <a:pathLst>
              <a:path w="58" h="5">
                <a:moveTo>
                  <a:pt x="58" y="0"/>
                </a:moveTo>
                <a:cubicBezTo>
                  <a:pt x="55" y="1"/>
                  <a:pt x="48" y="1"/>
                  <a:pt x="38" y="2"/>
                </a:cubicBezTo>
                <a:cubicBezTo>
                  <a:pt x="28" y="3"/>
                  <a:pt x="8" y="4"/>
                  <a:pt x="0" y="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37800" bIns="-37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571760" y="2911320"/>
            <a:ext cx="82440" cy="3240"/>
          </a:xfrm>
          <a:custGeom>
            <a:avLst/>
            <a:gdLst/>
            <a:ahLst/>
            <a:rect l="l" t="t" r="r" b="b"/>
            <a:pathLst>
              <a:path w="52" h="2">
                <a:moveTo>
                  <a:pt x="52" y="2"/>
                </a:moveTo>
                <a:cubicBezTo>
                  <a:pt x="49" y="2"/>
                  <a:pt x="43" y="0"/>
                  <a:pt x="34" y="0"/>
                </a:cubicBezTo>
                <a:cubicBezTo>
                  <a:pt x="25" y="0"/>
                  <a:pt x="7" y="2"/>
                  <a:pt x="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42480" bIns="-42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425600" y="2917800"/>
            <a:ext cx="85680" cy="19080"/>
          </a:xfrm>
          <a:custGeom>
            <a:avLst/>
            <a:gdLst/>
            <a:ahLst/>
            <a:rect l="l" t="t" r="r" b="b"/>
            <a:pathLst>
              <a:path w="54" h="12">
                <a:moveTo>
                  <a:pt x="0" y="12"/>
                </a:moveTo>
                <a:cubicBezTo>
                  <a:pt x="4" y="11"/>
                  <a:pt x="13" y="8"/>
                  <a:pt x="22" y="6"/>
                </a:cubicBezTo>
                <a:cubicBezTo>
                  <a:pt x="31" y="4"/>
                  <a:pt x="47" y="1"/>
                  <a:pt x="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065400" y="2930400"/>
            <a:ext cx="87480" cy="19080"/>
          </a:xfrm>
          <a:custGeom>
            <a:avLst/>
            <a:gdLst/>
            <a:ahLst/>
            <a:rect l="l" t="t" r="r" b="b"/>
            <a:pathLst>
              <a:path w="55" h="12">
                <a:moveTo>
                  <a:pt x="55" y="12"/>
                </a:moveTo>
                <a:cubicBezTo>
                  <a:pt x="52" y="11"/>
                  <a:pt x="44" y="8"/>
                  <a:pt x="35" y="6"/>
                </a:cubicBezTo>
                <a:cubicBezTo>
                  <a:pt x="26" y="4"/>
                  <a:pt x="7" y="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917800" y="2924280"/>
            <a:ext cx="93600" cy="12600"/>
          </a:xfrm>
          <a:custGeom>
            <a:avLst/>
            <a:gdLst/>
            <a:ahLst/>
            <a:rect l="l" t="t" r="r" b="b"/>
            <a:pathLst>
              <a:path w="59" h="8">
                <a:moveTo>
                  <a:pt x="0" y="8"/>
                </a:moveTo>
                <a:cubicBezTo>
                  <a:pt x="4" y="8"/>
                  <a:pt x="16" y="5"/>
                  <a:pt x="26" y="4"/>
                </a:cubicBezTo>
                <a:cubicBezTo>
                  <a:pt x="36" y="3"/>
                  <a:pt x="52" y="1"/>
                  <a:pt x="5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33120" bIns="-33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290600" y="150660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752560" y="150660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068480" y="236376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165480" y="230508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574640" y="276084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4920" y="277344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81040" y="20430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09560" y="20430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581040" y="207972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85920" y="23940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80880" y="2236680"/>
            <a:ext cx="358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23720" y="2230560"/>
            <a:ext cx="0" cy="16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46160" y="223848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31640" y="176364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928880" y="15876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009880" y="158904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1924200" y="1625760"/>
            <a:ext cx="8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819440" y="1332000"/>
            <a:ext cx="37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006800" y="208908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870360" y="209232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67120" y="213048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708360" y="1817640"/>
            <a:ext cx="45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838680" y="223848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057560" y="2311560"/>
            <a:ext cx="142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160880" y="223848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087800" y="2106720"/>
            <a:ext cx="45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36480" y="2166840"/>
            <a:ext cx="21600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332000" y="1967040"/>
            <a:ext cx="215640" cy="1792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040280" y="2016000"/>
            <a:ext cx="21564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041640" y="1979640"/>
            <a:ext cx="216000" cy="1792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906640" y="3220920"/>
            <a:ext cx="21600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469880" y="3216240"/>
            <a:ext cx="216000" cy="1792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838160" y="1841400"/>
            <a:ext cx="21600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05240" y="1798560"/>
            <a:ext cx="21564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816200" y="1808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17668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312920" y="1938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11280" y="21430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444680" y="31910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878200" y="3189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009960" y="19494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021200" y="1989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1" dur="indefinite" restart="never" nodeType="tmRoot">
          <p:childTnLst>
            <p:seq>
              <p:cTn id="3322" dur="indefinite" nodeType="mainSeq">
                <p:childTnLst>
                  <p:par>
                    <p:cTn id="3323" fill="hold">
                      <p:stCondLst>
                        <p:cond delay="0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3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0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3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9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2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5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9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1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8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1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6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7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6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1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4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0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9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2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0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3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1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4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3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258920" y="716040"/>
            <a:ext cx="6553080" cy="31320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925880" y="1106640"/>
            <a:ext cx="1008360" cy="32256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038560" y="2247840"/>
            <a:ext cx="86544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7341480" y="224784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932440" y="1743120"/>
            <a:ext cx="1366920" cy="50472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2440" y="22478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918040" y="219060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234200" y="22003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830920" y="224784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rot="16042800">
            <a:off x="7346160" y="225000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762520" y="2962440"/>
            <a:ext cx="14472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7337160" y="2962440"/>
            <a:ext cx="14436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035680" y="2298600"/>
            <a:ext cx="71280" cy="36036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8178840" y="2300400"/>
            <a:ext cx="71280" cy="17928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8101080" y="2525760"/>
            <a:ext cx="216000" cy="7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8101080" y="2535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624640" y="3156120"/>
            <a:ext cx="43164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624640" y="315612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184880" y="3151080"/>
            <a:ext cx="432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184880" y="3151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61160" y="311796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296120" y="31114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688000" y="2968560"/>
            <a:ext cx="11592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7454880" y="2963880"/>
            <a:ext cx="10008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11560" y="22096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8164440" y="22096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8164440" y="24829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364440" y="22129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rot="19380000">
            <a:off x="5682960" y="1947960"/>
            <a:ext cx="71280" cy="17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691240" y="194796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rot="19380000">
            <a:off x="7103880" y="2813040"/>
            <a:ext cx="71280" cy="17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112160" y="281304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rot="19380000">
            <a:off x="6113520" y="1438200"/>
            <a:ext cx="71280" cy="17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127920" y="144936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rot="2220000">
            <a:off x="7121520" y="1433520"/>
            <a:ext cx="71280" cy="17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6958080" y="1436760"/>
            <a:ext cx="212760" cy="3031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rot="2220000">
            <a:off x="7500960" y="1936800"/>
            <a:ext cx="71280" cy="17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7343640" y="1938600"/>
            <a:ext cx="212400" cy="3027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rot="2220000">
            <a:off x="6070680" y="2800440"/>
            <a:ext cx="71280" cy="179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H="1">
            <a:off x="5913360" y="2797200"/>
            <a:ext cx="212760" cy="3031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21400" y="2122560"/>
            <a:ext cx="71280" cy="252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794120" y="211788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794120" y="224784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749840" y="21970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rot="5400000">
            <a:off x="5022360" y="1838160"/>
            <a:ext cx="71280" cy="252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4927320" y="199224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059440" y="199080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5400000">
            <a:off x="5013000" y="19494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8489880" y="2122560"/>
            <a:ext cx="71640" cy="2523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8488440" y="212256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8258040" y="225252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445600" y="220176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rot="5400000">
            <a:off x="8172000" y="1838160"/>
            <a:ext cx="71280" cy="252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8076960" y="199224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209080" y="198612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rot="5400000">
            <a:off x="8162640" y="19494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54760" y="1614600"/>
            <a:ext cx="71280" cy="252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027840" y="1609560"/>
            <a:ext cx="0" cy="2527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027840" y="1739880"/>
            <a:ext cx="21564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983200" y="16891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227640" y="169380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580000" y="1874880"/>
            <a:ext cx="223920" cy="195120"/>
          </a:xfrm>
          <a:custGeom>
            <a:avLst/>
            <a:gdLst/>
            <a:ahLst/>
            <a:rect l="l" t="t" r="r" b="b"/>
            <a:pathLst>
              <a:path w="141" h="123">
                <a:moveTo>
                  <a:pt x="1" y="123"/>
                </a:moveTo>
                <a:cubicBezTo>
                  <a:pt x="2" y="114"/>
                  <a:pt x="0" y="86"/>
                  <a:pt x="9" y="67"/>
                </a:cubicBezTo>
                <a:cubicBezTo>
                  <a:pt x="18" y="48"/>
                  <a:pt x="35" y="22"/>
                  <a:pt x="57" y="11"/>
                </a:cubicBezTo>
                <a:cubicBezTo>
                  <a:pt x="79" y="0"/>
                  <a:pt x="124" y="5"/>
                  <a:pt x="141" y="3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5057640" y="164772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289400" y="1892160"/>
            <a:ext cx="530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7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415880" y="10746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данная 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340760" y="2249640"/>
            <a:ext cx="0" cy="86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981760" y="1739880"/>
            <a:ext cx="368280" cy="450720"/>
          </a:xfrm>
          <a:custGeom>
            <a:avLst/>
            <a:gdLst/>
            <a:ahLst/>
            <a:rect l="l" t="t" r="r" b="b"/>
            <a:pathLst>
              <a:path w="232" h="284">
                <a:moveTo>
                  <a:pt x="0" y="284"/>
                </a:moveTo>
                <a:lnTo>
                  <a:pt x="2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946920" y="1746360"/>
            <a:ext cx="311040" cy="450720"/>
          </a:xfrm>
          <a:custGeom>
            <a:avLst/>
            <a:gdLst/>
            <a:ahLst/>
            <a:rect l="l" t="t" r="r" b="b"/>
            <a:pathLst>
              <a:path w="196" h="284">
                <a:moveTo>
                  <a:pt x="196" y="2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334280" y="2247840"/>
            <a:ext cx="825480" cy="76320"/>
          </a:xfrm>
          <a:custGeom>
            <a:avLst/>
            <a:gdLst/>
            <a:ahLst/>
            <a:rect l="l" t="t" r="r" b="b"/>
            <a:pathLst>
              <a:path w="520" h="48">
                <a:moveTo>
                  <a:pt x="0" y="0"/>
                </a:moveTo>
                <a:cubicBezTo>
                  <a:pt x="13" y="2"/>
                  <a:pt x="50" y="5"/>
                  <a:pt x="76" y="8"/>
                </a:cubicBezTo>
                <a:cubicBezTo>
                  <a:pt x="102" y="11"/>
                  <a:pt x="121" y="14"/>
                  <a:pt x="156" y="20"/>
                </a:cubicBezTo>
                <a:cubicBezTo>
                  <a:pt x="191" y="26"/>
                  <a:pt x="246" y="40"/>
                  <a:pt x="284" y="44"/>
                </a:cubicBezTo>
                <a:cubicBezTo>
                  <a:pt x="322" y="48"/>
                  <a:pt x="355" y="47"/>
                  <a:pt x="384" y="44"/>
                </a:cubicBezTo>
                <a:cubicBezTo>
                  <a:pt x="413" y="41"/>
                  <a:pt x="437" y="35"/>
                  <a:pt x="460" y="28"/>
                </a:cubicBezTo>
                <a:cubicBezTo>
                  <a:pt x="483" y="21"/>
                  <a:pt x="508" y="9"/>
                  <a:pt x="520" y="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343560" y="1741320"/>
            <a:ext cx="603360" cy="57240"/>
          </a:xfrm>
          <a:custGeom>
            <a:avLst/>
            <a:gdLst/>
            <a:ahLst/>
            <a:rect l="l" t="t" r="r" b="b"/>
            <a:pathLst>
              <a:path w="380" h="36">
                <a:moveTo>
                  <a:pt x="0" y="3"/>
                </a:moveTo>
                <a:cubicBezTo>
                  <a:pt x="7" y="3"/>
                  <a:pt x="23" y="0"/>
                  <a:pt x="40" y="3"/>
                </a:cubicBezTo>
                <a:cubicBezTo>
                  <a:pt x="57" y="6"/>
                  <a:pt x="79" y="14"/>
                  <a:pt x="104" y="19"/>
                </a:cubicBezTo>
                <a:cubicBezTo>
                  <a:pt x="129" y="24"/>
                  <a:pt x="161" y="34"/>
                  <a:pt x="188" y="35"/>
                </a:cubicBezTo>
                <a:cubicBezTo>
                  <a:pt x="215" y="36"/>
                  <a:pt x="243" y="32"/>
                  <a:pt x="268" y="27"/>
                </a:cubicBezTo>
                <a:cubicBezTo>
                  <a:pt x="293" y="22"/>
                  <a:pt x="317" y="11"/>
                  <a:pt x="336" y="7"/>
                </a:cubicBezTo>
                <a:cubicBezTo>
                  <a:pt x="355" y="3"/>
                  <a:pt x="371" y="4"/>
                  <a:pt x="380" y="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653160" y="1503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7556400" y="208584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701120" y="212076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843680" y="21337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988400" y="212400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299280" y="1913040"/>
            <a:ext cx="720720" cy="28872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446880" y="187020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951440" y="2709720"/>
            <a:ext cx="216000" cy="716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951440" y="2719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014800" y="266220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187960" y="2530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183280" y="27208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349960" y="25369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7400" y="2433600"/>
            <a:ext cx="37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502160" y="2243160"/>
            <a:ext cx="25236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861080" y="1376280"/>
            <a:ext cx="5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8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396040" y="1403280"/>
            <a:ext cx="536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9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692680" y="1741320"/>
            <a:ext cx="28728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rot="387000">
            <a:off x="6992640" y="2741760"/>
            <a:ext cx="223920" cy="195120"/>
          </a:xfrm>
          <a:custGeom>
            <a:avLst/>
            <a:gdLst/>
            <a:ahLst/>
            <a:rect l="l" t="t" r="r" b="b"/>
            <a:pathLst>
              <a:path w="141" h="123">
                <a:moveTo>
                  <a:pt x="1" y="123"/>
                </a:moveTo>
                <a:cubicBezTo>
                  <a:pt x="2" y="114"/>
                  <a:pt x="0" y="86"/>
                  <a:pt x="9" y="67"/>
                </a:cubicBezTo>
                <a:cubicBezTo>
                  <a:pt x="18" y="48"/>
                  <a:pt x="35" y="22"/>
                  <a:pt x="57" y="11"/>
                </a:cubicBezTo>
                <a:cubicBezTo>
                  <a:pt x="79" y="0"/>
                  <a:pt x="124" y="5"/>
                  <a:pt x="141" y="3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rot="388800">
            <a:off x="6004080" y="1373040"/>
            <a:ext cx="223560" cy="195480"/>
          </a:xfrm>
          <a:custGeom>
            <a:avLst/>
            <a:gdLst/>
            <a:ahLst/>
            <a:rect l="l" t="t" r="r" b="b"/>
            <a:pathLst>
              <a:path w="141" h="123">
                <a:moveTo>
                  <a:pt x="1" y="123"/>
                </a:moveTo>
                <a:cubicBezTo>
                  <a:pt x="2" y="114"/>
                  <a:pt x="0" y="86"/>
                  <a:pt x="9" y="67"/>
                </a:cubicBezTo>
                <a:cubicBezTo>
                  <a:pt x="18" y="48"/>
                  <a:pt x="35" y="22"/>
                  <a:pt x="57" y="11"/>
                </a:cubicBezTo>
                <a:cubicBezTo>
                  <a:pt x="79" y="0"/>
                  <a:pt x="124" y="5"/>
                  <a:pt x="141" y="3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064280" y="1374840"/>
            <a:ext cx="228600" cy="181080"/>
          </a:xfrm>
          <a:custGeom>
            <a:avLst/>
            <a:gdLst/>
            <a:ahLst/>
            <a:rect l="l" t="t" r="r" b="b"/>
            <a:pathLst>
              <a:path w="144" h="114">
                <a:moveTo>
                  <a:pt x="142" y="114"/>
                </a:moveTo>
                <a:cubicBezTo>
                  <a:pt x="141" y="105"/>
                  <a:pt x="144" y="72"/>
                  <a:pt x="134" y="54"/>
                </a:cubicBezTo>
                <a:cubicBezTo>
                  <a:pt x="124" y="36"/>
                  <a:pt x="103" y="14"/>
                  <a:pt x="81" y="7"/>
                </a:cubicBezTo>
                <a:cubicBezTo>
                  <a:pt x="59" y="0"/>
                  <a:pt x="16" y="10"/>
                  <a:pt x="0" y="10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439040" y="1873080"/>
            <a:ext cx="228600" cy="181080"/>
          </a:xfrm>
          <a:custGeom>
            <a:avLst/>
            <a:gdLst/>
            <a:ahLst/>
            <a:rect l="l" t="t" r="r" b="b"/>
            <a:pathLst>
              <a:path w="144" h="114">
                <a:moveTo>
                  <a:pt x="142" y="114"/>
                </a:moveTo>
                <a:cubicBezTo>
                  <a:pt x="141" y="105"/>
                  <a:pt x="144" y="72"/>
                  <a:pt x="134" y="54"/>
                </a:cubicBezTo>
                <a:cubicBezTo>
                  <a:pt x="124" y="36"/>
                  <a:pt x="103" y="14"/>
                  <a:pt x="81" y="7"/>
                </a:cubicBezTo>
                <a:cubicBezTo>
                  <a:pt x="59" y="0"/>
                  <a:pt x="16" y="10"/>
                  <a:pt x="0" y="10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018120" y="2724120"/>
            <a:ext cx="228600" cy="181080"/>
          </a:xfrm>
          <a:custGeom>
            <a:avLst/>
            <a:gdLst/>
            <a:ahLst/>
            <a:rect l="l" t="t" r="r" b="b"/>
            <a:pathLst>
              <a:path w="144" h="114">
                <a:moveTo>
                  <a:pt x="142" y="114"/>
                </a:moveTo>
                <a:cubicBezTo>
                  <a:pt x="141" y="105"/>
                  <a:pt x="144" y="72"/>
                  <a:pt x="134" y="54"/>
                </a:cubicBezTo>
                <a:cubicBezTo>
                  <a:pt x="124" y="36"/>
                  <a:pt x="103" y="14"/>
                  <a:pt x="81" y="7"/>
                </a:cubicBezTo>
                <a:cubicBezTo>
                  <a:pt x="59" y="0"/>
                  <a:pt x="16" y="10"/>
                  <a:pt x="0" y="10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148440" y="1208160"/>
            <a:ext cx="4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6659640" y="1222200"/>
            <a:ext cx="536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178600" y="1654200"/>
            <a:ext cx="49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3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7581960" y="1662120"/>
            <a:ext cx="48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037200" y="2444760"/>
            <a:ext cx="50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5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635880" y="2446200"/>
            <a:ext cx="529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6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V="1">
            <a:off x="8205840" y="1655280"/>
            <a:ext cx="0" cy="28764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8008920" y="1386000"/>
            <a:ext cx="59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11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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8542080" y="2251080"/>
            <a:ext cx="25236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8337600" y="1839960"/>
            <a:ext cx="630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10,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706320" y="2238480"/>
            <a:ext cx="86544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3009240" y="223848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600200" y="1733400"/>
            <a:ext cx="1366920" cy="50508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533600" y="2243160"/>
            <a:ext cx="151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433520" y="218592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041640" y="219060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347840" y="2252520"/>
            <a:ext cx="76320" cy="66960"/>
          </a:xfrm>
          <a:custGeom>
            <a:avLst/>
            <a:gdLst/>
            <a:ahLst/>
            <a:rect l="l" t="t" r="r" b="b"/>
            <a:pathLst>
              <a:path w="48" h="42">
                <a:moveTo>
                  <a:pt x="0" y="9"/>
                </a:moveTo>
                <a:lnTo>
                  <a:pt x="42" y="0"/>
                </a:lnTo>
                <a:lnTo>
                  <a:pt x="48" y="42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129120" y="22334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48"/>
                </a:moveTo>
                <a:lnTo>
                  <a:pt x="6" y="0"/>
                </a:lnTo>
                <a:lnTo>
                  <a:pt x="48" y="9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1420920" y="2989440"/>
            <a:ext cx="14436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>
            <a:off x="3014280" y="2981160"/>
            <a:ext cx="14436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54040" y="2440080"/>
            <a:ext cx="71280" cy="21564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73040" y="2709720"/>
            <a:ext cx="216000" cy="716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73040" y="2719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1292400" y="3151080"/>
            <a:ext cx="431640" cy="7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292400" y="31510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852640" y="3151080"/>
            <a:ext cx="432000" cy="716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852640" y="3151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528920" y="31082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963880" y="31021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341360" y="3002040"/>
            <a:ext cx="115920" cy="1443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3132000" y="2997360"/>
            <a:ext cx="100080" cy="1443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36400" y="23446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36400" y="266220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031840" y="22035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130560" y="1461960"/>
            <a:ext cx="865080" cy="34308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33240" y="2252520"/>
            <a:ext cx="938520" cy="847800"/>
          </a:xfrm>
          <a:custGeom>
            <a:avLst/>
            <a:gdLst/>
            <a:ahLst/>
            <a:rect l="l" t="t" r="r" b="b"/>
            <a:pathLst>
              <a:path w="591" h="534">
                <a:moveTo>
                  <a:pt x="0" y="87"/>
                </a:moveTo>
                <a:cubicBezTo>
                  <a:pt x="17" y="87"/>
                  <a:pt x="65" y="86"/>
                  <a:pt x="102" y="84"/>
                </a:cubicBezTo>
                <a:cubicBezTo>
                  <a:pt x="139" y="82"/>
                  <a:pt x="183" y="79"/>
                  <a:pt x="225" y="72"/>
                </a:cubicBezTo>
                <a:cubicBezTo>
                  <a:pt x="267" y="65"/>
                  <a:pt x="309" y="54"/>
                  <a:pt x="354" y="42"/>
                </a:cubicBezTo>
                <a:cubicBezTo>
                  <a:pt x="399" y="30"/>
                  <a:pt x="435" y="9"/>
                  <a:pt x="495" y="0"/>
                </a:cubicBezTo>
                <a:cubicBezTo>
                  <a:pt x="504" y="69"/>
                  <a:pt x="507" y="109"/>
                  <a:pt x="519" y="174"/>
                </a:cubicBezTo>
                <a:cubicBezTo>
                  <a:pt x="529" y="235"/>
                  <a:pt x="540" y="306"/>
                  <a:pt x="552" y="366"/>
                </a:cubicBezTo>
                <a:cubicBezTo>
                  <a:pt x="564" y="426"/>
                  <a:pt x="583" y="499"/>
                  <a:pt x="591" y="5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017880" y="2233440"/>
            <a:ext cx="979560" cy="847800"/>
          </a:xfrm>
          <a:custGeom>
            <a:avLst/>
            <a:gdLst/>
            <a:ahLst/>
            <a:rect l="l" t="t" r="r" b="b"/>
            <a:pathLst>
              <a:path w="617" h="534">
                <a:moveTo>
                  <a:pt x="617" y="45"/>
                </a:moveTo>
                <a:cubicBezTo>
                  <a:pt x="598" y="49"/>
                  <a:pt x="546" y="63"/>
                  <a:pt x="505" y="66"/>
                </a:cubicBezTo>
                <a:cubicBezTo>
                  <a:pt x="465" y="69"/>
                  <a:pt x="415" y="70"/>
                  <a:pt x="372" y="66"/>
                </a:cubicBezTo>
                <a:cubicBezTo>
                  <a:pt x="329" y="62"/>
                  <a:pt x="294" y="53"/>
                  <a:pt x="245" y="42"/>
                </a:cubicBezTo>
                <a:cubicBezTo>
                  <a:pt x="196" y="31"/>
                  <a:pt x="148" y="6"/>
                  <a:pt x="76" y="0"/>
                </a:cubicBezTo>
                <a:cubicBezTo>
                  <a:pt x="67" y="108"/>
                  <a:pt x="67" y="116"/>
                  <a:pt x="61" y="177"/>
                </a:cubicBezTo>
                <a:cubicBezTo>
                  <a:pt x="55" y="238"/>
                  <a:pt x="50" y="307"/>
                  <a:pt x="40" y="366"/>
                </a:cubicBezTo>
                <a:cubicBezTo>
                  <a:pt x="30" y="425"/>
                  <a:pt x="8" y="499"/>
                  <a:pt x="0" y="5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981600" y="2357280"/>
            <a:ext cx="71280" cy="10800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895560" y="2516040"/>
            <a:ext cx="216000" cy="7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895560" y="25257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63960" y="226224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963960" y="24685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514520" y="1757520"/>
            <a:ext cx="1528560" cy="447480"/>
          </a:xfrm>
          <a:custGeom>
            <a:avLst/>
            <a:gdLst/>
            <a:ahLst/>
            <a:rect l="l" t="t" r="r" b="b"/>
            <a:pathLst>
              <a:path w="963" h="282">
                <a:moveTo>
                  <a:pt x="0" y="282"/>
                </a:moveTo>
                <a:cubicBezTo>
                  <a:pt x="10" y="275"/>
                  <a:pt x="38" y="261"/>
                  <a:pt x="63" y="240"/>
                </a:cubicBezTo>
                <a:cubicBezTo>
                  <a:pt x="88" y="219"/>
                  <a:pt x="126" y="179"/>
                  <a:pt x="150" y="153"/>
                </a:cubicBezTo>
                <a:cubicBezTo>
                  <a:pt x="174" y="127"/>
                  <a:pt x="188" y="105"/>
                  <a:pt x="207" y="84"/>
                </a:cubicBezTo>
                <a:cubicBezTo>
                  <a:pt x="226" y="63"/>
                  <a:pt x="228" y="63"/>
                  <a:pt x="264" y="27"/>
                </a:cubicBezTo>
                <a:cubicBezTo>
                  <a:pt x="321" y="45"/>
                  <a:pt x="340" y="53"/>
                  <a:pt x="375" y="60"/>
                </a:cubicBezTo>
                <a:cubicBezTo>
                  <a:pt x="410" y="67"/>
                  <a:pt x="442" y="70"/>
                  <a:pt x="474" y="69"/>
                </a:cubicBezTo>
                <a:cubicBezTo>
                  <a:pt x="506" y="68"/>
                  <a:pt x="539" y="61"/>
                  <a:pt x="565" y="55"/>
                </a:cubicBezTo>
                <a:cubicBezTo>
                  <a:pt x="591" y="49"/>
                  <a:pt x="613" y="39"/>
                  <a:pt x="633" y="30"/>
                </a:cubicBezTo>
                <a:cubicBezTo>
                  <a:pt x="653" y="21"/>
                  <a:pt x="648" y="21"/>
                  <a:pt x="687" y="0"/>
                </a:cubicBezTo>
                <a:cubicBezTo>
                  <a:pt x="729" y="24"/>
                  <a:pt x="736" y="28"/>
                  <a:pt x="765" y="60"/>
                </a:cubicBezTo>
                <a:cubicBezTo>
                  <a:pt x="794" y="92"/>
                  <a:pt x="825" y="155"/>
                  <a:pt x="858" y="192"/>
                </a:cubicBezTo>
                <a:cubicBezTo>
                  <a:pt x="891" y="229"/>
                  <a:pt x="941" y="263"/>
                  <a:pt x="963" y="2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46200" y="25272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348000" y="209376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492360" y="212868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635280" y="214776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780000" y="215100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268360" y="15699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927080" y="1911240"/>
            <a:ext cx="720720" cy="28908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75040" y="1868400"/>
            <a:ext cx="3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41520" y="2717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808200" y="25336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55640" y="2430360"/>
            <a:ext cx="37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576440" y="1652760"/>
            <a:ext cx="36036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552680" y="180180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582560" y="1666800"/>
            <a:ext cx="27000" cy="133560"/>
          </a:xfrm>
          <a:custGeom>
            <a:avLst/>
            <a:gdLst/>
            <a:ahLst/>
            <a:rect l="l" t="t" r="r" b="b"/>
            <a:pathLst>
              <a:path w="17" h="84">
                <a:moveTo>
                  <a:pt x="2" y="84"/>
                </a:moveTo>
                <a:cubicBezTo>
                  <a:pt x="2" y="77"/>
                  <a:pt x="0" y="60"/>
                  <a:pt x="2" y="46"/>
                </a:cubicBezTo>
                <a:cubicBezTo>
                  <a:pt x="4" y="32"/>
                  <a:pt x="14" y="10"/>
                  <a:pt x="1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598840" y="1754280"/>
            <a:ext cx="25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598840" y="1604520"/>
            <a:ext cx="196920" cy="149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776680" y="1619280"/>
            <a:ext cx="44280" cy="128520"/>
          </a:xfrm>
          <a:custGeom>
            <a:avLst/>
            <a:gdLst/>
            <a:ahLst/>
            <a:rect l="l" t="t" r="r" b="b"/>
            <a:pathLst>
              <a:path w="28" h="81">
                <a:moveTo>
                  <a:pt x="27" y="81"/>
                </a:moveTo>
                <a:cubicBezTo>
                  <a:pt x="26" y="76"/>
                  <a:pt x="28" y="61"/>
                  <a:pt x="24" y="48"/>
                </a:cubicBezTo>
                <a:cubicBezTo>
                  <a:pt x="20" y="35"/>
                  <a:pt x="5" y="1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1403280" y="225216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3156120" y="22716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1463760" y="2502000"/>
            <a:ext cx="82440" cy="12600"/>
          </a:xfrm>
          <a:custGeom>
            <a:avLst/>
            <a:gdLst/>
            <a:ahLst/>
            <a:rect l="l" t="t" r="r" b="b"/>
            <a:pathLst>
              <a:path w="52" h="8">
                <a:moveTo>
                  <a:pt x="52" y="0"/>
                </a:moveTo>
                <a:cubicBezTo>
                  <a:pt x="49" y="1"/>
                  <a:pt x="45" y="1"/>
                  <a:pt x="36" y="2"/>
                </a:cubicBezTo>
                <a:cubicBezTo>
                  <a:pt x="27" y="3"/>
                  <a:pt x="7" y="7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33120" bIns="-33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319040" y="2508120"/>
            <a:ext cx="86040" cy="3240"/>
          </a:xfrm>
          <a:custGeom>
            <a:avLst/>
            <a:gdLst/>
            <a:ahLst/>
            <a:rect l="l" t="t" r="r" b="b"/>
            <a:pathLst>
              <a:path w="54" h="2">
                <a:moveTo>
                  <a:pt x="0" y="0"/>
                </a:moveTo>
                <a:cubicBezTo>
                  <a:pt x="4" y="0"/>
                  <a:pt x="17" y="2"/>
                  <a:pt x="26" y="2"/>
                </a:cubicBezTo>
                <a:cubicBezTo>
                  <a:pt x="35" y="2"/>
                  <a:pt x="48" y="2"/>
                  <a:pt x="54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42480" bIns="-42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022560" y="2451240"/>
            <a:ext cx="85680" cy="7920"/>
          </a:xfrm>
          <a:custGeom>
            <a:avLst/>
            <a:gdLst/>
            <a:ahLst/>
            <a:rect l="l" t="t" r="r" b="b"/>
            <a:pathLst>
              <a:path w="54" h="5">
                <a:moveTo>
                  <a:pt x="0" y="0"/>
                </a:moveTo>
                <a:cubicBezTo>
                  <a:pt x="4" y="1"/>
                  <a:pt x="15" y="3"/>
                  <a:pt x="24" y="4"/>
                </a:cubicBezTo>
                <a:cubicBezTo>
                  <a:pt x="33" y="5"/>
                  <a:pt x="48" y="5"/>
                  <a:pt x="54" y="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37800" bIns="-37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156120" y="2457360"/>
            <a:ext cx="91800" cy="7920"/>
          </a:xfrm>
          <a:custGeom>
            <a:avLst/>
            <a:gdLst/>
            <a:ahLst/>
            <a:rect l="l" t="t" r="r" b="b"/>
            <a:pathLst>
              <a:path w="58" h="5">
                <a:moveTo>
                  <a:pt x="58" y="0"/>
                </a:moveTo>
                <a:cubicBezTo>
                  <a:pt x="55" y="1"/>
                  <a:pt x="48" y="1"/>
                  <a:pt x="38" y="2"/>
                </a:cubicBezTo>
                <a:cubicBezTo>
                  <a:pt x="28" y="3"/>
                  <a:pt x="8" y="4"/>
                  <a:pt x="0" y="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37800" bIns="-37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1571760" y="2911320"/>
            <a:ext cx="82440" cy="3240"/>
          </a:xfrm>
          <a:custGeom>
            <a:avLst/>
            <a:gdLst/>
            <a:ahLst/>
            <a:rect l="l" t="t" r="r" b="b"/>
            <a:pathLst>
              <a:path w="52" h="2">
                <a:moveTo>
                  <a:pt x="52" y="2"/>
                </a:moveTo>
                <a:cubicBezTo>
                  <a:pt x="49" y="2"/>
                  <a:pt x="43" y="0"/>
                  <a:pt x="34" y="0"/>
                </a:cubicBezTo>
                <a:cubicBezTo>
                  <a:pt x="25" y="0"/>
                  <a:pt x="7" y="2"/>
                  <a:pt x="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42480" bIns="-42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425600" y="2917800"/>
            <a:ext cx="85680" cy="19080"/>
          </a:xfrm>
          <a:custGeom>
            <a:avLst/>
            <a:gdLst/>
            <a:ahLst/>
            <a:rect l="l" t="t" r="r" b="b"/>
            <a:pathLst>
              <a:path w="54" h="12">
                <a:moveTo>
                  <a:pt x="0" y="12"/>
                </a:moveTo>
                <a:cubicBezTo>
                  <a:pt x="4" y="11"/>
                  <a:pt x="13" y="8"/>
                  <a:pt x="22" y="6"/>
                </a:cubicBezTo>
                <a:cubicBezTo>
                  <a:pt x="31" y="4"/>
                  <a:pt x="47" y="1"/>
                  <a:pt x="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065400" y="2930400"/>
            <a:ext cx="87480" cy="19080"/>
          </a:xfrm>
          <a:custGeom>
            <a:avLst/>
            <a:gdLst/>
            <a:ahLst/>
            <a:rect l="l" t="t" r="r" b="b"/>
            <a:pathLst>
              <a:path w="55" h="12">
                <a:moveTo>
                  <a:pt x="55" y="12"/>
                </a:moveTo>
                <a:cubicBezTo>
                  <a:pt x="52" y="11"/>
                  <a:pt x="44" y="8"/>
                  <a:pt x="35" y="6"/>
                </a:cubicBezTo>
                <a:cubicBezTo>
                  <a:pt x="26" y="4"/>
                  <a:pt x="7" y="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917800" y="2924280"/>
            <a:ext cx="93600" cy="12600"/>
          </a:xfrm>
          <a:custGeom>
            <a:avLst/>
            <a:gdLst/>
            <a:ahLst/>
            <a:rect l="l" t="t" r="r" b="b"/>
            <a:pathLst>
              <a:path w="59" h="8">
                <a:moveTo>
                  <a:pt x="0" y="8"/>
                </a:moveTo>
                <a:cubicBezTo>
                  <a:pt x="4" y="8"/>
                  <a:pt x="16" y="5"/>
                  <a:pt x="26" y="4"/>
                </a:cubicBezTo>
                <a:cubicBezTo>
                  <a:pt x="36" y="3"/>
                  <a:pt x="52" y="1"/>
                  <a:pt x="5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33120" bIns="-33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290600" y="150660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752560" y="150660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068480" y="236376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165480" y="230508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574640" y="276084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644920" y="277344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81040" y="20430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9560" y="20430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581040" y="207972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85920" y="23940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380880" y="2236680"/>
            <a:ext cx="358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23720" y="2230560"/>
            <a:ext cx="0" cy="16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46160" y="223848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31640" y="176364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28880" y="15876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009880" y="158904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1924200" y="1625760"/>
            <a:ext cx="8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819440" y="1332000"/>
            <a:ext cx="37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006800" y="208908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870360" y="209232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867120" y="213048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708360" y="1817640"/>
            <a:ext cx="45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838680" y="223848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057560" y="2311560"/>
            <a:ext cx="142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160880" y="223848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087800" y="2106720"/>
            <a:ext cx="45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36480" y="2166840"/>
            <a:ext cx="21600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1332000" y="1967040"/>
            <a:ext cx="215640" cy="1792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040280" y="2016000"/>
            <a:ext cx="21564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041640" y="1979640"/>
            <a:ext cx="216000" cy="1792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906640" y="3220920"/>
            <a:ext cx="21600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469880" y="3216240"/>
            <a:ext cx="216000" cy="1792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838160" y="1841400"/>
            <a:ext cx="21600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505240" y="1798560"/>
            <a:ext cx="21564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816200" y="1808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484360" y="17668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1312920" y="1938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11280" y="21430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444680" y="31910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878200" y="3189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009960" y="19494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4021200" y="1989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076480" y="292572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397560" y="292428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025720" y="2898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6359400" y="2898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462480" y="283212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d6ecee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4898880" y="282744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d6ecee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211640" y="2759040"/>
            <a:ext cx="576360" cy="433440"/>
          </a:xfrm>
          <a:prstGeom prst="ellipse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356000" y="2952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356000" y="30178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427640" y="2865240"/>
            <a:ext cx="1429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3" dur="indefinite" restart="never" nodeType="tmRoot">
          <p:childTnLst>
            <p:seq>
              <p:cTn id="3584" dur="indefinite" nodeType="mainSeq">
                <p:childTnLst>
                  <p:par>
                    <p:cTn id="3585" fill="hold">
                      <p:stCondLst>
                        <p:cond delay="0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9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8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1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7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0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3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6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9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4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5" fill="hold">
                            <p:stCondLst>
                              <p:cond delay="500"/>
                            </p:stCondLst>
                            <p:childTnLst>
                              <p:par>
                                <p:cTn id="3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8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6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0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8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2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6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7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0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9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0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1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6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1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4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10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1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4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7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3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258920" y="716040"/>
            <a:ext cx="6553080" cy="31320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925880" y="1106640"/>
            <a:ext cx="1008360" cy="32256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5038560" y="2247840"/>
            <a:ext cx="86544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7341480" y="224784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5932440" y="1743120"/>
            <a:ext cx="1366920" cy="50472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932440" y="224784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918040" y="219060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7234200" y="22003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830920" y="224784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 rot="16042800">
            <a:off x="7346160" y="225000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762520" y="2962440"/>
            <a:ext cx="14472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7337160" y="2962440"/>
            <a:ext cx="14436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035680" y="2298600"/>
            <a:ext cx="71280" cy="36036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8178840" y="2300400"/>
            <a:ext cx="71280" cy="17928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8101080" y="2525760"/>
            <a:ext cx="216000" cy="7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8101080" y="2535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624640" y="3164040"/>
            <a:ext cx="43164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624640" y="31510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7184880" y="3159000"/>
            <a:ext cx="432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184880" y="314640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861160" y="311796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296120" y="31114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688000" y="2968560"/>
            <a:ext cx="11592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7454880" y="2963880"/>
            <a:ext cx="10008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011560" y="22096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8164440" y="22096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64440" y="24829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364440" y="22129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rot="19380000">
            <a:off x="5682960" y="1947960"/>
            <a:ext cx="71280" cy="17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691240" y="194796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 rot="19380000">
            <a:off x="7103880" y="2813040"/>
            <a:ext cx="71280" cy="179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112160" y="281304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rot="19380000">
            <a:off x="6113520" y="1438200"/>
            <a:ext cx="71280" cy="179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127920" y="144936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rot="2220000">
            <a:off x="7121520" y="1433520"/>
            <a:ext cx="71280" cy="179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 flipH="1">
            <a:off x="6958080" y="1436760"/>
            <a:ext cx="212760" cy="3031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rot="2220000">
            <a:off x="7500960" y="1936800"/>
            <a:ext cx="71280" cy="179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7343640" y="1938600"/>
            <a:ext cx="212400" cy="3027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rot="2220000">
            <a:off x="6070680" y="2800440"/>
            <a:ext cx="71280" cy="179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5913360" y="2797200"/>
            <a:ext cx="212760" cy="3031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721400" y="2122560"/>
            <a:ext cx="71280" cy="2523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4794120" y="211788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794120" y="224784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4749840" y="21970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rot="5400000">
            <a:off x="5022360" y="1838160"/>
            <a:ext cx="71280" cy="252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4927320" y="199224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059440" y="199080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rot="5400000">
            <a:off x="5013000" y="19494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8489880" y="2122560"/>
            <a:ext cx="71640" cy="2523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8488440" y="212256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8258040" y="225252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8445600" y="220176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rot="5400000">
            <a:off x="8172000" y="1838160"/>
            <a:ext cx="71280" cy="252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8076960" y="199224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8209080" y="198612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rot="5400000">
            <a:off x="8162640" y="19494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5954760" y="1614600"/>
            <a:ext cx="71280" cy="252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027840" y="1609560"/>
            <a:ext cx="0" cy="2527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027840" y="1739880"/>
            <a:ext cx="21564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983200" y="16891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227640" y="169380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580000" y="1874880"/>
            <a:ext cx="223920" cy="195120"/>
          </a:xfrm>
          <a:custGeom>
            <a:avLst/>
            <a:gdLst/>
            <a:ahLst/>
            <a:rect l="l" t="t" r="r" b="b"/>
            <a:pathLst>
              <a:path w="141" h="123">
                <a:moveTo>
                  <a:pt x="1" y="123"/>
                </a:moveTo>
                <a:cubicBezTo>
                  <a:pt x="2" y="114"/>
                  <a:pt x="0" y="86"/>
                  <a:pt x="9" y="67"/>
                </a:cubicBezTo>
                <a:cubicBezTo>
                  <a:pt x="18" y="48"/>
                  <a:pt x="35" y="22"/>
                  <a:pt x="57" y="11"/>
                </a:cubicBezTo>
                <a:cubicBezTo>
                  <a:pt x="79" y="0"/>
                  <a:pt x="124" y="5"/>
                  <a:pt x="141" y="3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5057640" y="164772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290840" y="1887480"/>
            <a:ext cx="530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7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415880" y="10746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данная 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340760" y="2249640"/>
            <a:ext cx="0" cy="86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81760" y="1739880"/>
            <a:ext cx="368280" cy="450720"/>
          </a:xfrm>
          <a:custGeom>
            <a:avLst/>
            <a:gdLst/>
            <a:ahLst/>
            <a:rect l="l" t="t" r="r" b="b"/>
            <a:pathLst>
              <a:path w="232" h="284">
                <a:moveTo>
                  <a:pt x="0" y="284"/>
                </a:moveTo>
                <a:lnTo>
                  <a:pt x="23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946920" y="1746360"/>
            <a:ext cx="311040" cy="450720"/>
          </a:xfrm>
          <a:custGeom>
            <a:avLst/>
            <a:gdLst/>
            <a:ahLst/>
            <a:rect l="l" t="t" r="r" b="b"/>
            <a:pathLst>
              <a:path w="196" h="284">
                <a:moveTo>
                  <a:pt x="196" y="2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34280" y="2247840"/>
            <a:ext cx="825480" cy="76320"/>
          </a:xfrm>
          <a:custGeom>
            <a:avLst/>
            <a:gdLst/>
            <a:ahLst/>
            <a:rect l="l" t="t" r="r" b="b"/>
            <a:pathLst>
              <a:path w="520" h="48">
                <a:moveTo>
                  <a:pt x="0" y="0"/>
                </a:moveTo>
                <a:cubicBezTo>
                  <a:pt x="13" y="2"/>
                  <a:pt x="50" y="5"/>
                  <a:pt x="76" y="8"/>
                </a:cubicBezTo>
                <a:cubicBezTo>
                  <a:pt x="102" y="11"/>
                  <a:pt x="121" y="14"/>
                  <a:pt x="156" y="20"/>
                </a:cubicBezTo>
                <a:cubicBezTo>
                  <a:pt x="191" y="26"/>
                  <a:pt x="246" y="40"/>
                  <a:pt x="284" y="44"/>
                </a:cubicBezTo>
                <a:cubicBezTo>
                  <a:pt x="322" y="48"/>
                  <a:pt x="355" y="47"/>
                  <a:pt x="384" y="44"/>
                </a:cubicBezTo>
                <a:cubicBezTo>
                  <a:pt x="413" y="41"/>
                  <a:pt x="437" y="35"/>
                  <a:pt x="460" y="28"/>
                </a:cubicBezTo>
                <a:cubicBezTo>
                  <a:pt x="483" y="21"/>
                  <a:pt x="508" y="9"/>
                  <a:pt x="520" y="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343560" y="1741320"/>
            <a:ext cx="603360" cy="57240"/>
          </a:xfrm>
          <a:custGeom>
            <a:avLst/>
            <a:gdLst/>
            <a:ahLst/>
            <a:rect l="l" t="t" r="r" b="b"/>
            <a:pathLst>
              <a:path w="380" h="36">
                <a:moveTo>
                  <a:pt x="0" y="3"/>
                </a:moveTo>
                <a:cubicBezTo>
                  <a:pt x="7" y="3"/>
                  <a:pt x="23" y="0"/>
                  <a:pt x="40" y="3"/>
                </a:cubicBezTo>
                <a:cubicBezTo>
                  <a:pt x="57" y="6"/>
                  <a:pt x="79" y="14"/>
                  <a:pt x="104" y="19"/>
                </a:cubicBezTo>
                <a:cubicBezTo>
                  <a:pt x="129" y="24"/>
                  <a:pt x="161" y="34"/>
                  <a:pt x="188" y="35"/>
                </a:cubicBezTo>
                <a:cubicBezTo>
                  <a:pt x="215" y="36"/>
                  <a:pt x="243" y="32"/>
                  <a:pt x="268" y="27"/>
                </a:cubicBezTo>
                <a:cubicBezTo>
                  <a:pt x="293" y="22"/>
                  <a:pt x="317" y="11"/>
                  <a:pt x="336" y="7"/>
                </a:cubicBezTo>
                <a:cubicBezTo>
                  <a:pt x="355" y="3"/>
                  <a:pt x="371" y="4"/>
                  <a:pt x="380" y="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653160" y="15033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556400" y="208584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7701120" y="212076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843680" y="21337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7988400" y="212400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299280" y="1913040"/>
            <a:ext cx="720720" cy="28872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446880" y="187020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951440" y="2709720"/>
            <a:ext cx="216000" cy="716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951440" y="2719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014800" y="266220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187960" y="253044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183280" y="27208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349960" y="25369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297400" y="2433600"/>
            <a:ext cx="37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502160" y="2243160"/>
            <a:ext cx="25236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863960" y="1376280"/>
            <a:ext cx="5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8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02160" y="1401840"/>
            <a:ext cx="536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9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692680" y="1741320"/>
            <a:ext cx="28728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 rot="387000">
            <a:off x="6992640" y="2741760"/>
            <a:ext cx="223920" cy="195120"/>
          </a:xfrm>
          <a:custGeom>
            <a:avLst/>
            <a:gdLst/>
            <a:ahLst/>
            <a:rect l="l" t="t" r="r" b="b"/>
            <a:pathLst>
              <a:path w="141" h="123">
                <a:moveTo>
                  <a:pt x="1" y="123"/>
                </a:moveTo>
                <a:cubicBezTo>
                  <a:pt x="2" y="114"/>
                  <a:pt x="0" y="86"/>
                  <a:pt x="9" y="67"/>
                </a:cubicBezTo>
                <a:cubicBezTo>
                  <a:pt x="18" y="48"/>
                  <a:pt x="35" y="22"/>
                  <a:pt x="57" y="11"/>
                </a:cubicBezTo>
                <a:cubicBezTo>
                  <a:pt x="79" y="0"/>
                  <a:pt x="124" y="5"/>
                  <a:pt x="141" y="3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rot="388800">
            <a:off x="6004080" y="1373040"/>
            <a:ext cx="223560" cy="195480"/>
          </a:xfrm>
          <a:custGeom>
            <a:avLst/>
            <a:gdLst/>
            <a:ahLst/>
            <a:rect l="l" t="t" r="r" b="b"/>
            <a:pathLst>
              <a:path w="141" h="123">
                <a:moveTo>
                  <a:pt x="1" y="123"/>
                </a:moveTo>
                <a:cubicBezTo>
                  <a:pt x="2" y="114"/>
                  <a:pt x="0" y="86"/>
                  <a:pt x="9" y="67"/>
                </a:cubicBezTo>
                <a:cubicBezTo>
                  <a:pt x="18" y="48"/>
                  <a:pt x="35" y="22"/>
                  <a:pt x="57" y="11"/>
                </a:cubicBezTo>
                <a:cubicBezTo>
                  <a:pt x="79" y="0"/>
                  <a:pt x="124" y="5"/>
                  <a:pt x="141" y="3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7064280" y="1374840"/>
            <a:ext cx="228600" cy="181080"/>
          </a:xfrm>
          <a:custGeom>
            <a:avLst/>
            <a:gdLst/>
            <a:ahLst/>
            <a:rect l="l" t="t" r="r" b="b"/>
            <a:pathLst>
              <a:path w="144" h="114">
                <a:moveTo>
                  <a:pt x="142" y="114"/>
                </a:moveTo>
                <a:cubicBezTo>
                  <a:pt x="141" y="105"/>
                  <a:pt x="144" y="72"/>
                  <a:pt x="134" y="54"/>
                </a:cubicBezTo>
                <a:cubicBezTo>
                  <a:pt x="124" y="36"/>
                  <a:pt x="103" y="14"/>
                  <a:pt x="81" y="7"/>
                </a:cubicBezTo>
                <a:cubicBezTo>
                  <a:pt x="59" y="0"/>
                  <a:pt x="16" y="10"/>
                  <a:pt x="0" y="10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7439040" y="1873080"/>
            <a:ext cx="228600" cy="181080"/>
          </a:xfrm>
          <a:custGeom>
            <a:avLst/>
            <a:gdLst/>
            <a:ahLst/>
            <a:rect l="l" t="t" r="r" b="b"/>
            <a:pathLst>
              <a:path w="144" h="114">
                <a:moveTo>
                  <a:pt x="142" y="114"/>
                </a:moveTo>
                <a:cubicBezTo>
                  <a:pt x="141" y="105"/>
                  <a:pt x="144" y="72"/>
                  <a:pt x="134" y="54"/>
                </a:cubicBezTo>
                <a:cubicBezTo>
                  <a:pt x="124" y="36"/>
                  <a:pt x="103" y="14"/>
                  <a:pt x="81" y="7"/>
                </a:cubicBezTo>
                <a:cubicBezTo>
                  <a:pt x="59" y="0"/>
                  <a:pt x="16" y="10"/>
                  <a:pt x="0" y="10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018120" y="2724120"/>
            <a:ext cx="228600" cy="181080"/>
          </a:xfrm>
          <a:custGeom>
            <a:avLst/>
            <a:gdLst/>
            <a:ahLst/>
            <a:rect l="l" t="t" r="r" b="b"/>
            <a:pathLst>
              <a:path w="144" h="114">
                <a:moveTo>
                  <a:pt x="142" y="114"/>
                </a:moveTo>
                <a:cubicBezTo>
                  <a:pt x="141" y="105"/>
                  <a:pt x="144" y="72"/>
                  <a:pt x="134" y="54"/>
                </a:cubicBezTo>
                <a:cubicBezTo>
                  <a:pt x="124" y="36"/>
                  <a:pt x="103" y="14"/>
                  <a:pt x="81" y="7"/>
                </a:cubicBezTo>
                <a:cubicBezTo>
                  <a:pt x="59" y="0"/>
                  <a:pt x="16" y="10"/>
                  <a:pt x="0" y="10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121440" y="1208160"/>
            <a:ext cx="542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59640" y="1222200"/>
            <a:ext cx="536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143680" y="1655640"/>
            <a:ext cx="563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3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542360" y="1662120"/>
            <a:ext cx="558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999040" y="244476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5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6635880" y="2446200"/>
            <a:ext cx="529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6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8205840" y="165096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8008920" y="1386000"/>
            <a:ext cx="595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11,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8542080" y="2251080"/>
            <a:ext cx="25236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8345520" y="1844640"/>
            <a:ext cx="60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10,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706320" y="2238480"/>
            <a:ext cx="86544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3009240" y="223848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600200" y="1733400"/>
            <a:ext cx="1366920" cy="50508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533600" y="2243160"/>
            <a:ext cx="151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433520" y="218592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041640" y="219060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347840" y="2252520"/>
            <a:ext cx="76320" cy="66960"/>
          </a:xfrm>
          <a:custGeom>
            <a:avLst/>
            <a:gdLst/>
            <a:ahLst/>
            <a:rect l="l" t="t" r="r" b="b"/>
            <a:pathLst>
              <a:path w="48" h="42">
                <a:moveTo>
                  <a:pt x="0" y="9"/>
                </a:moveTo>
                <a:lnTo>
                  <a:pt x="42" y="0"/>
                </a:lnTo>
                <a:lnTo>
                  <a:pt x="48" y="42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129120" y="22334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48"/>
                </a:moveTo>
                <a:lnTo>
                  <a:pt x="6" y="0"/>
                </a:lnTo>
                <a:lnTo>
                  <a:pt x="48" y="9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420920" y="2989440"/>
            <a:ext cx="14436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014280" y="2981160"/>
            <a:ext cx="14436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54040" y="2440080"/>
            <a:ext cx="71280" cy="21564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73040" y="2709720"/>
            <a:ext cx="216000" cy="716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73040" y="2719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292400" y="3151080"/>
            <a:ext cx="431640" cy="7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292400" y="31510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852640" y="3151080"/>
            <a:ext cx="432000" cy="716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852640" y="31510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528920" y="31082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963880" y="31021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341360" y="3002040"/>
            <a:ext cx="115920" cy="1443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3132000" y="2997360"/>
            <a:ext cx="100080" cy="1443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36400" y="23446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36400" y="266220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031840" y="22035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130560" y="1461960"/>
            <a:ext cx="865080" cy="34308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33240" y="2252520"/>
            <a:ext cx="938520" cy="847800"/>
          </a:xfrm>
          <a:custGeom>
            <a:avLst/>
            <a:gdLst/>
            <a:ahLst/>
            <a:rect l="l" t="t" r="r" b="b"/>
            <a:pathLst>
              <a:path w="591" h="534">
                <a:moveTo>
                  <a:pt x="0" y="87"/>
                </a:moveTo>
                <a:cubicBezTo>
                  <a:pt x="17" y="87"/>
                  <a:pt x="65" y="86"/>
                  <a:pt x="102" y="84"/>
                </a:cubicBezTo>
                <a:cubicBezTo>
                  <a:pt x="139" y="82"/>
                  <a:pt x="183" y="79"/>
                  <a:pt x="225" y="72"/>
                </a:cubicBezTo>
                <a:cubicBezTo>
                  <a:pt x="267" y="65"/>
                  <a:pt x="309" y="54"/>
                  <a:pt x="354" y="42"/>
                </a:cubicBezTo>
                <a:cubicBezTo>
                  <a:pt x="399" y="30"/>
                  <a:pt x="435" y="9"/>
                  <a:pt x="495" y="0"/>
                </a:cubicBezTo>
                <a:cubicBezTo>
                  <a:pt x="504" y="69"/>
                  <a:pt x="507" y="109"/>
                  <a:pt x="519" y="174"/>
                </a:cubicBezTo>
                <a:cubicBezTo>
                  <a:pt x="529" y="235"/>
                  <a:pt x="540" y="306"/>
                  <a:pt x="552" y="366"/>
                </a:cubicBezTo>
                <a:cubicBezTo>
                  <a:pt x="564" y="426"/>
                  <a:pt x="583" y="499"/>
                  <a:pt x="591" y="5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017880" y="2233440"/>
            <a:ext cx="979560" cy="847800"/>
          </a:xfrm>
          <a:custGeom>
            <a:avLst/>
            <a:gdLst/>
            <a:ahLst/>
            <a:rect l="l" t="t" r="r" b="b"/>
            <a:pathLst>
              <a:path w="617" h="534">
                <a:moveTo>
                  <a:pt x="617" y="45"/>
                </a:moveTo>
                <a:cubicBezTo>
                  <a:pt x="598" y="49"/>
                  <a:pt x="546" y="63"/>
                  <a:pt x="505" y="66"/>
                </a:cubicBezTo>
                <a:cubicBezTo>
                  <a:pt x="465" y="69"/>
                  <a:pt x="415" y="70"/>
                  <a:pt x="372" y="66"/>
                </a:cubicBezTo>
                <a:cubicBezTo>
                  <a:pt x="329" y="62"/>
                  <a:pt x="294" y="53"/>
                  <a:pt x="245" y="42"/>
                </a:cubicBezTo>
                <a:cubicBezTo>
                  <a:pt x="196" y="31"/>
                  <a:pt x="148" y="6"/>
                  <a:pt x="76" y="0"/>
                </a:cubicBezTo>
                <a:cubicBezTo>
                  <a:pt x="67" y="108"/>
                  <a:pt x="67" y="116"/>
                  <a:pt x="61" y="177"/>
                </a:cubicBezTo>
                <a:cubicBezTo>
                  <a:pt x="55" y="238"/>
                  <a:pt x="50" y="307"/>
                  <a:pt x="40" y="366"/>
                </a:cubicBezTo>
                <a:cubicBezTo>
                  <a:pt x="30" y="425"/>
                  <a:pt x="8" y="499"/>
                  <a:pt x="0" y="5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3981600" y="2357280"/>
            <a:ext cx="71280" cy="10800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895560" y="2516040"/>
            <a:ext cx="216000" cy="7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3895560" y="25257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3963960" y="226224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963960" y="24685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514520" y="1757520"/>
            <a:ext cx="1528560" cy="447480"/>
          </a:xfrm>
          <a:custGeom>
            <a:avLst/>
            <a:gdLst/>
            <a:ahLst/>
            <a:rect l="l" t="t" r="r" b="b"/>
            <a:pathLst>
              <a:path w="963" h="282">
                <a:moveTo>
                  <a:pt x="0" y="282"/>
                </a:moveTo>
                <a:cubicBezTo>
                  <a:pt x="10" y="275"/>
                  <a:pt x="38" y="261"/>
                  <a:pt x="63" y="240"/>
                </a:cubicBezTo>
                <a:cubicBezTo>
                  <a:pt x="88" y="219"/>
                  <a:pt x="126" y="179"/>
                  <a:pt x="150" y="153"/>
                </a:cubicBezTo>
                <a:cubicBezTo>
                  <a:pt x="174" y="127"/>
                  <a:pt x="188" y="105"/>
                  <a:pt x="207" y="84"/>
                </a:cubicBezTo>
                <a:cubicBezTo>
                  <a:pt x="226" y="63"/>
                  <a:pt x="228" y="63"/>
                  <a:pt x="264" y="27"/>
                </a:cubicBezTo>
                <a:cubicBezTo>
                  <a:pt x="321" y="45"/>
                  <a:pt x="340" y="53"/>
                  <a:pt x="375" y="60"/>
                </a:cubicBezTo>
                <a:cubicBezTo>
                  <a:pt x="410" y="67"/>
                  <a:pt x="442" y="70"/>
                  <a:pt x="474" y="69"/>
                </a:cubicBezTo>
                <a:cubicBezTo>
                  <a:pt x="506" y="68"/>
                  <a:pt x="539" y="61"/>
                  <a:pt x="565" y="55"/>
                </a:cubicBezTo>
                <a:cubicBezTo>
                  <a:pt x="591" y="49"/>
                  <a:pt x="613" y="39"/>
                  <a:pt x="633" y="30"/>
                </a:cubicBezTo>
                <a:cubicBezTo>
                  <a:pt x="653" y="21"/>
                  <a:pt x="648" y="21"/>
                  <a:pt x="687" y="0"/>
                </a:cubicBezTo>
                <a:cubicBezTo>
                  <a:pt x="729" y="24"/>
                  <a:pt x="736" y="28"/>
                  <a:pt x="765" y="60"/>
                </a:cubicBezTo>
                <a:cubicBezTo>
                  <a:pt x="794" y="92"/>
                  <a:pt x="825" y="155"/>
                  <a:pt x="858" y="192"/>
                </a:cubicBezTo>
                <a:cubicBezTo>
                  <a:pt x="891" y="229"/>
                  <a:pt x="941" y="263"/>
                  <a:pt x="963" y="2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46200" y="25272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3348000" y="209376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492360" y="212868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3635280" y="214776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3780000" y="215100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268360" y="15699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927080" y="1911240"/>
            <a:ext cx="720720" cy="28908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075040" y="1868400"/>
            <a:ext cx="37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41520" y="2717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808200" y="25336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755640" y="2430360"/>
            <a:ext cx="37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576440" y="1652760"/>
            <a:ext cx="36036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552680" y="180180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582560" y="1666800"/>
            <a:ext cx="27000" cy="133560"/>
          </a:xfrm>
          <a:custGeom>
            <a:avLst/>
            <a:gdLst/>
            <a:ahLst/>
            <a:rect l="l" t="t" r="r" b="b"/>
            <a:pathLst>
              <a:path w="17" h="84">
                <a:moveTo>
                  <a:pt x="2" y="84"/>
                </a:moveTo>
                <a:cubicBezTo>
                  <a:pt x="2" y="77"/>
                  <a:pt x="0" y="60"/>
                  <a:pt x="2" y="46"/>
                </a:cubicBezTo>
                <a:cubicBezTo>
                  <a:pt x="4" y="32"/>
                  <a:pt x="14" y="10"/>
                  <a:pt x="1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598840" y="1754280"/>
            <a:ext cx="25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2598840" y="1604520"/>
            <a:ext cx="196920" cy="149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776680" y="1619280"/>
            <a:ext cx="44280" cy="128520"/>
          </a:xfrm>
          <a:custGeom>
            <a:avLst/>
            <a:gdLst/>
            <a:ahLst/>
            <a:rect l="l" t="t" r="r" b="b"/>
            <a:pathLst>
              <a:path w="28" h="81">
                <a:moveTo>
                  <a:pt x="27" y="81"/>
                </a:moveTo>
                <a:cubicBezTo>
                  <a:pt x="26" y="76"/>
                  <a:pt x="28" y="61"/>
                  <a:pt x="24" y="48"/>
                </a:cubicBezTo>
                <a:cubicBezTo>
                  <a:pt x="20" y="35"/>
                  <a:pt x="5" y="1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1403280" y="2252160"/>
            <a:ext cx="0" cy="28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3156120" y="22716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463760" y="2502000"/>
            <a:ext cx="82440" cy="12600"/>
          </a:xfrm>
          <a:custGeom>
            <a:avLst/>
            <a:gdLst/>
            <a:ahLst/>
            <a:rect l="l" t="t" r="r" b="b"/>
            <a:pathLst>
              <a:path w="52" h="8">
                <a:moveTo>
                  <a:pt x="52" y="0"/>
                </a:moveTo>
                <a:cubicBezTo>
                  <a:pt x="49" y="1"/>
                  <a:pt x="45" y="1"/>
                  <a:pt x="36" y="2"/>
                </a:cubicBezTo>
                <a:cubicBezTo>
                  <a:pt x="27" y="3"/>
                  <a:pt x="7" y="7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33120" bIns="-33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319040" y="2508120"/>
            <a:ext cx="86040" cy="3240"/>
          </a:xfrm>
          <a:custGeom>
            <a:avLst/>
            <a:gdLst/>
            <a:ahLst/>
            <a:rect l="l" t="t" r="r" b="b"/>
            <a:pathLst>
              <a:path w="54" h="2">
                <a:moveTo>
                  <a:pt x="0" y="0"/>
                </a:moveTo>
                <a:cubicBezTo>
                  <a:pt x="4" y="0"/>
                  <a:pt x="17" y="2"/>
                  <a:pt x="26" y="2"/>
                </a:cubicBezTo>
                <a:cubicBezTo>
                  <a:pt x="35" y="2"/>
                  <a:pt x="48" y="2"/>
                  <a:pt x="54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42480" bIns="-42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022560" y="2451240"/>
            <a:ext cx="85680" cy="7920"/>
          </a:xfrm>
          <a:custGeom>
            <a:avLst/>
            <a:gdLst/>
            <a:ahLst/>
            <a:rect l="l" t="t" r="r" b="b"/>
            <a:pathLst>
              <a:path w="54" h="5">
                <a:moveTo>
                  <a:pt x="0" y="0"/>
                </a:moveTo>
                <a:cubicBezTo>
                  <a:pt x="4" y="1"/>
                  <a:pt x="15" y="3"/>
                  <a:pt x="24" y="4"/>
                </a:cubicBezTo>
                <a:cubicBezTo>
                  <a:pt x="33" y="5"/>
                  <a:pt x="48" y="5"/>
                  <a:pt x="54" y="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37800" bIns="-37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156120" y="2457360"/>
            <a:ext cx="91800" cy="7920"/>
          </a:xfrm>
          <a:custGeom>
            <a:avLst/>
            <a:gdLst/>
            <a:ahLst/>
            <a:rect l="l" t="t" r="r" b="b"/>
            <a:pathLst>
              <a:path w="58" h="5">
                <a:moveTo>
                  <a:pt x="58" y="0"/>
                </a:moveTo>
                <a:cubicBezTo>
                  <a:pt x="55" y="1"/>
                  <a:pt x="48" y="1"/>
                  <a:pt x="38" y="2"/>
                </a:cubicBezTo>
                <a:cubicBezTo>
                  <a:pt x="28" y="3"/>
                  <a:pt x="8" y="4"/>
                  <a:pt x="0" y="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37800" bIns="-37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571760" y="2911320"/>
            <a:ext cx="82440" cy="3240"/>
          </a:xfrm>
          <a:custGeom>
            <a:avLst/>
            <a:gdLst/>
            <a:ahLst/>
            <a:rect l="l" t="t" r="r" b="b"/>
            <a:pathLst>
              <a:path w="52" h="2">
                <a:moveTo>
                  <a:pt x="52" y="2"/>
                </a:moveTo>
                <a:cubicBezTo>
                  <a:pt x="49" y="2"/>
                  <a:pt x="43" y="0"/>
                  <a:pt x="34" y="0"/>
                </a:cubicBezTo>
                <a:cubicBezTo>
                  <a:pt x="25" y="0"/>
                  <a:pt x="7" y="2"/>
                  <a:pt x="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42480" bIns="-42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425600" y="2917800"/>
            <a:ext cx="85680" cy="19080"/>
          </a:xfrm>
          <a:custGeom>
            <a:avLst/>
            <a:gdLst/>
            <a:ahLst/>
            <a:rect l="l" t="t" r="r" b="b"/>
            <a:pathLst>
              <a:path w="54" h="12">
                <a:moveTo>
                  <a:pt x="0" y="12"/>
                </a:moveTo>
                <a:cubicBezTo>
                  <a:pt x="4" y="11"/>
                  <a:pt x="13" y="8"/>
                  <a:pt x="22" y="6"/>
                </a:cubicBezTo>
                <a:cubicBezTo>
                  <a:pt x="31" y="4"/>
                  <a:pt x="47" y="1"/>
                  <a:pt x="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065400" y="2930400"/>
            <a:ext cx="87480" cy="19080"/>
          </a:xfrm>
          <a:custGeom>
            <a:avLst/>
            <a:gdLst/>
            <a:ahLst/>
            <a:rect l="l" t="t" r="r" b="b"/>
            <a:pathLst>
              <a:path w="55" h="12">
                <a:moveTo>
                  <a:pt x="55" y="12"/>
                </a:moveTo>
                <a:cubicBezTo>
                  <a:pt x="52" y="11"/>
                  <a:pt x="44" y="8"/>
                  <a:pt x="35" y="6"/>
                </a:cubicBezTo>
                <a:cubicBezTo>
                  <a:pt x="26" y="4"/>
                  <a:pt x="7" y="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2917800" y="2924280"/>
            <a:ext cx="93600" cy="12600"/>
          </a:xfrm>
          <a:custGeom>
            <a:avLst/>
            <a:gdLst/>
            <a:ahLst/>
            <a:rect l="l" t="t" r="r" b="b"/>
            <a:pathLst>
              <a:path w="59" h="8">
                <a:moveTo>
                  <a:pt x="0" y="8"/>
                </a:moveTo>
                <a:cubicBezTo>
                  <a:pt x="4" y="8"/>
                  <a:pt x="16" y="5"/>
                  <a:pt x="26" y="4"/>
                </a:cubicBezTo>
                <a:cubicBezTo>
                  <a:pt x="36" y="3"/>
                  <a:pt x="52" y="1"/>
                  <a:pt x="5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-33120" bIns="-33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1290600" y="150660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752560" y="150660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1068480" y="236376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165480" y="230508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574640" y="276084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2644920" y="277344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581040" y="20430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09560" y="20430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581040" y="2079720"/>
            <a:ext cx="123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85920" y="23940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380880" y="2236680"/>
            <a:ext cx="358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423720" y="2230560"/>
            <a:ext cx="0" cy="16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46160" y="223848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31640" y="1763640"/>
            <a:ext cx="379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928880" y="15876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009880" y="158904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1924200" y="1625760"/>
            <a:ext cx="8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819440" y="1332000"/>
            <a:ext cx="37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006800" y="208908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870360" y="209232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867120" y="213048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3708360" y="1817640"/>
            <a:ext cx="45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838680" y="223848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057560" y="2311560"/>
            <a:ext cx="142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4160880" y="223848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4087800" y="2106720"/>
            <a:ext cx="45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636480" y="2166840"/>
            <a:ext cx="21600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1332000" y="1967040"/>
            <a:ext cx="215640" cy="1792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4040280" y="2016000"/>
            <a:ext cx="21564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041640" y="1979640"/>
            <a:ext cx="216000" cy="1792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2906640" y="3220920"/>
            <a:ext cx="21600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1469880" y="3216240"/>
            <a:ext cx="216000" cy="1792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1838160" y="1841400"/>
            <a:ext cx="21600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505240" y="1798560"/>
            <a:ext cx="21564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1816200" y="1808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484360" y="17668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1312920" y="1938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11280" y="21430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1444680" y="31910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878200" y="3189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3009960" y="19494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021200" y="1989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076480" y="2925720"/>
            <a:ext cx="43164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6397560" y="292428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025720" y="2898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359400" y="2898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3462480" y="2832120"/>
            <a:ext cx="647640" cy="287280"/>
          </a:xfrm>
          <a:prstGeom prst="rightArrow">
            <a:avLst>
              <a:gd name="adj1" fmla="val 50000"/>
              <a:gd name="adj2" fmla="val 56360"/>
            </a:avLst>
          </a:prstGeom>
          <a:solidFill>
            <a:srgbClr val="d6ecee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4898880" y="2827440"/>
            <a:ext cx="648000" cy="287280"/>
          </a:xfrm>
          <a:prstGeom prst="rightArrow">
            <a:avLst>
              <a:gd name="adj1" fmla="val 50000"/>
              <a:gd name="adj2" fmla="val 56391"/>
            </a:avLst>
          </a:prstGeom>
          <a:solidFill>
            <a:srgbClr val="d6ecee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211640" y="2759040"/>
            <a:ext cx="576360" cy="433440"/>
          </a:xfrm>
          <a:prstGeom prst="ellipse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4356000" y="2952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4356000" y="30178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4427640" y="2865240"/>
            <a:ext cx="1429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5054760" y="452448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7357320" y="452448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948280" y="4019400"/>
            <a:ext cx="1366920" cy="50508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881680" y="4529160"/>
            <a:ext cx="151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781600" y="447192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7389720" y="447660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695920" y="4538520"/>
            <a:ext cx="76320" cy="66960"/>
          </a:xfrm>
          <a:custGeom>
            <a:avLst/>
            <a:gdLst/>
            <a:ahLst/>
            <a:rect l="l" t="t" r="r" b="b"/>
            <a:pathLst>
              <a:path w="48" h="42">
                <a:moveTo>
                  <a:pt x="0" y="9"/>
                </a:moveTo>
                <a:lnTo>
                  <a:pt x="42" y="0"/>
                </a:lnTo>
                <a:lnTo>
                  <a:pt x="48" y="42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7477200" y="4519440"/>
            <a:ext cx="75960" cy="7632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48"/>
                </a:moveTo>
                <a:lnTo>
                  <a:pt x="6" y="0"/>
                </a:lnTo>
                <a:lnTo>
                  <a:pt x="48" y="9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769000" y="5275440"/>
            <a:ext cx="14436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H="1">
            <a:off x="7362720" y="5267160"/>
            <a:ext cx="14472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902120" y="4726080"/>
            <a:ext cx="71640" cy="21564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821120" y="4995720"/>
            <a:ext cx="216000" cy="716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821120" y="5005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640480" y="5437080"/>
            <a:ext cx="431640" cy="716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640480" y="54370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7201080" y="5437080"/>
            <a:ext cx="431640" cy="7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7201080" y="54370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877000" y="53942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7311960" y="53881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689440" y="5288040"/>
            <a:ext cx="115920" cy="1443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 flipH="1">
            <a:off x="7479720" y="5283360"/>
            <a:ext cx="99720" cy="1443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884840" y="463068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884840" y="49482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380280" y="448956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981680" y="4538520"/>
            <a:ext cx="938160" cy="847800"/>
          </a:xfrm>
          <a:custGeom>
            <a:avLst/>
            <a:gdLst/>
            <a:ahLst/>
            <a:rect l="l" t="t" r="r" b="b"/>
            <a:pathLst>
              <a:path w="591" h="534">
                <a:moveTo>
                  <a:pt x="0" y="87"/>
                </a:moveTo>
                <a:cubicBezTo>
                  <a:pt x="17" y="87"/>
                  <a:pt x="65" y="86"/>
                  <a:pt x="102" y="84"/>
                </a:cubicBezTo>
                <a:cubicBezTo>
                  <a:pt x="139" y="82"/>
                  <a:pt x="183" y="79"/>
                  <a:pt x="225" y="72"/>
                </a:cubicBezTo>
                <a:cubicBezTo>
                  <a:pt x="267" y="65"/>
                  <a:pt x="309" y="54"/>
                  <a:pt x="354" y="42"/>
                </a:cubicBezTo>
                <a:cubicBezTo>
                  <a:pt x="399" y="30"/>
                  <a:pt x="435" y="9"/>
                  <a:pt x="495" y="0"/>
                </a:cubicBezTo>
                <a:cubicBezTo>
                  <a:pt x="504" y="69"/>
                  <a:pt x="507" y="109"/>
                  <a:pt x="519" y="174"/>
                </a:cubicBezTo>
                <a:cubicBezTo>
                  <a:pt x="529" y="235"/>
                  <a:pt x="540" y="306"/>
                  <a:pt x="552" y="366"/>
                </a:cubicBezTo>
                <a:cubicBezTo>
                  <a:pt x="564" y="426"/>
                  <a:pt x="583" y="499"/>
                  <a:pt x="591" y="5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7365960" y="4519440"/>
            <a:ext cx="979560" cy="847800"/>
          </a:xfrm>
          <a:custGeom>
            <a:avLst/>
            <a:gdLst/>
            <a:ahLst/>
            <a:rect l="l" t="t" r="r" b="b"/>
            <a:pathLst>
              <a:path w="617" h="534">
                <a:moveTo>
                  <a:pt x="617" y="45"/>
                </a:moveTo>
                <a:cubicBezTo>
                  <a:pt x="598" y="49"/>
                  <a:pt x="546" y="63"/>
                  <a:pt x="505" y="66"/>
                </a:cubicBezTo>
                <a:cubicBezTo>
                  <a:pt x="465" y="69"/>
                  <a:pt x="415" y="70"/>
                  <a:pt x="372" y="66"/>
                </a:cubicBezTo>
                <a:cubicBezTo>
                  <a:pt x="329" y="62"/>
                  <a:pt x="294" y="53"/>
                  <a:pt x="245" y="42"/>
                </a:cubicBezTo>
                <a:cubicBezTo>
                  <a:pt x="196" y="31"/>
                  <a:pt x="148" y="6"/>
                  <a:pt x="76" y="0"/>
                </a:cubicBezTo>
                <a:cubicBezTo>
                  <a:pt x="67" y="108"/>
                  <a:pt x="67" y="116"/>
                  <a:pt x="61" y="177"/>
                </a:cubicBezTo>
                <a:cubicBezTo>
                  <a:pt x="55" y="238"/>
                  <a:pt x="50" y="307"/>
                  <a:pt x="40" y="366"/>
                </a:cubicBezTo>
                <a:cubicBezTo>
                  <a:pt x="30" y="425"/>
                  <a:pt x="8" y="499"/>
                  <a:pt x="0" y="5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329680" y="4643280"/>
            <a:ext cx="71280" cy="10800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244000" y="4802040"/>
            <a:ext cx="215640" cy="716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244000" y="48117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8312040" y="45482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8312040" y="47545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862600" y="4043520"/>
            <a:ext cx="1528920" cy="447480"/>
          </a:xfrm>
          <a:custGeom>
            <a:avLst/>
            <a:gdLst/>
            <a:ahLst/>
            <a:rect l="l" t="t" r="r" b="b"/>
            <a:pathLst>
              <a:path w="963" h="282">
                <a:moveTo>
                  <a:pt x="0" y="282"/>
                </a:moveTo>
                <a:cubicBezTo>
                  <a:pt x="10" y="275"/>
                  <a:pt x="38" y="261"/>
                  <a:pt x="63" y="240"/>
                </a:cubicBezTo>
                <a:cubicBezTo>
                  <a:pt x="88" y="219"/>
                  <a:pt x="126" y="179"/>
                  <a:pt x="150" y="153"/>
                </a:cubicBezTo>
                <a:cubicBezTo>
                  <a:pt x="174" y="127"/>
                  <a:pt x="188" y="105"/>
                  <a:pt x="207" y="84"/>
                </a:cubicBezTo>
                <a:cubicBezTo>
                  <a:pt x="226" y="63"/>
                  <a:pt x="228" y="63"/>
                  <a:pt x="264" y="27"/>
                </a:cubicBezTo>
                <a:cubicBezTo>
                  <a:pt x="321" y="45"/>
                  <a:pt x="340" y="53"/>
                  <a:pt x="375" y="60"/>
                </a:cubicBezTo>
                <a:cubicBezTo>
                  <a:pt x="410" y="67"/>
                  <a:pt x="442" y="70"/>
                  <a:pt x="474" y="69"/>
                </a:cubicBezTo>
                <a:cubicBezTo>
                  <a:pt x="506" y="68"/>
                  <a:pt x="539" y="61"/>
                  <a:pt x="565" y="55"/>
                </a:cubicBezTo>
                <a:cubicBezTo>
                  <a:pt x="591" y="49"/>
                  <a:pt x="613" y="39"/>
                  <a:pt x="633" y="30"/>
                </a:cubicBezTo>
                <a:cubicBezTo>
                  <a:pt x="653" y="21"/>
                  <a:pt x="648" y="21"/>
                  <a:pt x="687" y="0"/>
                </a:cubicBezTo>
                <a:cubicBezTo>
                  <a:pt x="729" y="24"/>
                  <a:pt x="736" y="28"/>
                  <a:pt x="765" y="60"/>
                </a:cubicBezTo>
                <a:cubicBezTo>
                  <a:pt x="794" y="92"/>
                  <a:pt x="825" y="155"/>
                  <a:pt x="858" y="192"/>
                </a:cubicBezTo>
                <a:cubicBezTo>
                  <a:pt x="891" y="229"/>
                  <a:pt x="941" y="263"/>
                  <a:pt x="963" y="2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994280" y="48132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696080" y="437976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840800" y="441468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7983360" y="443376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8128080" y="443700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616800" y="385596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275520" y="4197240"/>
            <a:ext cx="720720" cy="2890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423120" y="415440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989600" y="5003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5156280" y="48196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5103720" y="4716360"/>
            <a:ext cx="379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075360" y="4940280"/>
            <a:ext cx="120600" cy="68400"/>
          </a:xfrm>
          <a:custGeom>
            <a:avLst/>
            <a:gdLst/>
            <a:ahLst/>
            <a:rect l="l" t="t" r="r" b="b"/>
            <a:pathLst>
              <a:path w="76" h="43">
                <a:moveTo>
                  <a:pt x="76" y="43"/>
                </a:moveTo>
                <a:cubicBezTo>
                  <a:pt x="71" y="39"/>
                  <a:pt x="55" y="25"/>
                  <a:pt x="42" y="18"/>
                </a:cubicBezTo>
                <a:cubicBezTo>
                  <a:pt x="29" y="11"/>
                  <a:pt x="9" y="4"/>
                  <a:pt x="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7078680" y="4903920"/>
            <a:ext cx="155520" cy="74520"/>
          </a:xfrm>
          <a:custGeom>
            <a:avLst/>
            <a:gdLst/>
            <a:ahLst/>
            <a:rect l="l" t="t" r="r" b="b"/>
            <a:pathLst>
              <a:path w="98" h="47">
                <a:moveTo>
                  <a:pt x="0" y="47"/>
                </a:moveTo>
                <a:cubicBezTo>
                  <a:pt x="8" y="42"/>
                  <a:pt x="34" y="23"/>
                  <a:pt x="50" y="15"/>
                </a:cubicBezTo>
                <a:cubicBezTo>
                  <a:pt x="66" y="7"/>
                  <a:pt x="88" y="3"/>
                  <a:pt x="98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8800" bIns="28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527800" y="3357720"/>
            <a:ext cx="653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933800" y="3994200"/>
            <a:ext cx="1800" cy="355680"/>
          </a:xfrm>
          <a:custGeom>
            <a:avLst/>
            <a:gdLst/>
            <a:ahLst/>
            <a:rect l="l" t="t" r="r" b="b"/>
            <a:pathLst>
              <a:path w="1" h="224">
                <a:moveTo>
                  <a:pt x="0" y="0"/>
                </a:moveTo>
                <a:lnTo>
                  <a:pt x="0" y="224"/>
                </a:lnTo>
              </a:path>
            </a:pathLst>
          </a:custGeom>
          <a:noFill/>
          <a:ln w="936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4938840" y="4022640"/>
            <a:ext cx="123840" cy="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4403880" y="4522680"/>
            <a:ext cx="1440" cy="147600"/>
          </a:xfrm>
          <a:custGeom>
            <a:avLst/>
            <a:gdLst/>
            <a:ahLst/>
            <a:rect l="l" t="t" r="r" b="b"/>
            <a:pathLst>
              <a:path w="1" h="93">
                <a:moveTo>
                  <a:pt x="0" y="0"/>
                </a:moveTo>
                <a:lnTo>
                  <a:pt x="1" y="93"/>
                </a:lnTo>
              </a:path>
            </a:pathLst>
          </a:custGeom>
          <a:noFill/>
          <a:ln w="1260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6281640" y="3792600"/>
            <a:ext cx="0" cy="2872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357960" y="3792600"/>
            <a:ext cx="0" cy="216000"/>
          </a:xfrm>
          <a:prstGeom prst="line">
            <a:avLst/>
          </a:prstGeom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6272280" y="3840120"/>
            <a:ext cx="85680" cy="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6300720" y="3632040"/>
            <a:ext cx="638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8224920" y="4973760"/>
            <a:ext cx="144360" cy="0"/>
          </a:xfrm>
          <a:prstGeom prst="line">
            <a:avLst/>
          </a:prstGeom>
          <a:ln w="1260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8825040" y="4516560"/>
            <a:ext cx="0" cy="71280"/>
          </a:xfrm>
          <a:prstGeom prst="line">
            <a:avLst/>
          </a:prstGeom>
          <a:ln w="12600">
            <a:solidFill>
              <a:srgbClr val="990033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4984920" y="4452840"/>
            <a:ext cx="21564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680080" y="4253040"/>
            <a:ext cx="216000" cy="1792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8388360" y="4325760"/>
            <a:ext cx="21600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7254720" y="5506920"/>
            <a:ext cx="21600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818320" y="5502240"/>
            <a:ext cx="215640" cy="1792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6186600" y="4127400"/>
            <a:ext cx="21564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6853320" y="4084560"/>
            <a:ext cx="215640" cy="17964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6164280" y="40942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832440" y="40528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5661000" y="4224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959360" y="442908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792760" y="54770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7226280" y="5475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8369280" y="429912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156360" y="5251320"/>
            <a:ext cx="93672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6203880" y="52243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5981760" y="3660840"/>
            <a:ext cx="290520" cy="409680"/>
          </a:xfrm>
          <a:custGeom>
            <a:avLst/>
            <a:gdLst/>
            <a:ahLst/>
            <a:rect l="l" t="t" r="r" b="b"/>
            <a:pathLst>
              <a:path w="183" h="258">
                <a:moveTo>
                  <a:pt x="0" y="0"/>
                </a:moveTo>
                <a:lnTo>
                  <a:pt x="183" y="258"/>
                </a:lnTo>
              </a:path>
            </a:pathLst>
          </a:custGeom>
          <a:noFill/>
          <a:ln w="12600">
            <a:solidFill>
              <a:srgbClr val="9900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5495760" y="4165560"/>
            <a:ext cx="257400" cy="360360"/>
          </a:xfrm>
          <a:custGeom>
            <a:avLst/>
            <a:gdLst/>
            <a:ahLst/>
            <a:rect l="l" t="t" r="r" b="b"/>
            <a:pathLst>
              <a:path w="162" h="227">
                <a:moveTo>
                  <a:pt x="0" y="0"/>
                </a:moveTo>
                <a:lnTo>
                  <a:pt x="162" y="227"/>
                </a:lnTo>
              </a:path>
            </a:pathLst>
          </a:custGeom>
          <a:noFill/>
          <a:ln w="12600">
            <a:solidFill>
              <a:srgbClr val="9900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053120" y="4946760"/>
            <a:ext cx="303480" cy="425520"/>
          </a:xfrm>
          <a:custGeom>
            <a:avLst/>
            <a:gdLst/>
            <a:ahLst/>
            <a:rect l="l" t="t" r="r" b="b"/>
            <a:pathLst>
              <a:path w="191" h="268">
                <a:moveTo>
                  <a:pt x="0" y="0"/>
                </a:moveTo>
                <a:lnTo>
                  <a:pt x="191" y="268"/>
                </a:lnTo>
              </a:path>
            </a:pathLst>
          </a:custGeom>
          <a:noFill/>
          <a:ln w="12600">
            <a:solidFill>
              <a:srgbClr val="9900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956280" y="3613320"/>
            <a:ext cx="268560" cy="419040"/>
          </a:xfrm>
          <a:custGeom>
            <a:avLst/>
            <a:gdLst/>
            <a:ahLst/>
            <a:rect l="l" t="t" r="r" b="b"/>
            <a:pathLst>
              <a:path w="169" h="264">
                <a:moveTo>
                  <a:pt x="169" y="0"/>
                </a:moveTo>
                <a:lnTo>
                  <a:pt x="0" y="264"/>
                </a:lnTo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9900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481880" y="4079880"/>
            <a:ext cx="295200" cy="441360"/>
          </a:xfrm>
          <a:custGeom>
            <a:avLst/>
            <a:gdLst/>
            <a:ahLst/>
            <a:rect l="l" t="t" r="r" b="b"/>
            <a:pathLst>
              <a:path w="186" h="278">
                <a:moveTo>
                  <a:pt x="186" y="0"/>
                </a:moveTo>
                <a:lnTo>
                  <a:pt x="0" y="278"/>
                </a:lnTo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9900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927760" y="4979880"/>
            <a:ext cx="282600" cy="403200"/>
          </a:xfrm>
          <a:custGeom>
            <a:avLst/>
            <a:gdLst/>
            <a:ahLst/>
            <a:rect l="l" t="t" r="r" b="b"/>
            <a:pathLst>
              <a:path w="178" h="254">
                <a:moveTo>
                  <a:pt x="178" y="0"/>
                </a:moveTo>
                <a:lnTo>
                  <a:pt x="0" y="254"/>
                </a:lnTo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9900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rot="1200000">
            <a:off x="6001920" y="5067360"/>
            <a:ext cx="71640" cy="17928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5930640" y="5051520"/>
            <a:ext cx="108360" cy="323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rot="20700000">
            <a:off x="7221600" y="5033520"/>
            <a:ext cx="71280" cy="17964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263360" y="5036040"/>
            <a:ext cx="92160" cy="3391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 rot="20700000">
            <a:off x="6151680" y="3733560"/>
            <a:ext cx="71280" cy="17928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195960" y="3732120"/>
            <a:ext cx="77760" cy="341280"/>
          </a:xfrm>
          <a:custGeom>
            <a:avLst/>
            <a:gdLst/>
            <a:ahLst/>
            <a:rect l="l" t="t" r="r" b="b"/>
            <a:pathLst>
              <a:path w="49" h="215">
                <a:moveTo>
                  <a:pt x="0" y="0"/>
                </a:moveTo>
                <a:lnTo>
                  <a:pt x="49" y="215"/>
                </a:lnTo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1908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012000" y="3622680"/>
            <a:ext cx="155520" cy="68400"/>
          </a:xfrm>
          <a:custGeom>
            <a:avLst/>
            <a:gdLst/>
            <a:ahLst/>
            <a:rect l="l" t="t" r="r" b="b"/>
            <a:pathLst>
              <a:path w="98" h="43">
                <a:moveTo>
                  <a:pt x="0" y="43"/>
                </a:moveTo>
                <a:cubicBezTo>
                  <a:pt x="7" y="38"/>
                  <a:pt x="28" y="22"/>
                  <a:pt x="44" y="15"/>
                </a:cubicBezTo>
                <a:cubicBezTo>
                  <a:pt x="60" y="8"/>
                  <a:pt x="87" y="3"/>
                  <a:pt x="98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2680" bIns="22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rot="480000">
            <a:off x="6969240" y="3710160"/>
            <a:ext cx="71280" cy="17928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flipH="1">
            <a:off x="6948360" y="3709080"/>
            <a:ext cx="36720" cy="3258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000920" y="3562200"/>
            <a:ext cx="200160" cy="88920"/>
          </a:xfrm>
          <a:custGeom>
            <a:avLst/>
            <a:gdLst/>
            <a:ahLst/>
            <a:rect l="l" t="t" r="r" b="b"/>
            <a:pathLst>
              <a:path w="126" h="56">
                <a:moveTo>
                  <a:pt x="126" y="56"/>
                </a:moveTo>
                <a:cubicBezTo>
                  <a:pt x="116" y="51"/>
                  <a:pt x="90" y="29"/>
                  <a:pt x="69" y="20"/>
                </a:cubicBezTo>
                <a:cubicBezTo>
                  <a:pt x="48" y="11"/>
                  <a:pt x="14" y="4"/>
                  <a:pt x="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983280" y="3532320"/>
            <a:ext cx="22320" cy="195120"/>
          </a:xfrm>
          <a:custGeom>
            <a:avLst/>
            <a:gdLst/>
            <a:ahLst/>
            <a:rect l="l" t="t" r="r" b="b"/>
            <a:pathLst>
              <a:path w="14" h="123">
                <a:moveTo>
                  <a:pt x="14" y="0"/>
                </a:moveTo>
                <a:lnTo>
                  <a:pt x="0" y="123"/>
                </a:lnTo>
              </a:path>
            </a:pathLst>
          </a:custGeom>
          <a:noFill/>
          <a:ln w="648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rot="2820000">
            <a:off x="7712280" y="4235400"/>
            <a:ext cx="71640" cy="17928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7495200" y="4242960"/>
            <a:ext cx="296280" cy="2718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361280" y="4246560"/>
            <a:ext cx="216000" cy="17928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338960" y="421632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045120" y="4913280"/>
            <a:ext cx="41400" cy="127080"/>
          </a:xfrm>
          <a:custGeom>
            <a:avLst/>
            <a:gdLst/>
            <a:ahLst/>
            <a:rect l="l" t="t" r="r" b="b"/>
            <a:pathLst>
              <a:path w="26" h="80">
                <a:moveTo>
                  <a:pt x="26" y="0"/>
                </a:moveTo>
                <a:lnTo>
                  <a:pt x="0" y="80"/>
                </a:lnTo>
              </a:path>
            </a:pathLst>
          </a:custGeom>
          <a:noFill/>
          <a:ln w="648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6167520" y="3594240"/>
            <a:ext cx="47520" cy="218880"/>
          </a:xfrm>
          <a:custGeom>
            <a:avLst/>
            <a:gdLst/>
            <a:ahLst/>
            <a:rect l="l" t="t" r="r" b="b"/>
            <a:pathLst>
              <a:path w="30" h="138">
                <a:moveTo>
                  <a:pt x="0" y="0"/>
                </a:moveTo>
                <a:lnTo>
                  <a:pt x="30" y="138"/>
                </a:lnTo>
              </a:path>
            </a:pathLst>
          </a:custGeom>
          <a:noFill/>
          <a:ln w="648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785000" y="4172040"/>
            <a:ext cx="90720" cy="81000"/>
          </a:xfrm>
          <a:custGeom>
            <a:avLst/>
            <a:gdLst/>
            <a:ahLst/>
            <a:rect l="l" t="t" r="r" b="b"/>
            <a:pathLst>
              <a:path w="57" h="51">
                <a:moveTo>
                  <a:pt x="57" y="0"/>
                </a:moveTo>
                <a:lnTo>
                  <a:pt x="0" y="51"/>
                </a:lnTo>
              </a:path>
            </a:pathLst>
          </a:custGeom>
          <a:noFill/>
          <a:ln w="648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227720" y="4873680"/>
            <a:ext cx="38160" cy="166680"/>
          </a:xfrm>
          <a:custGeom>
            <a:avLst/>
            <a:gdLst/>
            <a:ahLst/>
            <a:rect l="l" t="t" r="r" b="b"/>
            <a:pathLst>
              <a:path w="24" h="105">
                <a:moveTo>
                  <a:pt x="0" y="0"/>
                </a:moveTo>
                <a:lnTo>
                  <a:pt x="24" y="105"/>
                </a:lnTo>
              </a:path>
            </a:pathLst>
          </a:custGeom>
          <a:noFill/>
          <a:ln w="648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rot="18300000">
            <a:off x="5478120" y="4304880"/>
            <a:ext cx="71640" cy="17928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462640" y="4322880"/>
            <a:ext cx="280800" cy="203040"/>
          </a:xfrm>
          <a:custGeom>
            <a:avLst/>
            <a:gdLst/>
            <a:ahLst/>
            <a:rect l="l" t="t" r="r" b="b"/>
            <a:pathLst>
              <a:path w="177" h="128">
                <a:moveTo>
                  <a:pt x="0" y="0"/>
                </a:moveTo>
                <a:lnTo>
                  <a:pt x="177" y="128"/>
                </a:lnTo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1908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5400720" y="4270320"/>
            <a:ext cx="114120" cy="85680"/>
          </a:xfrm>
          <a:custGeom>
            <a:avLst/>
            <a:gdLst/>
            <a:ahLst/>
            <a:rect l="l" t="t" r="r" b="b"/>
            <a:pathLst>
              <a:path w="72" h="54">
                <a:moveTo>
                  <a:pt x="0" y="0"/>
                </a:moveTo>
                <a:lnTo>
                  <a:pt x="72" y="54"/>
                </a:lnTo>
              </a:path>
            </a:pathLst>
          </a:custGeom>
          <a:noFill/>
          <a:ln w="648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5405400" y="4176720"/>
            <a:ext cx="95400" cy="103320"/>
          </a:xfrm>
          <a:custGeom>
            <a:avLst/>
            <a:gdLst/>
            <a:ahLst/>
            <a:rect l="l" t="t" r="r" b="b"/>
            <a:pathLst>
              <a:path w="60" h="65">
                <a:moveTo>
                  <a:pt x="60" y="0"/>
                </a:moveTo>
                <a:cubicBezTo>
                  <a:pt x="55" y="4"/>
                  <a:pt x="40" y="15"/>
                  <a:pt x="30" y="26"/>
                </a:cubicBezTo>
                <a:cubicBezTo>
                  <a:pt x="20" y="37"/>
                  <a:pt x="6" y="57"/>
                  <a:pt x="0" y="65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763040" y="4108320"/>
            <a:ext cx="90360" cy="81000"/>
          </a:xfrm>
          <a:custGeom>
            <a:avLst/>
            <a:gdLst/>
            <a:ahLst/>
            <a:rect l="l" t="t" r="r" b="b"/>
            <a:pathLst>
              <a:path w="57" h="51">
                <a:moveTo>
                  <a:pt x="0" y="0"/>
                </a:moveTo>
                <a:cubicBezTo>
                  <a:pt x="5" y="4"/>
                  <a:pt x="18" y="13"/>
                  <a:pt x="27" y="21"/>
                </a:cubicBezTo>
                <a:cubicBezTo>
                  <a:pt x="36" y="29"/>
                  <a:pt x="51" y="45"/>
                  <a:pt x="57" y="51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6972480" y="3322800"/>
            <a:ext cx="653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129280" y="3967200"/>
            <a:ext cx="65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610400" y="3838680"/>
            <a:ext cx="65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5921280" y="4664160"/>
            <a:ext cx="65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6773760" y="4641840"/>
            <a:ext cx="65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896080" y="3943440"/>
            <a:ext cx="71280" cy="25236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969160" y="393876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969160" y="4068720"/>
            <a:ext cx="21564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924520" y="401796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6168960" y="402264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 rot="5400000">
            <a:off x="4892400" y="4254120"/>
            <a:ext cx="71640" cy="25272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4797000" y="440856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4929120" y="440676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rot="5400000">
            <a:off x="4883040" y="436536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4589640" y="4548240"/>
            <a:ext cx="71280" cy="25236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4662360" y="454356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662360" y="467352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618080" y="462276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4356000" y="4525920"/>
            <a:ext cx="671760" cy="0"/>
          </a:xfrm>
          <a:prstGeom prst="line">
            <a:avLst/>
          </a:prstGeom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4446360" y="4670280"/>
            <a:ext cx="16812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3813120" y="4392720"/>
            <a:ext cx="638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5067360" y="3989520"/>
            <a:ext cx="0" cy="503280"/>
          </a:xfrm>
          <a:prstGeom prst="line">
            <a:avLst/>
          </a:prstGeom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782960" y="3710160"/>
            <a:ext cx="638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rot="5400000">
            <a:off x="8316360" y="4152960"/>
            <a:ext cx="71640" cy="25236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8221320" y="430704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8353440" y="432432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rot="5400000">
            <a:off x="8307000" y="42642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8639280" y="4459320"/>
            <a:ext cx="71280" cy="2523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8637480" y="445932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8407440" y="458964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8594640" y="453852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8224920" y="4527720"/>
            <a:ext cx="0" cy="502920"/>
          </a:xfrm>
          <a:prstGeom prst="line">
            <a:avLst/>
          </a:prstGeom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8364600" y="4871880"/>
            <a:ext cx="0" cy="1429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8714880" y="4521240"/>
            <a:ext cx="142920" cy="0"/>
          </a:xfrm>
          <a:prstGeom prst="line">
            <a:avLst/>
          </a:prstGeom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H="1">
            <a:off x="8685360" y="4589640"/>
            <a:ext cx="14256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8101080" y="4932360"/>
            <a:ext cx="74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8350200" y="397044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8153280" y="3705120"/>
            <a:ext cx="511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8667720" y="4594320"/>
            <a:ext cx="21600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8483760" y="4651200"/>
            <a:ext cx="510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8748360" y="4599000"/>
            <a:ext cx="96840" cy="14292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rot="16200000">
            <a:off x="8417520" y="4041000"/>
            <a:ext cx="74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475240" y="375768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665680" y="4065480"/>
            <a:ext cx="25236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rot="21100200">
            <a:off x="5925600" y="5006880"/>
            <a:ext cx="222480" cy="130320"/>
          </a:xfrm>
          <a:custGeom>
            <a:avLst/>
            <a:gdLst/>
            <a:ahLst/>
            <a:rect l="l" t="t" r="r" b="b"/>
            <a:pathLst>
              <a:path w="140" h="82">
                <a:moveTo>
                  <a:pt x="140" y="82"/>
                </a:moveTo>
                <a:cubicBezTo>
                  <a:pt x="137" y="73"/>
                  <a:pt x="134" y="44"/>
                  <a:pt x="122" y="31"/>
                </a:cubicBezTo>
                <a:cubicBezTo>
                  <a:pt x="110" y="18"/>
                  <a:pt x="89" y="8"/>
                  <a:pt x="69" y="4"/>
                </a:cubicBezTo>
                <a:cubicBezTo>
                  <a:pt x="49" y="0"/>
                  <a:pt x="14" y="7"/>
                  <a:pt x="0" y="8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040440" y="498636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124760" y="4975200"/>
            <a:ext cx="233280" cy="104760"/>
          </a:xfrm>
          <a:custGeom>
            <a:avLst/>
            <a:gdLst/>
            <a:ahLst/>
            <a:rect l="l" t="t" r="r" b="b"/>
            <a:pathLst>
              <a:path w="147" h="66">
                <a:moveTo>
                  <a:pt x="0" y="66"/>
                </a:moveTo>
                <a:cubicBezTo>
                  <a:pt x="4" y="59"/>
                  <a:pt x="16" y="32"/>
                  <a:pt x="30" y="21"/>
                </a:cubicBezTo>
                <a:cubicBezTo>
                  <a:pt x="44" y="10"/>
                  <a:pt x="67" y="2"/>
                  <a:pt x="86" y="1"/>
                </a:cubicBezTo>
                <a:cubicBezTo>
                  <a:pt x="105" y="0"/>
                  <a:pt x="134" y="13"/>
                  <a:pt x="147" y="16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861240" y="497196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4206960" y="462744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367160" y="4680000"/>
            <a:ext cx="25236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4929120" y="4070520"/>
            <a:ext cx="0" cy="28728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572000" y="394488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rot="663000">
            <a:off x="6060960" y="3675240"/>
            <a:ext cx="230400" cy="112680"/>
          </a:xfrm>
          <a:custGeom>
            <a:avLst/>
            <a:gdLst/>
            <a:ahLst/>
            <a:rect l="l" t="t" r="r" b="b"/>
            <a:pathLst>
              <a:path w="145" h="71">
                <a:moveTo>
                  <a:pt x="0" y="71"/>
                </a:moveTo>
                <a:cubicBezTo>
                  <a:pt x="5" y="63"/>
                  <a:pt x="18" y="35"/>
                  <a:pt x="33" y="23"/>
                </a:cubicBezTo>
                <a:cubicBezTo>
                  <a:pt x="48" y="11"/>
                  <a:pt x="71" y="4"/>
                  <a:pt x="90" y="2"/>
                </a:cubicBezTo>
                <a:cubicBezTo>
                  <a:pt x="109" y="0"/>
                  <a:pt x="134" y="7"/>
                  <a:pt x="145" y="8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859440" y="3651120"/>
            <a:ext cx="265320" cy="81000"/>
          </a:xfrm>
          <a:custGeom>
            <a:avLst/>
            <a:gdLst/>
            <a:ahLst/>
            <a:rect l="l" t="t" r="r" b="b"/>
            <a:pathLst>
              <a:path w="167" h="51">
                <a:moveTo>
                  <a:pt x="167" y="51"/>
                </a:moveTo>
                <a:cubicBezTo>
                  <a:pt x="161" y="44"/>
                  <a:pt x="144" y="20"/>
                  <a:pt x="128" y="12"/>
                </a:cubicBezTo>
                <a:cubicBezTo>
                  <a:pt x="112" y="4"/>
                  <a:pt x="89" y="0"/>
                  <a:pt x="68" y="3"/>
                </a:cubicBezTo>
                <a:cubicBezTo>
                  <a:pt x="47" y="6"/>
                  <a:pt x="14" y="27"/>
                  <a:pt x="0" y="33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35280" bIns="35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154560" y="342576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6550200" y="343044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5418000" y="4248000"/>
            <a:ext cx="152640" cy="200160"/>
          </a:xfrm>
          <a:custGeom>
            <a:avLst/>
            <a:gdLst/>
            <a:ahLst/>
            <a:rect l="l" t="t" r="r" b="b"/>
            <a:pathLst>
              <a:path w="96" h="126">
                <a:moveTo>
                  <a:pt x="0" y="126"/>
                </a:moveTo>
                <a:cubicBezTo>
                  <a:pt x="1" y="117"/>
                  <a:pt x="2" y="89"/>
                  <a:pt x="9" y="72"/>
                </a:cubicBezTo>
                <a:cubicBezTo>
                  <a:pt x="16" y="55"/>
                  <a:pt x="31" y="36"/>
                  <a:pt x="45" y="24"/>
                </a:cubicBezTo>
                <a:cubicBezTo>
                  <a:pt x="59" y="12"/>
                  <a:pt x="86" y="5"/>
                  <a:pt x="96" y="0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7672320" y="4189320"/>
            <a:ext cx="185760" cy="152640"/>
          </a:xfrm>
          <a:custGeom>
            <a:avLst/>
            <a:gdLst/>
            <a:ahLst/>
            <a:rect l="l" t="t" r="r" b="b"/>
            <a:pathLst>
              <a:path w="117" h="96">
                <a:moveTo>
                  <a:pt x="117" y="96"/>
                </a:moveTo>
                <a:cubicBezTo>
                  <a:pt x="115" y="88"/>
                  <a:pt x="114" y="59"/>
                  <a:pt x="105" y="45"/>
                </a:cubicBezTo>
                <a:cubicBezTo>
                  <a:pt x="96" y="31"/>
                  <a:pt x="81" y="17"/>
                  <a:pt x="63" y="9"/>
                </a:cubicBezTo>
                <a:cubicBezTo>
                  <a:pt x="45" y="1"/>
                  <a:pt x="13" y="2"/>
                  <a:pt x="0" y="0"/>
                </a:cubicBezTo>
              </a:path>
            </a:pathLst>
          </a:custGeom>
          <a:noFill/>
          <a:ln w="28440">
            <a:solidFill>
              <a:srgbClr val="99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100480" y="423720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7745400" y="416412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 rot="1644000">
            <a:off x="2476440" y="3409920"/>
            <a:ext cx="876240" cy="263520"/>
          </a:xfrm>
          <a:prstGeom prst="rightArrow">
            <a:avLst>
              <a:gd name="adj1" fmla="val 50000"/>
              <a:gd name="adj2" fmla="val 83128"/>
            </a:avLst>
          </a:prstGeom>
          <a:solidFill>
            <a:srgbClr val="caffa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flipH="1" rot="1644600">
            <a:off x="3909600" y="4086000"/>
            <a:ext cx="801720" cy="263520"/>
          </a:xfrm>
          <a:prstGeom prst="rightArrow">
            <a:avLst>
              <a:gd name="adj1" fmla="val 50000"/>
              <a:gd name="adj2" fmla="val 76059"/>
            </a:avLst>
          </a:prstGeom>
          <a:solidFill>
            <a:srgbClr val="caffa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279360" y="4005360"/>
            <a:ext cx="3457440" cy="8604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ловия эквивалентности НД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данной системы и ОСМ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и одинаковых воздействиях 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и перемещениях расчётных узлов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3340080" y="3673440"/>
            <a:ext cx="576360" cy="433440"/>
          </a:xfrm>
          <a:prstGeom prst="ellipse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484440" y="38386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484440" y="397044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484440" y="390204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24000" y="4940280"/>
            <a:ext cx="2232000" cy="433440"/>
          </a:xfrm>
          <a:prstGeom prst="rect">
            <a:avLst/>
          </a:prstGeom>
          <a:solidFill>
            <a:srgbClr val="b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304920" y="4903920"/>
                <a:ext cx="34560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ba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250920" y="52974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 Narrow"/>
              </a:rPr>
              <a:t>(статические условия эквивалентност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79280" y="5487840"/>
            <a:ext cx="2089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iZ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9" name=""/>
              <p:cNvSpPr txBox="1"/>
              <p:nvPr/>
            </p:nvSpPr>
            <p:spPr>
              <a:xfrm>
                <a:off x="900000" y="5848200"/>
                <a:ext cx="15843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0" name=""/>
          <p:cNvSpPr/>
          <p:nvPr/>
        </p:nvSpPr>
        <p:spPr>
          <a:xfrm>
            <a:off x="2949480" y="5586480"/>
            <a:ext cx="7923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Ре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308400" y="6118200"/>
            <a:ext cx="349200" cy="360360"/>
          </a:xfrm>
          <a:prstGeom prst="ellipse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2" name=""/>
              <p:cNvSpPr txBox="1"/>
              <p:nvPr/>
            </p:nvSpPr>
            <p:spPr>
              <a:xfrm>
                <a:off x="2556000" y="6016680"/>
                <a:ext cx="14396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3" name=""/>
          <p:cNvSpPr/>
          <p:nvPr/>
        </p:nvSpPr>
        <p:spPr>
          <a:xfrm>
            <a:off x="3386160" y="6008760"/>
            <a:ext cx="144360" cy="144360"/>
          </a:xfrm>
          <a:prstGeom prst="downArrow">
            <a:avLst>
              <a:gd name="adj1" fmla="val 49454"/>
              <a:gd name="adj2" fmla="val 45056"/>
            </a:avLst>
          </a:prstGeom>
          <a:solidFill>
            <a:srgbClr val="d6ecee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618160" y="5589720"/>
            <a:ext cx="142920" cy="1008000"/>
          </a:xfrm>
          <a:custGeom>
            <a:avLst/>
            <a:gdLst>
              <a:gd name="textAreaLeft" fmla="*/ 0 w 142920"/>
              <a:gd name="textAreaRight" fmla="*/ 51480 w 1429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5867280" y="5762520"/>
            <a:ext cx="1982880" cy="835200"/>
          </a:xfrm>
          <a:prstGeom prst="rect">
            <a:avLst/>
          </a:prstGeom>
          <a:solidFill>
            <a:srgbClr val="b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5950080" y="5675400"/>
                <a:ext cx="20066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Σ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, 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n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7" name=""/>
          <p:cNvSpPr/>
          <p:nvPr/>
        </p:nvSpPr>
        <p:spPr>
          <a:xfrm>
            <a:off x="7769160" y="5886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– </a:t>
            </a:r>
            <a:r>
              <a:rPr b="1" lang="en-US" sz="2400" spc="-1" strike="noStrike">
                <a:solidFill>
                  <a:srgbClr val="003399"/>
                </a:solidFill>
                <a:latin typeface="Arial Narrow"/>
              </a:rPr>
              <a:t>КУМП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4340160" y="5229360"/>
            <a:ext cx="1146240" cy="1035000"/>
          </a:xfrm>
          <a:custGeom>
            <a:avLst/>
            <a:gdLst/>
            <a:ahLst/>
            <a:rect l="l" t="t" r="r" b="b"/>
            <a:pathLst>
              <a:path w="681" h="453">
                <a:moveTo>
                  <a:pt x="0" y="0"/>
                </a:moveTo>
                <a:lnTo>
                  <a:pt x="0" y="453"/>
                </a:lnTo>
                <a:lnTo>
                  <a:pt x="681" y="45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4340160" y="5400360"/>
            <a:ext cx="100800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270400" y="5950080"/>
            <a:ext cx="398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4237200" y="5000760"/>
                <a:ext cx="36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2" name=""/>
          <p:cNvSpPr/>
          <p:nvPr/>
        </p:nvSpPr>
        <p:spPr>
          <a:xfrm>
            <a:off x="4327560" y="5516640"/>
            <a:ext cx="892080" cy="747720"/>
          </a:xfrm>
          <a:custGeom>
            <a:avLst/>
            <a:gdLst/>
            <a:ahLst/>
            <a:rect l="l" t="t" r="r" b="b"/>
            <a:pathLst>
              <a:path w="408" h="453">
                <a:moveTo>
                  <a:pt x="0" y="0"/>
                </a:moveTo>
                <a:lnTo>
                  <a:pt x="408" y="0"/>
                </a:lnTo>
                <a:lnTo>
                  <a:pt x="408" y="45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346640" y="5761080"/>
            <a:ext cx="576360" cy="503280"/>
          </a:xfrm>
          <a:custGeom>
            <a:avLst/>
            <a:gdLst/>
            <a:ahLst/>
            <a:rect l="l" t="t" r="r" b="b"/>
            <a:pathLst>
              <a:path w="408" h="453">
                <a:moveTo>
                  <a:pt x="0" y="0"/>
                </a:moveTo>
                <a:lnTo>
                  <a:pt x="408" y="0"/>
                </a:lnTo>
                <a:lnTo>
                  <a:pt x="408" y="45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5094360" y="629748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863880" y="5370480"/>
                <a:ext cx="3319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6" name=""/>
          <p:cNvSpPr/>
          <p:nvPr/>
        </p:nvSpPr>
        <p:spPr>
          <a:xfrm>
            <a:off x="4008600" y="5313240"/>
            <a:ext cx="4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219640" y="6264360"/>
            <a:ext cx="36720" cy="108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629240" y="6205680"/>
            <a:ext cx="576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896000" y="6237360"/>
            <a:ext cx="56880" cy="57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309920" y="5734080"/>
            <a:ext cx="57240" cy="57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975120" y="555480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7" dur="indefinite" restart="never" nodeType="tmRoot">
          <p:childTnLst>
            <p:seq>
              <p:cTn id="3708" dur="indefinite" nodeType="mainSeq">
                <p:childTnLst>
                  <p:par>
                    <p:cTn id="3709" fill="hold">
                      <p:stCondLst>
                        <p:cond delay="0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6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2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8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1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4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7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6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9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2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5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8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1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4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7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0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3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6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9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2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4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7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0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3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6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9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2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5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8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1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4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7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0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3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6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9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2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5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8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1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4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7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0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3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6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9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2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5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8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1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4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6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9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2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5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8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1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4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0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3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6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9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2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5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1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0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3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6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9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2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5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1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4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7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0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3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6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2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8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1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4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7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0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3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6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9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2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5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1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4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7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0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3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9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2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5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8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1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4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7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0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3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6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9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2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5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8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1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4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7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0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3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6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9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5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8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1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4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fill="hold">
                      <p:stCondLst>
                        <p:cond delay="indefinite"/>
                      </p:stCondLst>
                      <p:childTnLst>
                        <p:par>
                          <p:cTn id="4126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9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2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5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8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1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4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7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0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3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6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9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2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5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8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1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4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7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0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3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6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9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2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5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6" fill="hold">
                      <p:stCondLst>
                        <p:cond delay="indefinite"/>
                      </p:stCondLst>
                      <p:childTnLst>
                        <p:par>
                          <p:cTn id="4197" fill="hold">
                            <p:stCondLst>
                              <p:cond delay="0"/>
                            </p:stCondLst>
                            <p:childTnLst>
                              <p:par>
                                <p:cTn id="4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0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1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2" dur="1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7" dur="10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0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1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2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5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6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7" dur="1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0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1" dur="1000" fill="hold"/>
                                        <p:tgtEl>
                                          <p:spTgt spid="1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2" dur="1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5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6" dur="10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7" dur="10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2" dur="80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3" dur="80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4" dur="80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5" fill="hold">
                      <p:stCondLst>
                        <p:cond delay="indefinite"/>
                      </p:stCondLst>
                      <p:childTnLst>
                        <p:par>
                          <p:cTn id="4236" fill="hold">
                            <p:stCondLst>
                              <p:cond delay="0"/>
                            </p:stCondLst>
                            <p:childTnLst>
                              <p:par>
                                <p:cTn id="4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9" dur="10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0" dur="10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1" dur="1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4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5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6" dur="1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7" fill="hold">
                      <p:stCondLst>
                        <p:cond delay="indefinite"/>
                      </p:stCondLst>
                      <p:childTnLst>
                        <p:par>
                          <p:cTn id="4248" fill="hold">
                            <p:stCondLst>
                              <p:cond delay="0"/>
                            </p:stCondLst>
                            <p:childTnLst>
                              <p:par>
                                <p:cTn id="4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1" dur="80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2" dur="80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3" dur="80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4" fill="hold">
                      <p:stCondLst>
                        <p:cond delay="indefinite"/>
                      </p:stCondLst>
                      <p:childTnLst>
                        <p:par>
                          <p:cTn id="4255" fill="hold">
                            <p:stCondLst>
                              <p:cond delay="0"/>
                            </p:stCondLst>
                            <p:childTnLst>
                              <p:par>
                                <p:cTn id="4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8" dur="10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9" dur="10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0" dur="10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5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6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7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8" fill="hold">
                      <p:stCondLst>
                        <p:cond delay="indefinite"/>
                      </p:stCondLst>
                      <p:childTnLst>
                        <p:par>
                          <p:cTn id="4269" fill="hold">
                            <p:stCondLst>
                              <p:cond delay="0"/>
                            </p:stCondLst>
                            <p:childTnLst>
                              <p:par>
                                <p:cTn id="42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72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6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80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84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5" fill="hold">
                      <p:stCondLst>
                        <p:cond delay="indefinite"/>
                      </p:stCondLst>
                      <p:childTnLst>
                        <p:par>
                          <p:cTn id="4286" fill="hold">
                            <p:stCondLst>
                              <p:cond delay="0"/>
                            </p:stCondLst>
                            <p:childTnLst>
                              <p:par>
                                <p:cTn id="42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89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92" dur="1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3" fill="hold">
                      <p:stCondLst>
                        <p:cond delay="indefinite"/>
                      </p:stCondLst>
                      <p:childTnLst>
                        <p:par>
                          <p:cTn id="4294" fill="hold">
                            <p:stCondLst>
                              <p:cond delay="0"/>
                            </p:stCondLst>
                            <p:childTnLst>
                              <p:par>
                                <p:cTn id="42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97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1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4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5" fill="hold">
                      <p:stCondLst>
                        <p:cond delay="indefinite"/>
                      </p:stCondLst>
                      <p:childTnLst>
                        <p:par>
                          <p:cTn id="4306" fill="hold">
                            <p:stCondLst>
                              <p:cond delay="0"/>
                            </p:stCondLst>
                            <p:childTnLst>
                              <p:par>
                                <p:cTn id="43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9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12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16" dur="10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20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fill="hold">
                      <p:stCondLst>
                        <p:cond delay="indefinite"/>
                      </p:stCondLst>
                      <p:childTnLst>
                        <p:par>
                          <p:cTn id="4322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25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6" fill="hold">
                      <p:stCondLst>
                        <p:cond delay="indefinite"/>
                      </p:stCondLst>
                      <p:childTnLst>
                        <p:par>
                          <p:cTn id="4327" fill="hold">
                            <p:stCondLst>
                              <p:cond delay="0"/>
                            </p:stCondLst>
                            <p:childTnLst>
                              <p:par>
                                <p:cTn id="4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1" fill="hold">
                      <p:stCondLst>
                        <p:cond delay="indefinite"/>
                      </p:stCondLst>
                      <p:childTnLst>
                        <p:par>
                          <p:cTn id="4332" fill="hold">
                            <p:stCondLst>
                              <p:cond delay="0"/>
                            </p:stCondLst>
                            <p:childTnLst>
                              <p:par>
                                <p:cTn id="43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5" dur="1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6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7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0" dur="10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1" dur="10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2" dur="10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5" dur="10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6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7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8" fill="hold">
                      <p:stCondLst>
                        <p:cond delay="indefinite"/>
                      </p:stCondLst>
                      <p:childTnLst>
                        <p:par>
                          <p:cTn id="4349" fill="hold">
                            <p:stCondLst>
                              <p:cond delay="0"/>
                            </p:stCondLst>
                            <p:childTnLst>
                              <p:par>
                                <p:cTn id="4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2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3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4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7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8" dur="1000" fill="hold"/>
                                        <p:tgtEl>
                                          <p:spTgt spid="1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9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2" dur="10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3" dur="10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4" dur="10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fill="hold">
                      <p:stCondLst>
                        <p:cond delay="indefinite"/>
                      </p:stCondLst>
                      <p:childTnLst>
                        <p:par>
                          <p:cTn id="4366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9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0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1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58920" y="716040"/>
            <a:ext cx="6553080" cy="31320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2746440" y="1069920"/>
            <a:ext cx="3816360" cy="77472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843280" y="968400"/>
                <a:ext cx="36003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,  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1679400" y="1922400"/>
                <a:ext cx="5904000" cy="18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Σ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Σ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Σ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…</m:t>
                              </m:r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Σ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2724120" y="3857760"/>
                <a:ext cx="5880240" cy="19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 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iΣ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Σ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9" name=""/>
          <p:cNvSpPr/>
          <p:nvPr/>
        </p:nvSpPr>
        <p:spPr>
          <a:xfrm>
            <a:off x="2124000" y="5886360"/>
            <a:ext cx="410364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рица внешней жёст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ой системы М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направления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х неизвестных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84200" y="4576680"/>
            <a:ext cx="2089080" cy="57636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611280" y="4613400"/>
                <a:ext cx="18874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2" name=""/>
          <p:cNvSpPr/>
          <p:nvPr/>
        </p:nvSpPr>
        <p:spPr>
          <a:xfrm>
            <a:off x="361800" y="42642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ричная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5796000" y="5889600"/>
            <a:ext cx="1440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кто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ных неизвестных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7093080" y="5889600"/>
            <a:ext cx="187164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ктор реакц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ведённых связей от за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здейств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2" dur="indefinite" restart="never" nodeType="tmRoot">
          <p:childTnLst>
            <p:seq>
              <p:cTn id="4373" dur="indefinite" nodeType="mainSeq">
                <p:childTnLst>
                  <p:par>
                    <p:cTn id="4374" fill="hold">
                      <p:stCondLst>
                        <p:cond delay="0"/>
                      </p:stCondLst>
                      <p:childTnLst>
                        <p:par>
                          <p:cTn id="4375" fill="hold">
                            <p:stCondLst>
                              <p:cond delay="0"/>
                            </p:stCondLst>
                            <p:childTnLst>
                              <p:par>
                                <p:cTn id="43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8" dur="10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9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0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3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4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5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6" fill="hold">
                      <p:stCondLst>
                        <p:cond delay="indefinite"/>
                      </p:stCondLst>
                      <p:childTnLst>
                        <p:par>
                          <p:cTn id="4387" fill="hold">
                            <p:stCondLst>
                              <p:cond delay="0"/>
                            </p:stCondLst>
                            <p:childTnLst>
                              <p:par>
                                <p:cTn id="43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0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1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2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3" fill="hold">
                      <p:stCondLst>
                        <p:cond delay="indefinite"/>
                      </p:stCondLst>
                      <p:childTnLst>
                        <p:par>
                          <p:cTn id="4394" fill="hold">
                            <p:stCondLst>
                              <p:cond delay="0"/>
                            </p:stCondLst>
                            <p:childTnLst>
                              <p:par>
                                <p:cTn id="4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7" dur="10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8" dur="10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9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2" dur="10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3" dur="10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4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7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8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9" dur="1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0" fill="hold">
                      <p:stCondLst>
                        <p:cond delay="indefinite"/>
                      </p:stCondLst>
                      <p:childTnLst>
                        <p:par>
                          <p:cTn id="4411" fill="hold">
                            <p:stCondLst>
                              <p:cond delay="0"/>
                            </p:stCondLst>
                            <p:childTnLst>
                              <p:par>
                                <p:cTn id="4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4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5" fill="hold">
                      <p:stCondLst>
                        <p:cond delay="indefinite"/>
                      </p:stCondLst>
                      <p:childTnLst>
                        <p:par>
                          <p:cTn id="4416" fill="hold">
                            <p:stCondLst>
                              <p:cond delay="0"/>
                            </p:stCondLst>
                            <p:childTnLst>
                              <p:par>
                                <p:cTn id="4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9" dur="80"/>
                                        <p:tgtEl>
                                          <p:spTgt spid="1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0" dur="80"/>
                                        <p:tgtEl>
                                          <p:spTgt spid="1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1" dur="80"/>
                                        <p:tgtEl>
                                          <p:spTgt spid="1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2" fill="hold">
                            <p:stCondLst>
                              <p:cond delay="960"/>
                            </p:stCondLst>
                            <p:childTnLst>
                              <p:par>
                                <p:cTn id="4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5" dur="80"/>
                                        <p:tgtEl>
                                          <p:spTgt spid="1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6" dur="80"/>
                                        <p:tgtEl>
                                          <p:spTgt spid="1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7" dur="80"/>
                                        <p:tgtEl>
                                          <p:spTgt spid="1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8" fill="hold">
                            <p:stCondLst>
                              <p:cond delay="1680"/>
                            </p:stCondLst>
                            <p:childTnLst>
                              <p:par>
                                <p:cTn id="4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1" dur="80"/>
                                        <p:tgtEl>
                                          <p:spTgt spid="1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2" dur="80"/>
                                        <p:tgtEl>
                                          <p:spTgt spid="1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3" dur="80"/>
                                        <p:tgtEl>
                                          <p:spTgt spid="1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4" fill="hold">
                            <p:stCondLst>
                              <p:cond delay="2480"/>
                            </p:stCondLst>
                            <p:childTnLst>
                              <p:par>
                                <p:cTn id="4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7" dur="80"/>
                                        <p:tgtEl>
                                          <p:spTgt spid="1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8" dur="80"/>
                                        <p:tgtEl>
                                          <p:spTgt spid="1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9" dur="80"/>
                                        <p:tgtEl>
                                          <p:spTgt spid="1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0" fill="hold">
                      <p:stCondLst>
                        <p:cond delay="indefinite"/>
                      </p:stCondLst>
                      <p:childTnLst>
                        <p:par>
                          <p:cTn id="4441" fill="hold">
                            <p:stCondLst>
                              <p:cond delay="0"/>
                            </p:stCondLst>
                            <p:childTnLst>
                              <p:par>
                                <p:cTn id="4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4" dur="80"/>
                                        <p:tgtEl>
                                          <p:spTgt spid="1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5" dur="80"/>
                                        <p:tgtEl>
                                          <p:spTgt spid="1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6" dur="80"/>
                                        <p:tgtEl>
                                          <p:spTgt spid="1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9" dur="80"/>
                                        <p:tgtEl>
                                          <p:spTgt spid="1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0" dur="80"/>
                                        <p:tgtEl>
                                          <p:spTgt spid="1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1" dur="80"/>
                                        <p:tgtEl>
                                          <p:spTgt spid="1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2" fill="hold">
                      <p:stCondLst>
                        <p:cond delay="indefinite"/>
                      </p:stCondLst>
                      <p:childTnLst>
                        <p:par>
                          <p:cTn id="4453" fill="hold">
                            <p:stCondLst>
                              <p:cond delay="0"/>
                            </p:stCondLst>
                            <p:childTnLst>
                              <p:par>
                                <p:cTn id="4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6" dur="80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7" dur="80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8" dur="80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9" fill="hold">
                            <p:stCondLst>
                              <p:cond delay="560"/>
                            </p:stCondLst>
                            <p:childTnLst>
                              <p:par>
                                <p:cTn id="4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2" dur="80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3" dur="80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4" dur="80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5" fill="hold">
                            <p:stCondLst>
                              <p:cond delay="1600"/>
                            </p:stCondLst>
                            <p:childTnLst>
                              <p:par>
                                <p:cTn id="4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8" dur="80"/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9" dur="80"/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0" dur="80"/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6:55:03Z</dcterms:created>
  <dc:creator>User</dc:creator>
  <dc:description/>
  <dc:language>en-US</dc:language>
  <cp:lastModifiedBy>user</cp:lastModifiedBy>
  <dcterms:modified xsi:type="dcterms:W3CDTF">2011-01-04T18:19:39Z</dcterms:modified>
  <cp:revision>324</cp:revision>
  <dc:subject/>
  <dc:title>Слайд 1</dc:title>
</cp:coreProperties>
</file>